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BE0-3345-476D-BABA-E30B2909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370-B12C-4EE3-A21E-6C1CD958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303-13D0-4078-A59B-84BF5859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966-AF9E-43C0-B2E4-32215FB1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0B1-5DBA-402E-A248-EC3EFC2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814-ECDC-451A-AF84-401DDBF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7CC-2489-4F8D-83B9-95AA1CF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250-3AB6-4DC3-9066-EA98276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F9A-CC1F-484A-973F-38BCD09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0C2-A663-4BD1-8E3E-F391127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E3E-3E14-4716-9EFA-DBCE3DA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06B-162D-422E-AB32-070B281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AA5-9401-4B2F-B261-CC95EA7B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56800" y="18900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๒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080" y="338040"/>
            <a:ext cx="9407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ระดับ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ัธยม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ศึกษา  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  <a:cs typeface="Angsana New"/>
              </a:rPr>
              <a:t>ม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๑ 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๖</a:t>
            </a:r>
            <a:r>
              <a:rPr b="1" lang="th-TH" sz="4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3080" y="4008600"/>
            <a:ext cx="1820880" cy="185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71840" y="19432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48440" y="46864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35200" y="476244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4" idx="4"/>
            <a:endCxn id="43" idx="0"/>
          </p:cNvCxnSpPr>
          <p:nvPr/>
        </p:nvCxnSpPr>
        <p:spPr>
          <a:xfrm flipH="1">
            <a:off x="5123520" y="3454560"/>
            <a:ext cx="4320" cy="55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6" idx="6"/>
            <a:endCxn id="43" idx="2"/>
          </p:cNvCxnSpPr>
          <p:nvPr/>
        </p:nvCxnSpPr>
        <p:spPr>
          <a:xfrm flipV="1">
            <a:off x="3246480" y="4934160"/>
            <a:ext cx="966960" cy="584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5" idx="2"/>
            <a:endCxn id="43" idx="6"/>
          </p:cNvCxnSpPr>
          <p:nvPr/>
        </p:nvCxnSpPr>
        <p:spPr>
          <a:xfrm flipH="1" flipV="1">
            <a:off x="6033960" y="4934160"/>
            <a:ext cx="1014840" cy="508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962920" y="18900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0" y="55080"/>
            <a:ext cx="10311120" cy="6469560"/>
            <a:chOff x="0" y="55080"/>
            <a:chExt cx="10311120" cy="6469560"/>
          </a:xfrm>
        </p:grpSpPr>
        <p:sp>
          <p:nvSpPr>
            <p:cNvPr id="854" name=""/>
            <p:cNvSpPr/>
            <p:nvPr/>
          </p:nvSpPr>
          <p:spPr>
            <a:xfrm>
              <a:off x="0" y="55080"/>
              <a:ext cx="9906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สงฆ์   ชั้นมัธยมศึกษาปีที่ 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72040" y="19162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สงฆ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21160" y="62064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น้าที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22880" y="1844640"/>
              <a:ext cx="93528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ัวอย่า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66760" y="1628640"/>
              <a:ext cx="9352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ยา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05600" y="3500280"/>
              <a:ext cx="1152360" cy="106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มม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ศาส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ับการพัฒนาต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ครอบครั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25720" y="328464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ิก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40240" y="425916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พิธ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02960" y="704160"/>
              <a:ext cx="257256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ียนรู้วิถีชีวิตของพระภิกษุที่ต้อง</a:t>
              </a:r>
              <a:br>
                <a:rPr sz="1600"/>
              </a:b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ึกษาคันถธุระและวิปัสสนาธุร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08080" y="1239480"/>
              <a:ext cx="21639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ปฏิบัติตัวอย่างเหมาะส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ด้านกาย วาจา ใ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32920" y="1687320"/>
              <a:ext cx="193680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ป็นเพื่อนที่ดีตา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ทิศเบื้องซ้ายในทิศ 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57400" y="2133720"/>
              <a:ext cx="1562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ิตรแท้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ิตรเทีย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60640" y="2459160"/>
              <a:ext cx="1641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ข้าค่ายคุณธรร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93160" y="2711520"/>
              <a:ext cx="3117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ข้าร่วมพิธีกรรมทางพระพุทธศาส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79640" y="2963880"/>
              <a:ext cx="2240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สดงตนเป็นพุทธมามก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55440" y="3624120"/>
              <a:ext cx="1620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เจ้าอโศกมหารา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9720" y="3337200"/>
              <a:ext cx="201168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โสณะ  และพระอุตตร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30520" y="2759040"/>
              <a:ext cx="725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ไปวั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3720" y="2989440"/>
              <a:ext cx="2273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ต่งกาย การนำเด็กไปวั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ปฏิบัติตนในเขตวั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96400" y="3693960"/>
              <a:ext cx="17204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สดงความเคาร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95200" y="3950280"/>
              <a:ext cx="96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ประนมมื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42480" y="4126680"/>
              <a:ext cx="1263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ไหว้  การกรา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280" y="4304520"/>
              <a:ext cx="1613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คารพพระรัตนตรั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4400" y="4482000"/>
              <a:ext cx="1828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ฟังเจริญพระพุทธมนต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8760" y="4659840"/>
              <a:ext cx="166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ฟังสวดพระอภิ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1960" y="4837680"/>
              <a:ext cx="1607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ฟังพระธรรมเทศ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03280" y="4390920"/>
              <a:ext cx="1193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มหากัสสป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66160" y="4681440"/>
              <a:ext cx="7588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อุบาล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99040" y="4973760"/>
              <a:ext cx="10836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นาถบิณฑิก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617560" y="5265720"/>
              <a:ext cx="821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างวิสาข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38600" y="5679720"/>
              <a:ext cx="2591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จัดโต๊ะหมู่บูชาแบบหมู่ ๔ หมู่ 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มู่ ๗  และ หมู่ 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22960" y="6084720"/>
              <a:ext cx="38239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จุดธูปเทียน  การจัดเครื่องประกอบโต๊ะหมู่บูช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76480" y="6273720"/>
              <a:ext cx="1405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ำอาราธนาต่าง 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7" name=""/>
            <p:cNvCxnSpPr>
              <a:stCxn id="888" idx="0"/>
              <a:endCxn id="862" idx="1"/>
            </p:cNvCxnSpPr>
            <p:nvPr/>
          </p:nvCxnSpPr>
          <p:spPr>
            <a:xfrm flipH="1" flipV="1" rot="5400000">
              <a:off x="7592040" y="903240"/>
              <a:ext cx="130680" cy="10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65" idx="1"/>
              <a:endCxn id="888" idx="1"/>
            </p:cNvCxnSpPr>
            <p:nvPr/>
          </p:nvCxnSpPr>
          <p:spPr>
            <a:xfrm rot="10800000">
              <a:off x="7605000" y="1164600"/>
              <a:ext cx="104040" cy="1094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58" idx="4"/>
              <a:endCxn id="872" idx="3"/>
            </p:cNvCxnSpPr>
            <p:nvPr/>
          </p:nvCxnSpPr>
          <p:spPr>
            <a:xfrm rot="5400000">
              <a:off x="2133000" y="2786040"/>
              <a:ext cx="624600" cy="18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71" idx="3"/>
              <a:endCxn id="858" idx="4"/>
            </p:cNvCxnSpPr>
            <p:nvPr/>
          </p:nvCxnSpPr>
          <p:spPr>
            <a:xfrm flipV="1">
              <a:off x="2355840" y="2563560"/>
              <a:ext cx="180000" cy="284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2" name=""/>
            <p:cNvCxnSpPr>
              <a:stCxn id="873" idx="3"/>
              <a:endCxn id="858" idx="4"/>
            </p:cNvCxnSpPr>
            <p:nvPr/>
          </p:nvCxnSpPr>
          <p:spPr>
            <a:xfrm flipV="1">
              <a:off x="2355840" y="2563560"/>
              <a:ext cx="180000" cy="12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3" name=""/>
            <p:cNvCxnSpPr>
              <a:stCxn id="874" idx="3"/>
              <a:endCxn id="894" idx="0"/>
            </p:cNvCxnSpPr>
            <p:nvPr/>
          </p:nvCxnSpPr>
          <p:spPr>
            <a:xfrm flipV="1">
              <a:off x="2030400" y="3933360"/>
              <a:ext cx="192960" cy="84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5" name=""/>
            <p:cNvCxnSpPr>
              <a:stCxn id="875" idx="3"/>
              <a:endCxn id="894" idx="1"/>
            </p:cNvCxnSpPr>
            <p:nvPr/>
          </p:nvCxnSpPr>
          <p:spPr>
            <a:xfrm flipV="1">
              <a:off x="2022480" y="3933000"/>
              <a:ext cx="200880" cy="261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6" name=""/>
            <p:cNvCxnSpPr>
              <a:stCxn id="876" idx="3"/>
              <a:endCxn id="894" idx="1"/>
            </p:cNvCxnSpPr>
            <p:nvPr/>
          </p:nvCxnSpPr>
          <p:spPr>
            <a:xfrm flipV="1">
              <a:off x="2013120" y="3933000"/>
              <a:ext cx="210240" cy="438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77" idx="3"/>
              <a:endCxn id="894" idx="1"/>
            </p:cNvCxnSpPr>
            <p:nvPr/>
          </p:nvCxnSpPr>
          <p:spPr>
            <a:xfrm flipV="1">
              <a:off x="2008080" y="3933000"/>
              <a:ext cx="215280" cy="61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78" idx="3"/>
              <a:endCxn id="894" idx="1"/>
            </p:cNvCxnSpPr>
            <p:nvPr/>
          </p:nvCxnSpPr>
          <p:spPr>
            <a:xfrm flipV="1">
              <a:off x="2013120" y="3933000"/>
              <a:ext cx="210240" cy="79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80" idx="3"/>
              <a:endCxn id="860" idx="4"/>
            </p:cNvCxnSpPr>
            <p:nvPr/>
          </p:nvCxnSpPr>
          <p:spPr>
            <a:xfrm flipV="1">
              <a:off x="3349440" y="4218840"/>
              <a:ext cx="45000" cy="297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82" idx="3"/>
              <a:endCxn id="860" idx="4"/>
            </p:cNvCxnSpPr>
            <p:nvPr/>
          </p:nvCxnSpPr>
          <p:spPr>
            <a:xfrm flipV="1">
              <a:off x="3342960" y="4218840"/>
              <a:ext cx="51480" cy="88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83" idx="3"/>
              <a:endCxn id="860" idx="4"/>
            </p:cNvCxnSpPr>
            <p:nvPr/>
          </p:nvCxnSpPr>
          <p:spPr>
            <a:xfrm flipV="1">
              <a:off x="3330720" y="4219200"/>
              <a:ext cx="64080" cy="1172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81" idx="3"/>
              <a:endCxn id="860" idx="4"/>
            </p:cNvCxnSpPr>
            <p:nvPr/>
          </p:nvCxnSpPr>
          <p:spPr>
            <a:xfrm flipV="1">
              <a:off x="3328560" y="4219200"/>
              <a:ext cx="65520" cy="588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86" idx="1"/>
              <a:endCxn id="861" idx="4"/>
            </p:cNvCxnSpPr>
            <p:nvPr/>
          </p:nvCxnSpPr>
          <p:spPr>
            <a:xfrm rot="10800000">
              <a:off x="4907880" y="5193720"/>
              <a:ext cx="72000" cy="120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4" name=""/>
            <p:cNvCxnSpPr>
              <a:stCxn id="885" idx="1"/>
              <a:endCxn id="861" idx="4"/>
            </p:cNvCxnSpPr>
            <p:nvPr/>
          </p:nvCxnSpPr>
          <p:spPr>
            <a:xfrm rot="10800000">
              <a:off x="4907880" y="5193720"/>
              <a:ext cx="72000" cy="97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5" name=""/>
            <p:cNvSpPr/>
            <p:nvPr/>
          </p:nvSpPr>
          <p:spPr>
            <a:xfrm>
              <a:off x="2222640" y="386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"/>
            <p:cNvCxnSpPr>
              <a:stCxn id="879" idx="3"/>
              <a:endCxn id="905" idx="1"/>
            </p:cNvCxnSpPr>
            <p:nvPr/>
          </p:nvCxnSpPr>
          <p:spPr>
            <a:xfrm flipV="1">
              <a:off x="2013120" y="3933000"/>
              <a:ext cx="210240" cy="972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7" name=""/>
            <p:cNvSpPr/>
            <p:nvPr/>
          </p:nvSpPr>
          <p:spPr>
            <a:xfrm>
              <a:off x="7605720" y="10206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866" idx="1"/>
              <a:endCxn id="907" idx="1"/>
            </p:cNvCxnSpPr>
            <p:nvPr/>
          </p:nvCxnSpPr>
          <p:spPr>
            <a:xfrm rot="10800000">
              <a:off x="7605000" y="1164600"/>
              <a:ext cx="104040" cy="138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867" idx="1"/>
              <a:endCxn id="907" idx="1"/>
            </p:cNvCxnSpPr>
            <p:nvPr/>
          </p:nvCxnSpPr>
          <p:spPr>
            <a:xfrm rot="10800000">
              <a:off x="7605000" y="1164600"/>
              <a:ext cx="50040" cy="1635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868" idx="1"/>
              <a:endCxn id="907" idx="1"/>
            </p:cNvCxnSpPr>
            <p:nvPr/>
          </p:nvCxnSpPr>
          <p:spPr>
            <a:xfrm rot="10800000">
              <a:off x="7605000" y="1164600"/>
              <a:ext cx="104040" cy="1888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856" idx="6"/>
              <a:endCxn id="907" idx="1"/>
            </p:cNvCxnSpPr>
            <p:nvPr/>
          </p:nvCxnSpPr>
          <p:spPr>
            <a:xfrm>
              <a:off x="5355720" y="1089000"/>
              <a:ext cx="2250360" cy="76680"/>
            </a:xfrm>
            <a:prstGeom prst="bentConnector4">
              <a:avLst>
                <a:gd name="adj1" fmla="val 49952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70" idx="1"/>
              <a:endCxn id="857" idx="6"/>
            </p:cNvCxnSpPr>
            <p:nvPr/>
          </p:nvCxnSpPr>
          <p:spPr>
            <a:xfrm rot="10800000">
              <a:off x="7057440" y="2312280"/>
              <a:ext cx="416520" cy="1139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69" idx="1"/>
              <a:endCxn id="857" idx="6"/>
            </p:cNvCxnSpPr>
            <p:nvPr/>
          </p:nvCxnSpPr>
          <p:spPr>
            <a:xfrm rot="10800000">
              <a:off x="7057440" y="2312280"/>
              <a:ext cx="416520" cy="1437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4" name=""/>
            <p:cNvCxnSpPr>
              <a:stCxn id="856" idx="4"/>
              <a:endCxn id="855" idx="0"/>
            </p:cNvCxnSpPr>
            <p:nvPr/>
          </p:nvCxnSpPr>
          <p:spPr>
            <a:xfrm>
              <a:off x="4889160" y="1555560"/>
              <a:ext cx="3960" cy="347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5" name=""/>
            <p:cNvCxnSpPr>
              <a:stCxn id="858" idx="6"/>
              <a:endCxn id="855" idx="2"/>
            </p:cNvCxnSpPr>
            <p:nvPr/>
          </p:nvCxnSpPr>
          <p:spPr>
            <a:xfrm>
              <a:off x="3002040" y="2097000"/>
              <a:ext cx="1157400" cy="54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6" name=""/>
            <p:cNvCxnSpPr>
              <a:stCxn id="860" idx="7"/>
              <a:endCxn id="855" idx="3"/>
            </p:cNvCxnSpPr>
            <p:nvPr/>
          </p:nvCxnSpPr>
          <p:spPr>
            <a:xfrm flipV="1">
              <a:off x="3724200" y="3157200"/>
              <a:ext cx="659520" cy="26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7" name=""/>
            <p:cNvCxnSpPr>
              <a:stCxn id="861" idx="0"/>
              <a:endCxn id="855" idx="4"/>
            </p:cNvCxnSpPr>
            <p:nvPr/>
          </p:nvCxnSpPr>
          <p:spPr>
            <a:xfrm flipH="1" flipV="1">
              <a:off x="4892400" y="3368160"/>
              <a:ext cx="16560" cy="89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8" name=""/>
            <p:cNvCxnSpPr>
              <a:stCxn id="859" idx="1"/>
              <a:endCxn id="855" idx="5"/>
            </p:cNvCxnSpPr>
            <p:nvPr/>
          </p:nvCxnSpPr>
          <p:spPr>
            <a:xfrm flipH="1" flipV="1">
              <a:off x="5400000" y="3156840"/>
              <a:ext cx="873720" cy="49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9" name=""/>
            <p:cNvCxnSpPr>
              <a:stCxn id="857" idx="2"/>
              <a:endCxn id="855" idx="6"/>
            </p:cNvCxnSpPr>
            <p:nvPr/>
          </p:nvCxnSpPr>
          <p:spPr>
            <a:xfrm flipH="1">
              <a:off x="5624280" y="2313000"/>
              <a:ext cx="498960" cy="3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0" name=""/>
            <p:cNvSpPr/>
            <p:nvPr/>
          </p:nvSpPr>
          <p:spPr>
            <a:xfrm>
              <a:off x="8962920" y="189000"/>
              <a:ext cx="5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๓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50840" y="3438360"/>
              <a:ext cx="15148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ข้าพบพระภิกษ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2" name=""/>
            <p:cNvCxnSpPr>
              <a:stCxn id="858" idx="4"/>
              <a:endCxn id="921" idx="3"/>
            </p:cNvCxnSpPr>
            <p:nvPr/>
          </p:nvCxnSpPr>
          <p:spPr>
            <a:xfrm rot="5400000">
              <a:off x="1956600" y="2962440"/>
              <a:ext cx="977040" cy="18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3" name=""/>
            <p:cNvSpPr/>
            <p:nvPr/>
          </p:nvSpPr>
          <p:spPr>
            <a:xfrm flipH="1">
              <a:off x="7610040" y="13064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610040" y="1773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08600" y="57117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962920" y="18900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0" y="45360"/>
            <a:ext cx="9906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 เรื่องพระรัตนตรัย  ชั้นมัธยมศึกษาปีที่ 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397320" y="1878120"/>
            <a:ext cx="123984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2040" y="1589040"/>
            <a:ext cx="781200" cy="32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816520" y="2349360"/>
            <a:ext cx="66060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705200" y="214956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361040" y="3076560"/>
            <a:ext cx="1403280" cy="533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816560" y="1124280"/>
            <a:ext cx="33159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ของพระพุทธศาสนาต่อสังคมไทยในฐานะเป็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894280" y="1805040"/>
            <a:ext cx="54468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343480" y="719280"/>
            <a:ext cx="1225440" cy="37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เคราะห์พุทธประว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473960" y="1429200"/>
            <a:ext cx="14857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01920" y="2975040"/>
            <a:ext cx="811440" cy="74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070000" y="2886120"/>
            <a:ext cx="858960" cy="43164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ธรรมคุณ 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305080" y="2525760"/>
            <a:ext cx="7812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อริยสัจ 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8280" y="429480"/>
            <a:ext cx="16016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กข์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รู้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51200" y="1077120"/>
            <a:ext cx="161388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ุทัย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ละ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9440" y="2137680"/>
            <a:ext cx="17708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โรธ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บรรลุ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880" y="2874240"/>
            <a:ext cx="178740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เจริญ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6640" y="710640"/>
            <a:ext cx="396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ันธ์ 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77960" y="869760"/>
            <a:ext cx="4158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ายตน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4840" y="2496960"/>
            <a:ext cx="1242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ข ๒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ามิส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รามิ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1480" y="3851280"/>
            <a:ext cx="53496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มงคล ๓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3320" y="1374840"/>
            <a:ext cx="61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335320" y="3908520"/>
            <a:ext cx="990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916280" y="3533760"/>
            <a:ext cx="1137960" cy="36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ศาสนสุภาษ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710160" y="3749760"/>
            <a:ext cx="1238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บริหารจ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จริญปัญญ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36880" y="4221000"/>
            <a:ext cx="10922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ัพท์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41680" y="4943520"/>
            <a:ext cx="84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โครงสร้าง ชื่อคัมภีร์และสาระสังเขปของ พระสุตตันตปิฎ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558880" y="5646600"/>
            <a:ext cx="11289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ื่องน่ารู้จากพระไตรปิฎ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668040" y="5640120"/>
            <a:ext cx="19400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การบริหารจิตและเจริญปัญญ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ตามหลักสติปัฏฐานเน้นอานาปานสต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655440" y="5259240"/>
            <a:ext cx="18986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รู้และเข้าใจวิธีปฏิบัติและประโยชน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การบริหารจิตและเจริญปัญญ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15200" y="5028840"/>
            <a:ext cx="149796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สวดมนต์แปลและแผ่เมตต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655440" y="6021360"/>
            <a:ext cx="19537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นำวิธีการบริหารจิตและเจริญปัญญ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ไปใช้ในชีวิตประจำวั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26040" y="320832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08680" y="2781360"/>
            <a:ext cx="990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หน้าที่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297560" y="3678120"/>
            <a:ext cx="10922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วพุทธตัวอย่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062840" y="4110120"/>
            <a:ext cx="11304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51800" y="4694400"/>
            <a:ext cx="10141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มม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952880" y="4005360"/>
            <a:ext cx="99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ิก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032520" y="4508640"/>
            <a:ext cx="7779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พิธ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"/>
          <p:cNvCxnSpPr>
            <a:stCxn id="932" idx="4"/>
            <a:endCxn id="933" idx="0"/>
          </p:cNvCxnSpPr>
          <p:nvPr/>
        </p:nvCxnSpPr>
        <p:spPr>
          <a:xfrm flipH="1">
            <a:off x="5061960" y="2847960"/>
            <a:ext cx="14760" cy="2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38" idx="6"/>
            <a:endCxn id="933" idx="1"/>
          </p:cNvCxnSpPr>
          <p:nvPr/>
        </p:nvCxnSpPr>
        <p:spPr>
          <a:xfrm flipV="1">
            <a:off x="4127040" y="3342960"/>
            <a:ext cx="2041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0" idx="2"/>
            <a:endCxn id="933" idx="3"/>
          </p:cNvCxnSpPr>
          <p:nvPr/>
        </p:nvCxnSpPr>
        <p:spPr>
          <a:xfrm flipH="1" flipV="1">
            <a:off x="5795640" y="3342960"/>
            <a:ext cx="21672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0" name=""/>
          <p:cNvCxnSpPr>
            <a:stCxn id="932" idx="2"/>
            <a:endCxn id="929" idx="5"/>
          </p:cNvCxnSpPr>
          <p:nvPr/>
        </p:nvCxnSpPr>
        <p:spPr>
          <a:xfrm flipH="1" flipV="1">
            <a:off x="4453920" y="2430000"/>
            <a:ext cx="2372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1" name=""/>
          <p:cNvCxnSpPr>
            <a:stCxn id="932" idx="7"/>
            <a:endCxn id="935" idx="3"/>
          </p:cNvCxnSpPr>
          <p:nvPr/>
        </p:nvCxnSpPr>
        <p:spPr>
          <a:xfrm flipV="1">
            <a:off x="5339880" y="2020320"/>
            <a:ext cx="63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2" name=""/>
          <p:cNvCxnSpPr>
            <a:stCxn id="932" idx="6"/>
            <a:endCxn id="931" idx="2"/>
          </p:cNvCxnSpPr>
          <p:nvPr/>
        </p:nvCxnSpPr>
        <p:spPr>
          <a:xfrm>
            <a:off x="5462280" y="2491920"/>
            <a:ext cx="35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32" idx="0"/>
            <a:endCxn id="930" idx="4"/>
          </p:cNvCxnSpPr>
          <p:nvPr/>
        </p:nvCxnSpPr>
        <p:spPr>
          <a:xfrm flipV="1">
            <a:off x="5076720" y="1915920"/>
            <a:ext cx="11664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468360" y="1871280"/>
            <a:ext cx="6415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บายมุข 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0440" y="236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6" name=""/>
          <p:cNvCxnSpPr>
            <a:stCxn id="939" idx="5"/>
            <a:endCxn id="938" idx="2"/>
          </p:cNvCxnSpPr>
          <p:nvPr/>
        </p:nvCxnSpPr>
        <p:spPr>
          <a:xfrm>
            <a:off x="2803320" y="3254040"/>
            <a:ext cx="48492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50" idx="7"/>
            <a:endCxn id="938" idx="3"/>
          </p:cNvCxnSpPr>
          <p:nvPr/>
        </p:nvCxnSpPr>
        <p:spPr>
          <a:xfrm flipV="1">
            <a:off x="3181320" y="3627000"/>
            <a:ext cx="2404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51" idx="6"/>
            <a:endCxn id="938" idx="3"/>
          </p:cNvCxnSpPr>
          <p:nvPr/>
        </p:nvCxnSpPr>
        <p:spPr>
          <a:xfrm flipV="1">
            <a:off x="3053880" y="3627000"/>
            <a:ext cx="36756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53" idx="0"/>
            <a:endCxn id="938" idx="4"/>
          </p:cNvCxnSpPr>
          <p:nvPr/>
        </p:nvCxnSpPr>
        <p:spPr>
          <a:xfrm flipV="1">
            <a:off x="3483000" y="3736080"/>
            <a:ext cx="226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52" idx="0"/>
            <a:endCxn id="938" idx="5"/>
          </p:cNvCxnSpPr>
          <p:nvPr/>
        </p:nvCxnSpPr>
        <p:spPr>
          <a:xfrm flipH="1" flipV="1">
            <a:off x="3995280" y="362700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1" name=""/>
          <p:cNvCxnSpPr>
            <a:stCxn id="965" idx="7"/>
            <a:endCxn id="960" idx="3"/>
          </p:cNvCxnSpPr>
          <p:nvPr/>
        </p:nvCxnSpPr>
        <p:spPr>
          <a:xfrm flipV="1">
            <a:off x="5798880" y="3807000"/>
            <a:ext cx="3373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82" name=""/>
          <p:cNvCxnSpPr>
            <a:stCxn id="966" idx="0"/>
            <a:endCxn id="960" idx="4"/>
          </p:cNvCxnSpPr>
          <p:nvPr/>
        </p:nvCxnSpPr>
        <p:spPr>
          <a:xfrm flipH="1" flipV="1">
            <a:off x="6397200" y="3906360"/>
            <a:ext cx="24480" cy="60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63" idx="1"/>
            <a:endCxn id="960" idx="5"/>
          </p:cNvCxnSpPr>
          <p:nvPr/>
        </p:nvCxnSpPr>
        <p:spPr>
          <a:xfrm flipH="1" flipV="1">
            <a:off x="6660720" y="3806280"/>
            <a:ext cx="567360" cy="35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62" idx="1"/>
            <a:endCxn id="960" idx="6"/>
          </p:cNvCxnSpPr>
          <p:nvPr/>
        </p:nvCxnSpPr>
        <p:spPr>
          <a:xfrm flipH="1" flipV="1">
            <a:off x="6783120" y="3551040"/>
            <a:ext cx="67320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64" idx="0"/>
            <a:endCxn id="960" idx="5"/>
          </p:cNvCxnSpPr>
          <p:nvPr/>
        </p:nvCxnSpPr>
        <p:spPr>
          <a:xfrm flipH="1" flipV="1">
            <a:off x="6660360" y="3806280"/>
            <a:ext cx="59940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6" name=""/>
          <p:cNvSpPr/>
          <p:nvPr/>
        </p:nvSpPr>
        <p:spPr>
          <a:xfrm>
            <a:off x="1561320" y="475920"/>
            <a:ext cx="36100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เข้าสู่ประเทศเพื่อนบ้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การนับถือพระพุทธศาสนาของประเทศเพื่อนบ้านในปัจจุบั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2261880" y="1382760"/>
            <a:ext cx="136548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กฐานของวัฒน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1952280" y="1565280"/>
            <a:ext cx="1729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อกลักษณ์และมรดกของชา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93040" y="868320"/>
            <a:ext cx="30006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ช่วยเสริมสร้างความเข้าใจอันดีกับประเทศเพื่อนบ้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448240" y="1234440"/>
            <a:ext cx="623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มิตตวินทุก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448240" y="1418400"/>
            <a:ext cx="623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โชวาท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845400" y="417600"/>
            <a:ext cx="6048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ผจญมา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45400" y="668160"/>
            <a:ext cx="5572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rial"/>
                <a:cs typeface="CordiaUPC"/>
              </a:rPr>
              <a:t>การตรัสรู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50360" y="911160"/>
            <a:ext cx="62640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rial"/>
                <a:cs typeface="CordiaUPC"/>
              </a:rPr>
              <a:t>การสั่งสอ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73960" y="888840"/>
            <a:ext cx="1981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ธรรมเบื้องต้นที่เกี่ยวเนื่องในวันม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าฆ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วันวิสาขบูชา วันอัฏฐมีบูชา วันอาสาฬห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924680" y="1686600"/>
            <a:ext cx="1898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และการปฏิบัติตนในวันธรรมสวน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เข้าพรรษา วันออกพรรษา วันเทโวโรหณ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372440" y="2449440"/>
            <a:ext cx="247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เข้าใจบทบาทของพระภิกษุในการเผยแผ่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372440" y="2673360"/>
            <a:ext cx="2476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การฝึกฝนบทบาทตนเองในการช่วยเผยแผ่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338320" y="4437000"/>
            <a:ext cx="15512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พระมหาธรรมราชาลิไ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274960" y="4005360"/>
            <a:ext cx="1856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สมเด็จพระมหาสมณเจ้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กรมพระยาวชิรญาณวโรร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070840" y="4954320"/>
            <a:ext cx="9907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ของผู้เป็นแข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070840" y="5506560"/>
            <a:ext cx="82548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ไปวั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ไ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มงค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อวมงค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14360" y="6351480"/>
            <a:ext cx="1682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กับการพัฒนาชุม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การจัดระเบียบสังค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368680" y="5182920"/>
            <a:ext cx="1137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ทำบุญตักบาต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257880" y="5715360"/>
            <a:ext cx="15930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ภัตตาหาร สิ่งข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ี่ควรถวาย และสิ่งข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ต้องห้ามสำหรับพระภิกษ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07400" y="5792760"/>
            <a:ext cx="1347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เครื่องไท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ครื่องไท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21440" y="5483160"/>
            <a:ext cx="130500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ผ้าอาบน้ำฝ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405480" y="5197320"/>
            <a:ext cx="72720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กรวดน้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305400" y="5483160"/>
            <a:ext cx="141012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ทอดกฐิน ทอดผ้าป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528080" y="4460400"/>
            <a:ext cx="7358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ารีบุต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35840" y="4687560"/>
            <a:ext cx="9554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โมคคัลลาน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185440" y="4687560"/>
            <a:ext cx="8366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นางขุชชุตตร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184360" y="4460400"/>
            <a:ext cx="96768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พิมพิส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724120" y="4688280"/>
            <a:ext cx="5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ฌาน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ญา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384720" y="4624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6" name=""/>
          <p:cNvCxnSpPr>
            <a:stCxn id="1014" idx="3"/>
            <a:endCxn id="1015" idx="0"/>
          </p:cNvCxnSpPr>
          <p:nvPr/>
        </p:nvCxnSpPr>
        <p:spPr>
          <a:xfrm flipV="1">
            <a:off x="3281040" y="4768560"/>
            <a:ext cx="104040" cy="8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7" name=""/>
          <p:cNvSpPr/>
          <p:nvPr/>
        </p:nvSpPr>
        <p:spPr>
          <a:xfrm>
            <a:off x="2676600" y="5950080"/>
            <a:ext cx="98892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จูฬกัมมวิภังคสูต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476440" y="418140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67920" y="4941720"/>
            <a:ext cx="1766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มฺมุนา  วตฺตตี  โลโ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ตว์โลกย่อมเป็นไปตาม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360" y="5765760"/>
            <a:ext cx="14385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โข  ปุญฺสฺส   อุจฺจโ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ั่งสมบุญนำสุขมาให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-74880" y="5373720"/>
            <a:ext cx="23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ลฺยาณการี  กลฺยาณํ  ปาปการี  จ ปาปก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ำดีได้ดี   ทำชั่วได้ชั่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94080" y="1541160"/>
            <a:ext cx="8866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บัติ ๔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บัติ 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90080" y="3267000"/>
            <a:ext cx="7070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ดรุณธรรม 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88120" y="3576960"/>
            <a:ext cx="8564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บุพพนิมิตรขอ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มัชฌิมาปฏิปท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4800" y="3477960"/>
            <a:ext cx="8470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ุศลกรรมบถ ๑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44560" y="3260880"/>
            <a:ext cx="9842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กุลจิรัฎฐิติธรรม 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46240" y="3674520"/>
            <a:ext cx="6202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ติปัฏฐาน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36400" y="4134240"/>
            <a:ext cx="6685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พฤติ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0440" y="6541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08120" y="838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1" name=""/>
          <p:cNvCxnSpPr>
            <a:stCxn id="945" idx="1"/>
            <a:endCxn id="1029" idx="0"/>
          </p:cNvCxnSpPr>
          <p:nvPr/>
        </p:nvCxnSpPr>
        <p:spPr>
          <a:xfrm rot="10800000">
            <a:off x="459720" y="724680"/>
            <a:ext cx="68760" cy="8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2" name=""/>
          <p:cNvCxnSpPr>
            <a:stCxn id="946" idx="1"/>
            <a:endCxn id="1030" idx="0"/>
          </p:cNvCxnSpPr>
          <p:nvPr/>
        </p:nvCxnSpPr>
        <p:spPr>
          <a:xfrm rot="10800000">
            <a:off x="707400" y="909000"/>
            <a:ext cx="108720" cy="40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1836720" y="6541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4" name=""/>
          <p:cNvCxnSpPr>
            <a:endCxn id="1033" idx="0"/>
          </p:cNvCxnSpPr>
          <p:nvPr/>
        </p:nvCxnSpPr>
        <p:spPr>
          <a:xfrm flipV="1" rot="16200000">
            <a:off x="1170360" y="1535400"/>
            <a:ext cx="1800720" cy="469080"/>
          </a:xfrm>
          <a:prstGeom prst="bentConnector3">
            <a:avLst>
              <a:gd name="adj1" fmla="val 2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5" name=""/>
          <p:cNvCxnSpPr>
            <a:stCxn id="944" idx="3"/>
            <a:endCxn id="1033" idx="1"/>
          </p:cNvCxnSpPr>
          <p:nvPr/>
        </p:nvCxnSpPr>
        <p:spPr>
          <a:xfrm flipV="1">
            <a:off x="1553760" y="869400"/>
            <a:ext cx="283320" cy="211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943" idx="3"/>
            <a:endCxn id="1033" idx="1"/>
          </p:cNvCxnSpPr>
          <p:nvPr/>
        </p:nvCxnSpPr>
        <p:spPr>
          <a:xfrm flipV="1">
            <a:off x="1549440" y="869400"/>
            <a:ext cx="288000" cy="137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942" idx="3"/>
            <a:endCxn id="1033" idx="1"/>
          </p:cNvCxnSpPr>
          <p:nvPr/>
        </p:nvCxnSpPr>
        <p:spPr>
          <a:xfrm flipV="1">
            <a:off x="1604880" y="869400"/>
            <a:ext cx="232560" cy="317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941" idx="3"/>
            <a:endCxn id="1033" idx="0"/>
          </p:cNvCxnSpPr>
          <p:nvPr/>
        </p:nvCxnSpPr>
        <p:spPr>
          <a:xfrm>
            <a:off x="1606320" y="539640"/>
            <a:ext cx="2307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901800" y="3098880"/>
            <a:ext cx="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74040" y="1690200"/>
            <a:ext cx="11034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กุศลกรรมบถ ๑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8640" y="6165720"/>
            <a:ext cx="20041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ูชโก  ลภเต ปูชํ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นฺทโก ปฏิวนฺทน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ผู้บูชาเขาย่อมได้รับการบูชาต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ผู้ไหว้เขาย่อมได้รับการไหว้ต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04640" y="4453920"/>
            <a:ext cx="9446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ว้นจากความชั่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63960" y="4682520"/>
            <a:ext cx="123588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ว้นจากการดื่มน้ำเม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12920" y="4003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28760" y="3902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"/>
          <p:cNvCxnSpPr>
            <a:stCxn id="1041" idx="3"/>
            <a:endCxn id="1045" idx="0"/>
          </p:cNvCxnSpPr>
          <p:nvPr/>
        </p:nvCxnSpPr>
        <p:spPr>
          <a:xfrm flipV="1">
            <a:off x="1891800" y="4053960"/>
            <a:ext cx="337320" cy="2377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20" idx="3"/>
            <a:endCxn id="1045" idx="1"/>
          </p:cNvCxnSpPr>
          <p:nvPr/>
        </p:nvCxnSpPr>
        <p:spPr>
          <a:xfrm flipV="1">
            <a:off x="1886040" y="4053960"/>
            <a:ext cx="343440" cy="1890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21" idx="3"/>
            <a:endCxn id="1045" idx="1"/>
          </p:cNvCxnSpPr>
          <p:nvPr/>
        </p:nvCxnSpPr>
        <p:spPr>
          <a:xfrm flipV="1">
            <a:off x="1935000" y="4053600"/>
            <a:ext cx="294480" cy="149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19" idx="3"/>
            <a:endCxn id="1045" idx="1"/>
          </p:cNvCxnSpPr>
          <p:nvPr/>
        </p:nvCxnSpPr>
        <p:spPr>
          <a:xfrm flipV="1">
            <a:off x="1870200" y="4053600"/>
            <a:ext cx="358920" cy="106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6149880" y="166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183080" y="2892600"/>
            <a:ext cx="12373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ข้าค่ายคุณ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365960" y="3122640"/>
            <a:ext cx="1657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ข้าร่วมพิธีกรรมทาง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014600" y="3355920"/>
            <a:ext cx="2627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ป็นลูกที่ดี ตามหลักทิศเบื้องหน้า ในทิศ 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770960" y="4792680"/>
            <a:ext cx="19782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การต้อนรับ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สันถาร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8070840" y="5028120"/>
            <a:ext cx="1635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ปฏิบัติระเบียบพิธีปฏิบัติต่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ภิกษุ การยืน การให้ที่นั่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ดินสวน การสนทนา การรับสิ่งข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796920" y="170028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"/>
          <p:cNvCxnSpPr>
            <a:stCxn id="986" idx="3"/>
            <a:endCxn id="1058" idx="0"/>
          </p:cNvCxnSpPr>
          <p:nvPr/>
        </p:nvCxnSpPr>
        <p:spPr>
          <a:xfrm>
            <a:off x="4659480" y="630360"/>
            <a:ext cx="78480" cy="699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9" name=""/>
          <p:cNvCxnSpPr>
            <a:stCxn id="989" idx="3"/>
            <a:endCxn id="1058" idx="1"/>
          </p:cNvCxnSpPr>
          <p:nvPr/>
        </p:nvCxnSpPr>
        <p:spPr>
          <a:xfrm>
            <a:off x="4659480" y="953640"/>
            <a:ext cx="78480" cy="37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0" name=""/>
          <p:cNvCxnSpPr>
            <a:stCxn id="988" idx="3"/>
            <a:endCxn id="934" idx="2"/>
          </p:cNvCxnSpPr>
          <p:nvPr/>
        </p:nvCxnSpPr>
        <p:spPr>
          <a:xfrm flipV="1">
            <a:off x="3419640" y="1312560"/>
            <a:ext cx="56160" cy="3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1" name=""/>
          <p:cNvCxnSpPr>
            <a:stCxn id="987" idx="3"/>
            <a:endCxn id="934" idx="2"/>
          </p:cNvCxnSpPr>
          <p:nvPr/>
        </p:nvCxnSpPr>
        <p:spPr>
          <a:xfrm flipV="1">
            <a:off x="3414600" y="1312200"/>
            <a:ext cx="6120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2" name=""/>
          <p:cNvSpPr/>
          <p:nvPr/>
        </p:nvSpPr>
        <p:spPr>
          <a:xfrm>
            <a:off x="5246640" y="907920"/>
            <a:ext cx="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"/>
          <p:cNvCxnSpPr>
            <a:stCxn id="992" idx="1"/>
            <a:endCxn id="936" idx="3"/>
          </p:cNvCxnSpPr>
          <p:nvPr/>
        </p:nvCxnSpPr>
        <p:spPr>
          <a:xfrm flipV="1" rot="10800000">
            <a:off x="6568200" y="537120"/>
            <a:ext cx="277200" cy="3690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4" name=""/>
          <p:cNvCxnSpPr>
            <a:stCxn id="994" idx="1"/>
            <a:endCxn id="936" idx="3"/>
          </p:cNvCxnSpPr>
          <p:nvPr/>
        </p:nvCxnSpPr>
        <p:spPr>
          <a:xfrm rot="10800000">
            <a:off x="6568200" y="905760"/>
            <a:ext cx="277200" cy="9288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5" name=""/>
          <p:cNvCxnSpPr>
            <a:stCxn id="990" idx="3"/>
            <a:endCxn id="1050" idx="0"/>
          </p:cNvCxnSpPr>
          <p:nvPr/>
        </p:nvCxnSpPr>
        <p:spPr>
          <a:xfrm>
            <a:off x="6072120" y="1360440"/>
            <a:ext cx="78480" cy="30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6" name=""/>
          <p:cNvCxnSpPr>
            <a:stCxn id="991" idx="3"/>
            <a:endCxn id="1050" idx="0"/>
          </p:cNvCxnSpPr>
          <p:nvPr/>
        </p:nvCxnSpPr>
        <p:spPr>
          <a:xfrm>
            <a:off x="6072120" y="1544760"/>
            <a:ext cx="78480" cy="1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7" name=""/>
          <p:cNvCxnSpPr>
            <a:stCxn id="1043" idx="1"/>
            <a:endCxn id="1044" idx="0"/>
          </p:cNvCxnSpPr>
          <p:nvPr/>
        </p:nvCxnSpPr>
        <p:spPr>
          <a:xfrm rot="10800000">
            <a:off x="412200" y="4079160"/>
            <a:ext cx="124200" cy="699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42" idx="1"/>
            <a:endCxn id="1044" idx="1"/>
          </p:cNvCxnSpPr>
          <p:nvPr/>
        </p:nvCxnSpPr>
        <p:spPr>
          <a:xfrm rot="10800000">
            <a:off x="412200" y="4079160"/>
            <a:ext cx="124200" cy="470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28" idx="1"/>
            <a:endCxn id="1044" idx="1"/>
          </p:cNvCxnSpPr>
          <p:nvPr/>
        </p:nvCxnSpPr>
        <p:spPr>
          <a:xfrm rot="10800000">
            <a:off x="412200" y="4079160"/>
            <a:ext cx="124200" cy="24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0" name=""/>
          <p:cNvCxnSpPr>
            <a:stCxn id="948" idx="3"/>
            <a:endCxn id="1039" idx="0"/>
          </p:cNvCxnSpPr>
          <p:nvPr/>
        </p:nvCxnSpPr>
        <p:spPr>
          <a:xfrm flipV="1">
            <a:off x="787320" y="3149280"/>
            <a:ext cx="115200" cy="789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27" idx="3"/>
            <a:endCxn id="1039" idx="1"/>
          </p:cNvCxnSpPr>
          <p:nvPr/>
        </p:nvCxnSpPr>
        <p:spPr>
          <a:xfrm flipV="1">
            <a:off x="787320" y="3149280"/>
            <a:ext cx="115200" cy="60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25" idx="3"/>
            <a:endCxn id="1039" idx="1"/>
          </p:cNvCxnSpPr>
          <p:nvPr/>
        </p:nvCxnSpPr>
        <p:spPr>
          <a:xfrm flipV="1">
            <a:off x="787320" y="3148920"/>
            <a:ext cx="115200" cy="408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23" idx="3"/>
            <a:endCxn id="1039" idx="1"/>
          </p:cNvCxnSpPr>
          <p:nvPr/>
        </p:nvCxnSpPr>
        <p:spPr>
          <a:xfrm flipV="1">
            <a:off x="787320" y="3148920"/>
            <a:ext cx="1152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24" idx="1"/>
            <a:endCxn id="1039" idx="1"/>
          </p:cNvCxnSpPr>
          <p:nvPr/>
        </p:nvCxnSpPr>
        <p:spPr>
          <a:xfrm rot="10800000">
            <a:off x="901080" y="3149640"/>
            <a:ext cx="105480" cy="598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26" idx="1"/>
            <a:endCxn id="1039" idx="1"/>
          </p:cNvCxnSpPr>
          <p:nvPr/>
        </p:nvCxnSpPr>
        <p:spPr>
          <a:xfrm rot="10800000">
            <a:off x="901080" y="3148920"/>
            <a:ext cx="91080" cy="19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947" idx="1"/>
            <a:endCxn id="975" idx="0"/>
          </p:cNvCxnSpPr>
          <p:nvPr/>
        </p:nvCxnSpPr>
        <p:spPr>
          <a:xfrm rot="10800000">
            <a:off x="459720" y="2437560"/>
            <a:ext cx="105480" cy="145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7" name=""/>
          <p:cNvSpPr/>
          <p:nvPr/>
        </p:nvSpPr>
        <p:spPr>
          <a:xfrm>
            <a:off x="708120" y="1503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22" idx="1"/>
            <a:endCxn id="1077" idx="0"/>
          </p:cNvCxnSpPr>
          <p:nvPr/>
        </p:nvCxnSpPr>
        <p:spPr>
          <a:xfrm rot="10800000">
            <a:off x="707400" y="1578960"/>
            <a:ext cx="8316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460440" y="13017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"/>
          <p:cNvCxnSpPr>
            <a:stCxn id="949" idx="1"/>
            <a:endCxn id="1079" idx="0"/>
          </p:cNvCxnSpPr>
          <p:nvPr/>
        </p:nvCxnSpPr>
        <p:spPr>
          <a:xfrm rot="10800000">
            <a:off x="459720" y="1377360"/>
            <a:ext cx="100800" cy="89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974" idx="1"/>
            <a:endCxn id="1079" idx="1"/>
          </p:cNvCxnSpPr>
          <p:nvPr/>
        </p:nvCxnSpPr>
        <p:spPr>
          <a:xfrm rot="10800000">
            <a:off x="459720" y="1377360"/>
            <a:ext cx="91080" cy="58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40" idx="1"/>
            <a:endCxn id="1079" idx="1"/>
          </p:cNvCxnSpPr>
          <p:nvPr/>
        </p:nvCxnSpPr>
        <p:spPr>
          <a:xfrm rot="10800000">
            <a:off x="459720" y="1377360"/>
            <a:ext cx="78480" cy="408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3" name=""/>
          <p:cNvSpPr/>
          <p:nvPr/>
        </p:nvSpPr>
        <p:spPr>
          <a:xfrm>
            <a:off x="3873600" y="4216320"/>
            <a:ext cx="419040" cy="60984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0"/>
                </a:moveTo>
                <a:lnTo>
                  <a:pt x="384" y="336"/>
                </a:lnTo>
                <a:lnTo>
                  <a:pt x="0" y="336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873600" y="4797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5" name=""/>
          <p:cNvCxnSpPr>
            <a:stCxn id="959" idx="1"/>
            <a:endCxn id="1084" idx="0"/>
          </p:cNvCxnSpPr>
          <p:nvPr/>
        </p:nvCxnSpPr>
        <p:spPr>
          <a:xfrm rot="10800000">
            <a:off x="3872880" y="4872960"/>
            <a:ext cx="62640" cy="130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956" idx="1"/>
            <a:endCxn id="1084" idx="1"/>
          </p:cNvCxnSpPr>
          <p:nvPr/>
        </p:nvCxnSpPr>
        <p:spPr>
          <a:xfrm rot="10800000">
            <a:off x="3872880" y="4872960"/>
            <a:ext cx="59400" cy="921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957" idx="1"/>
            <a:endCxn id="1084" idx="1"/>
          </p:cNvCxnSpPr>
          <p:nvPr/>
        </p:nvCxnSpPr>
        <p:spPr>
          <a:xfrm rot="10800000">
            <a:off x="3872880" y="4872960"/>
            <a:ext cx="64080" cy="54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958" idx="1"/>
            <a:endCxn id="1084" idx="1"/>
          </p:cNvCxnSpPr>
          <p:nvPr/>
        </p:nvCxnSpPr>
        <p:spPr>
          <a:xfrm rot="10800000">
            <a:off x="3872880" y="4872960"/>
            <a:ext cx="62640" cy="235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9" name=""/>
          <p:cNvSpPr/>
          <p:nvPr/>
        </p:nvSpPr>
        <p:spPr>
          <a:xfrm>
            <a:off x="5240160" y="43610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0" name=""/>
          <p:cNvCxnSpPr>
            <a:stCxn id="1011" idx="3"/>
            <a:endCxn id="1089" idx="0"/>
          </p:cNvCxnSpPr>
          <p:nvPr/>
        </p:nvCxnSpPr>
        <p:spPr>
          <a:xfrm flipV="1">
            <a:off x="5168880" y="4436280"/>
            <a:ext cx="72000" cy="34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10" idx="3"/>
            <a:endCxn id="1089" idx="1"/>
          </p:cNvCxnSpPr>
          <p:nvPr/>
        </p:nvCxnSpPr>
        <p:spPr>
          <a:xfrm flipV="1">
            <a:off x="5157360" y="4436280"/>
            <a:ext cx="831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13" idx="1"/>
            <a:endCxn id="1089" idx="1"/>
          </p:cNvCxnSpPr>
          <p:nvPr/>
        </p:nvCxnSpPr>
        <p:spPr>
          <a:xfrm rot="10800000">
            <a:off x="5239440" y="4436280"/>
            <a:ext cx="813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12" idx="1"/>
            <a:endCxn id="1089" idx="1"/>
          </p:cNvCxnSpPr>
          <p:nvPr/>
        </p:nvCxnSpPr>
        <p:spPr>
          <a:xfrm rot="10800000">
            <a:off x="5239440" y="4436280"/>
            <a:ext cx="73800" cy="34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6411960" y="4869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"/>
          <p:cNvCxnSpPr>
            <a:stCxn id="1005" idx="1"/>
            <a:endCxn id="1094" idx="0"/>
          </p:cNvCxnSpPr>
          <p:nvPr/>
        </p:nvCxnSpPr>
        <p:spPr>
          <a:xfrm rot="10800000">
            <a:off x="6411240" y="4944240"/>
            <a:ext cx="92880" cy="1007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06" idx="3"/>
            <a:endCxn id="1094" idx="1"/>
          </p:cNvCxnSpPr>
          <p:nvPr/>
        </p:nvCxnSpPr>
        <p:spPr>
          <a:xfrm flipV="1">
            <a:off x="6337080" y="4944600"/>
            <a:ext cx="75240" cy="1007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09" idx="1"/>
            <a:endCxn id="1094" idx="1"/>
          </p:cNvCxnSpPr>
          <p:nvPr/>
        </p:nvCxnSpPr>
        <p:spPr>
          <a:xfrm rot="10800000">
            <a:off x="6411240" y="4944240"/>
            <a:ext cx="105480" cy="61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07" idx="3"/>
            <a:endCxn id="1094" idx="1"/>
          </p:cNvCxnSpPr>
          <p:nvPr/>
        </p:nvCxnSpPr>
        <p:spPr>
          <a:xfrm flipV="1">
            <a:off x="6338520" y="4944600"/>
            <a:ext cx="73800" cy="61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04" idx="3"/>
            <a:endCxn id="1094" idx="1"/>
          </p:cNvCxnSpPr>
          <p:nvPr/>
        </p:nvCxnSpPr>
        <p:spPr>
          <a:xfrm flipV="1">
            <a:off x="6335640" y="4944600"/>
            <a:ext cx="76680" cy="3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0" name=""/>
          <p:cNvCxnSpPr>
            <a:stCxn id="1008" idx="1"/>
            <a:endCxn id="1094" idx="1"/>
          </p:cNvCxnSpPr>
          <p:nvPr/>
        </p:nvCxnSpPr>
        <p:spPr>
          <a:xfrm rot="10800000">
            <a:off x="6411240" y="4944240"/>
            <a:ext cx="105480" cy="3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1" name=""/>
          <p:cNvSpPr/>
          <p:nvPr/>
        </p:nvSpPr>
        <p:spPr>
          <a:xfrm>
            <a:off x="7689960" y="50324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2" name=""/>
          <p:cNvCxnSpPr>
            <a:stCxn id="1003" idx="1"/>
            <a:endCxn id="1101" idx="0"/>
          </p:cNvCxnSpPr>
          <p:nvPr/>
        </p:nvCxnSpPr>
        <p:spPr>
          <a:xfrm rot="10800000">
            <a:off x="7689240" y="5107680"/>
            <a:ext cx="165600" cy="1439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3" name=""/>
          <p:cNvSpPr/>
          <p:nvPr/>
        </p:nvSpPr>
        <p:spPr>
          <a:xfrm>
            <a:off x="825516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642080" y="4470480"/>
            <a:ext cx="33048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0"/>
                </a:moveTo>
                <a:lnTo>
                  <a:pt x="0" y="48"/>
                </a:lnTo>
                <a:lnTo>
                  <a:pt x="192" y="48"/>
                </a:lnTo>
                <a:lnTo>
                  <a:pt x="1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97256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6" name=""/>
          <p:cNvCxnSpPr>
            <a:stCxn id="1002" idx="1"/>
            <a:endCxn id="1105" idx="0"/>
          </p:cNvCxnSpPr>
          <p:nvPr/>
        </p:nvCxnSpPr>
        <p:spPr>
          <a:xfrm rot="10800000">
            <a:off x="7971840" y="4723560"/>
            <a:ext cx="99000" cy="126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055" idx="1"/>
            <a:endCxn id="1105" idx="1"/>
          </p:cNvCxnSpPr>
          <p:nvPr/>
        </p:nvCxnSpPr>
        <p:spPr>
          <a:xfrm rot="10800000">
            <a:off x="7971840" y="4723560"/>
            <a:ext cx="99000" cy="710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001" idx="1"/>
            <a:endCxn id="1105" idx="1"/>
          </p:cNvCxnSpPr>
          <p:nvPr/>
        </p:nvCxnSpPr>
        <p:spPr>
          <a:xfrm rot="10800000">
            <a:off x="7971840" y="4724280"/>
            <a:ext cx="9900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054" idx="1"/>
            <a:endCxn id="1105" idx="1"/>
          </p:cNvCxnSpPr>
          <p:nvPr/>
        </p:nvCxnSpPr>
        <p:spPr>
          <a:xfrm rot="10800000">
            <a:off x="7971840" y="4723560"/>
            <a:ext cx="99000" cy="137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8393040" y="3860640"/>
            <a:ext cx="8280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475840" y="3892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2" name=""/>
          <p:cNvCxnSpPr>
            <a:stCxn id="999" idx="1"/>
            <a:endCxn id="1111" idx="0"/>
          </p:cNvCxnSpPr>
          <p:nvPr/>
        </p:nvCxnSpPr>
        <p:spPr>
          <a:xfrm rot="10800000">
            <a:off x="8475120" y="4044240"/>
            <a:ext cx="78480" cy="48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stCxn id="1000" idx="1"/>
            <a:endCxn id="1111" idx="1"/>
          </p:cNvCxnSpPr>
          <p:nvPr/>
        </p:nvCxnSpPr>
        <p:spPr>
          <a:xfrm rot="10800000">
            <a:off x="8475120" y="4044960"/>
            <a:ext cx="78480" cy="133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6892920" y="297180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2579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"/>
          <p:cNvCxnSpPr>
            <a:stCxn id="1053" idx="1"/>
            <a:endCxn id="1115" idx="0"/>
          </p:cNvCxnSpPr>
          <p:nvPr/>
        </p:nvCxnSpPr>
        <p:spPr>
          <a:xfrm rot="10800000">
            <a:off x="7257240" y="3047400"/>
            <a:ext cx="115200" cy="38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052" idx="1"/>
            <a:endCxn id="1115" idx="1"/>
          </p:cNvCxnSpPr>
          <p:nvPr/>
        </p:nvCxnSpPr>
        <p:spPr>
          <a:xfrm rot="10800000">
            <a:off x="7257240" y="3047400"/>
            <a:ext cx="108720" cy="151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998" idx="1"/>
            <a:endCxn id="1115" idx="0"/>
          </p:cNvCxnSpPr>
          <p:nvPr/>
        </p:nvCxnSpPr>
        <p:spPr>
          <a:xfrm flipV="1" rot="10800000">
            <a:off x="7257240" y="2748600"/>
            <a:ext cx="115200" cy="14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9" name=""/>
          <p:cNvCxnSpPr>
            <a:stCxn id="997" idx="1"/>
            <a:endCxn id="1115" idx="0"/>
          </p:cNvCxnSpPr>
          <p:nvPr/>
        </p:nvCxnSpPr>
        <p:spPr>
          <a:xfrm flipV="1" rot="10800000">
            <a:off x="7257240" y="2524680"/>
            <a:ext cx="115200" cy="37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995" idx="1"/>
            <a:endCxn id="931" idx="6"/>
          </p:cNvCxnSpPr>
          <p:nvPr/>
        </p:nvCxnSpPr>
        <p:spPr>
          <a:xfrm flipV="1" rot="10800000">
            <a:off x="6476400" y="1239480"/>
            <a:ext cx="997560" cy="1254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1" name=""/>
          <p:cNvSpPr/>
          <p:nvPr/>
        </p:nvSpPr>
        <p:spPr>
          <a:xfrm>
            <a:off x="7786800" y="1676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"/>
          <p:cNvCxnSpPr>
            <a:stCxn id="996" idx="1"/>
            <a:endCxn id="1121" idx="0"/>
          </p:cNvCxnSpPr>
          <p:nvPr/>
        </p:nvCxnSpPr>
        <p:spPr>
          <a:xfrm rot="10800000">
            <a:off x="7786080" y="1751760"/>
            <a:ext cx="138600" cy="227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3" name=""/>
          <p:cNvCxnSpPr>
            <a:stCxn id="1062" idx="0"/>
            <a:endCxn id="930" idx="0"/>
          </p:cNvCxnSpPr>
          <p:nvPr/>
        </p:nvCxnSpPr>
        <p:spPr>
          <a:xfrm rot="5400000">
            <a:off x="4878360" y="1221480"/>
            <a:ext cx="681840" cy="54720"/>
          </a:xfrm>
          <a:prstGeom prst="bentConnector3">
            <a:avLst>
              <a:gd name="adj1" fmla="val 664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993" idx="1"/>
            <a:endCxn id="936" idx="3"/>
          </p:cNvCxnSpPr>
          <p:nvPr/>
        </p:nvCxnSpPr>
        <p:spPr>
          <a:xfrm flipV="1" rot="10800000">
            <a:off x="6568200" y="754560"/>
            <a:ext cx="277200" cy="15156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5" name=""/>
          <p:cNvSpPr/>
          <p:nvPr/>
        </p:nvSpPr>
        <p:spPr>
          <a:xfrm>
            <a:off x="3512520" y="6372360"/>
            <a:ext cx="3002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ัฒนาการเรียนรู้ด้วยวิธีคิดแบบโยนิโสมนการ ๒ วิธ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68080" y="6616080"/>
            <a:ext cx="1168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อรรถธรรมสัมพัน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484440" y="6616080"/>
            <a:ext cx="1353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อุบายปลุกเร้าคุณ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8" name=""/>
          <p:cNvCxnSpPr>
            <a:stCxn id="1125" idx="1"/>
            <a:endCxn id="1084" idx="1"/>
          </p:cNvCxnSpPr>
          <p:nvPr/>
        </p:nvCxnSpPr>
        <p:spPr>
          <a:xfrm rot="10800000">
            <a:off x="3872880" y="4872960"/>
            <a:ext cx="95760" cy="1585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2"/>
            <a:endCxn id="1126" idx="1"/>
          </p:cNvCxnSpPr>
          <p:nvPr/>
        </p:nvCxnSpPr>
        <p:spPr>
          <a:xfrm flipH="1" rot="16200000">
            <a:off x="5043600" y="6512040"/>
            <a:ext cx="14472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25" idx="2"/>
            <a:endCxn id="1127" idx="3"/>
          </p:cNvCxnSpPr>
          <p:nvPr/>
        </p:nvCxnSpPr>
        <p:spPr>
          <a:xfrm rot="5400000">
            <a:off x="4772880" y="6447600"/>
            <a:ext cx="144720" cy="335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018" idx="0"/>
            <a:endCxn id="954" idx="1"/>
          </p:cNvCxnSpPr>
          <p:nvPr/>
        </p:nvCxnSpPr>
        <p:spPr>
          <a:xfrm flipH="1" rot="16200000">
            <a:off x="2254680" y="4925520"/>
            <a:ext cx="607320" cy="16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018" idx="1"/>
            <a:endCxn id="955" idx="1"/>
          </p:cNvCxnSpPr>
          <p:nvPr/>
        </p:nvCxnSpPr>
        <p:spPr>
          <a:xfrm flipH="1" rot="16200000">
            <a:off x="1980360" y="5199840"/>
            <a:ext cx="1073520" cy="8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34" idx="0"/>
            <a:endCxn id="1017" idx="1"/>
          </p:cNvCxnSpPr>
          <p:nvPr/>
        </p:nvCxnSpPr>
        <p:spPr>
          <a:xfrm flipH="1" rot="16200000">
            <a:off x="2703240" y="5895360"/>
            <a:ext cx="143640" cy="1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938" idx="5"/>
            <a:endCxn id="952" idx="0"/>
          </p:cNvCxnSpPr>
          <p:nvPr/>
        </p:nvCxnSpPr>
        <p:spPr>
          <a:xfrm>
            <a:off x="3995640" y="362736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6" name=""/>
          <p:cNvCxnSpPr>
            <a:stCxn id="938" idx="3"/>
            <a:endCxn id="951" idx="6"/>
          </p:cNvCxnSpPr>
          <p:nvPr/>
        </p:nvCxnSpPr>
        <p:spPr>
          <a:xfrm flipH="1">
            <a:off x="3053520" y="3627360"/>
            <a:ext cx="36756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7" name=""/>
          <p:cNvCxnSpPr>
            <a:stCxn id="938" idx="3"/>
            <a:endCxn id="950" idx="7"/>
          </p:cNvCxnSpPr>
          <p:nvPr/>
        </p:nvCxnSpPr>
        <p:spPr>
          <a:xfrm flipH="1">
            <a:off x="3180960" y="3627360"/>
            <a:ext cx="2404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938" idx="4"/>
            <a:endCxn id="953" idx="0"/>
          </p:cNvCxnSpPr>
          <p:nvPr/>
        </p:nvCxnSpPr>
        <p:spPr>
          <a:xfrm flipH="1">
            <a:off x="3482640" y="3736440"/>
            <a:ext cx="226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9" name=""/>
          <p:cNvCxnSpPr>
            <a:stCxn id="960" idx="4"/>
            <a:endCxn id="966" idx="0"/>
          </p:cNvCxnSpPr>
          <p:nvPr/>
        </p:nvCxnSpPr>
        <p:spPr>
          <a:xfrm>
            <a:off x="6397560" y="3906720"/>
            <a:ext cx="24480" cy="60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938" idx="1"/>
            <a:endCxn id="940" idx="6"/>
          </p:cNvCxnSpPr>
          <p:nvPr/>
        </p:nvCxnSpPr>
        <p:spPr>
          <a:xfrm flipH="1" flipV="1">
            <a:off x="3085920" y="2669760"/>
            <a:ext cx="33552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960" idx="0"/>
            <a:endCxn id="961" idx="4"/>
          </p:cNvCxnSpPr>
          <p:nvPr/>
        </p:nvCxnSpPr>
        <p:spPr>
          <a:xfrm flipV="1">
            <a:off x="6397560" y="3067920"/>
            <a:ext cx="720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960" idx="5"/>
            <a:endCxn id="964" idx="0"/>
          </p:cNvCxnSpPr>
          <p:nvPr/>
        </p:nvCxnSpPr>
        <p:spPr>
          <a:xfrm>
            <a:off x="6660720" y="3806640"/>
            <a:ext cx="59940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960" idx="6"/>
            <a:endCxn id="962" idx="1"/>
          </p:cNvCxnSpPr>
          <p:nvPr/>
        </p:nvCxnSpPr>
        <p:spPr>
          <a:xfrm>
            <a:off x="6783120" y="3551400"/>
            <a:ext cx="67320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960" idx="5"/>
            <a:endCxn id="963" idx="1"/>
          </p:cNvCxnSpPr>
          <p:nvPr/>
        </p:nvCxnSpPr>
        <p:spPr>
          <a:xfrm>
            <a:off x="6661080" y="3806640"/>
            <a:ext cx="567360" cy="3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stCxn id="938" idx="2"/>
            <a:endCxn id="939" idx="5"/>
          </p:cNvCxnSpPr>
          <p:nvPr/>
        </p:nvCxnSpPr>
        <p:spPr>
          <a:xfrm flipH="1" flipV="1">
            <a:off x="2802960" y="3253680"/>
            <a:ext cx="48492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932" idx="2"/>
            <a:endCxn id="929" idx="5"/>
          </p:cNvCxnSpPr>
          <p:nvPr/>
        </p:nvCxnSpPr>
        <p:spPr>
          <a:xfrm flipH="1" flipV="1">
            <a:off x="4453920" y="2430000"/>
            <a:ext cx="2372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7" name=""/>
          <p:cNvCxnSpPr>
            <a:stCxn id="932" idx="0"/>
            <a:endCxn id="930" idx="4"/>
          </p:cNvCxnSpPr>
          <p:nvPr/>
        </p:nvCxnSpPr>
        <p:spPr>
          <a:xfrm flipV="1">
            <a:off x="5076720" y="1915920"/>
            <a:ext cx="11664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stCxn id="932" idx="6"/>
            <a:endCxn id="931" idx="2"/>
          </p:cNvCxnSpPr>
          <p:nvPr/>
        </p:nvCxnSpPr>
        <p:spPr>
          <a:xfrm>
            <a:off x="5462280" y="2491920"/>
            <a:ext cx="354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stCxn id="932" idx="7"/>
            <a:endCxn id="935" idx="3"/>
          </p:cNvCxnSpPr>
          <p:nvPr/>
        </p:nvCxnSpPr>
        <p:spPr>
          <a:xfrm flipV="1">
            <a:off x="5339880" y="2020320"/>
            <a:ext cx="63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0" name=""/>
          <p:cNvSpPr/>
          <p:nvPr/>
        </p:nvSpPr>
        <p:spPr>
          <a:xfrm>
            <a:off x="8942400" y="189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720880" y="580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937" idx="1"/>
            <a:endCxn id="931" idx="6"/>
          </p:cNvCxnSpPr>
          <p:nvPr/>
        </p:nvCxnSpPr>
        <p:spPr>
          <a:xfrm flipV="1" rot="10800000">
            <a:off x="6476400" y="1614960"/>
            <a:ext cx="997560" cy="878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3" name=""/>
          <p:cNvSpPr/>
          <p:nvPr/>
        </p:nvSpPr>
        <p:spPr>
          <a:xfrm>
            <a:off x="4448160" y="1471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4737240" y="1328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5" name=""/>
          <p:cNvCxnSpPr>
            <a:stCxn id="934" idx="3"/>
            <a:endCxn id="1154" idx="1"/>
          </p:cNvCxnSpPr>
          <p:nvPr/>
        </p:nvCxnSpPr>
        <p:spPr>
          <a:xfrm>
            <a:off x="4659480" y="1219320"/>
            <a:ext cx="78480" cy="11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056" idx="0"/>
            <a:endCxn id="1153" idx="0"/>
          </p:cNvCxnSpPr>
          <p:nvPr/>
        </p:nvCxnSpPr>
        <p:spPr>
          <a:xfrm flipH="1" flipV="1" rot="5400000">
            <a:off x="4009680" y="1261440"/>
            <a:ext cx="229320" cy="64836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960040" y="18900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881760" y="1681200"/>
            <a:ext cx="1970280" cy="190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เคราะห์พุทธประว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45360"/>
            <a:ext cx="9906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 เรื่องพระพุทธ  ชั้นมัธยมศึกษาปีที่ 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535120" y="2062080"/>
            <a:ext cx="1170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ระพุทธ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45120" y="2062080"/>
            <a:ext cx="1170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45120" y="4437000"/>
            <a:ext cx="1170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152960" y="3213000"/>
            <a:ext cx="1439640" cy="1440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74440" y="1413000"/>
            <a:ext cx="4404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ของพระพุทธศาสนาต่อสังคมไทยในฐานะเป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35120" y="4510080"/>
            <a:ext cx="1170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211520" y="5084640"/>
            <a:ext cx="2518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25480" y="621000"/>
            <a:ext cx="47912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เข้าสู่ประเทศเพื่อนบ้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การนับถือพระพุทธศาสนาของประเทศเพื่อนบ้านในปัจจุบั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2615400" y="1652400"/>
            <a:ext cx="15984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กฐานของวัฒนธ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558880" y="1833120"/>
            <a:ext cx="20178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เอกลักษณ์และมรดกขอ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27720" y="1150920"/>
            <a:ext cx="39805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ช่วยเสริมสร้างความเข้าใจอันดีกับประเทศเพื่อนบ้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964080" y="4667400"/>
            <a:ext cx="13089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มิตตวินทุกชาด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09520" y="5229360"/>
            <a:ext cx="1115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โชวาทชาด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8823600" y="1779120"/>
            <a:ext cx="9234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ผจญม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829360" y="1959120"/>
            <a:ext cx="670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การตรัส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813160" y="2201760"/>
            <a:ext cx="793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การสั่งสอ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176240" y="4005360"/>
            <a:ext cx="239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ธรรมเบื้องต้นที่เกี่ยวเนื่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777440" y="5373000"/>
            <a:ext cx="19490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และการปฏิบัติต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363680" y="17715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0" name=""/>
          <p:cNvCxnSpPr>
            <a:stCxn id="1168" idx="1"/>
            <a:endCxn id="1179" idx="0"/>
          </p:cNvCxnSpPr>
          <p:nvPr/>
        </p:nvCxnSpPr>
        <p:spPr>
          <a:xfrm flipV="1" rot="10800000">
            <a:off x="1363680" y="825120"/>
            <a:ext cx="133560" cy="9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1" idx="1"/>
            <a:endCxn id="1179" idx="0"/>
          </p:cNvCxnSpPr>
          <p:nvPr/>
        </p:nvCxnSpPr>
        <p:spPr>
          <a:xfrm flipV="1" rot="10800000">
            <a:off x="1363680" y="1221840"/>
            <a:ext cx="133560" cy="55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2" name=""/>
          <p:cNvSpPr/>
          <p:nvPr/>
        </p:nvSpPr>
        <p:spPr>
          <a:xfrm>
            <a:off x="2720880" y="1557360"/>
            <a:ext cx="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3" name=""/>
          <p:cNvCxnSpPr>
            <a:stCxn id="1170" idx="1"/>
            <a:endCxn id="1182" idx="0"/>
          </p:cNvCxnSpPr>
          <p:nvPr/>
        </p:nvCxnSpPr>
        <p:spPr>
          <a:xfrm rot="10800000">
            <a:off x="2720160" y="1647000"/>
            <a:ext cx="146880" cy="26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9" idx="1"/>
            <a:endCxn id="1182" idx="1"/>
          </p:cNvCxnSpPr>
          <p:nvPr/>
        </p:nvCxnSpPr>
        <p:spPr>
          <a:xfrm rot="10800000">
            <a:off x="2720160" y="1647000"/>
            <a:ext cx="145440" cy="83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74" idx="1"/>
            <a:endCxn id="1159" idx="3"/>
          </p:cNvCxnSpPr>
          <p:nvPr/>
        </p:nvCxnSpPr>
        <p:spPr>
          <a:xfrm rot="10800000">
            <a:off x="8633520" y="1775520"/>
            <a:ext cx="302400" cy="81360"/>
          </a:xfrm>
          <a:prstGeom prst="bentConnector3">
            <a:avLst>
              <a:gd name="adj1" fmla="val 497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76" idx="1"/>
            <a:endCxn id="1159" idx="3"/>
          </p:cNvCxnSpPr>
          <p:nvPr/>
        </p:nvCxnSpPr>
        <p:spPr>
          <a:xfrm rot="10800000">
            <a:off x="8633520" y="1775520"/>
            <a:ext cx="302400" cy="536040"/>
          </a:xfrm>
          <a:prstGeom prst="bentConnector3">
            <a:avLst>
              <a:gd name="adj1" fmla="val 497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2" idx="3"/>
            <a:endCxn id="1166" idx="2"/>
          </p:cNvCxnSpPr>
          <p:nvPr/>
        </p:nvCxnSpPr>
        <p:spPr>
          <a:xfrm>
            <a:off x="2075040" y="4768920"/>
            <a:ext cx="460800" cy="281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"/>
          <p:cNvCxnSpPr>
            <a:stCxn id="1173" idx="3"/>
            <a:endCxn id="1166" idx="2"/>
          </p:cNvCxnSpPr>
          <p:nvPr/>
        </p:nvCxnSpPr>
        <p:spPr>
          <a:xfrm flipV="1">
            <a:off x="2075040" y="5049000"/>
            <a:ext cx="460800" cy="28188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9" name=""/>
          <p:cNvCxnSpPr>
            <a:stCxn id="1177" idx="1"/>
            <a:endCxn id="1163" idx="6"/>
          </p:cNvCxnSpPr>
          <p:nvPr/>
        </p:nvCxnSpPr>
        <p:spPr>
          <a:xfrm flipV="1" rot="10800000">
            <a:off x="7214400" y="4142160"/>
            <a:ext cx="276840" cy="834120"/>
          </a:xfrm>
          <a:prstGeom prst="bentConnector3">
            <a:avLst>
              <a:gd name="adj1" fmla="val 496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0" name=""/>
          <p:cNvSpPr/>
          <p:nvPr/>
        </p:nvSpPr>
        <p:spPr>
          <a:xfrm>
            <a:off x="7761240" y="5297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1" name=""/>
          <p:cNvCxnSpPr>
            <a:stCxn id="1167" idx="1"/>
            <a:endCxn id="1163" idx="6"/>
          </p:cNvCxnSpPr>
          <p:nvPr/>
        </p:nvCxnSpPr>
        <p:spPr>
          <a:xfrm rot="10800000">
            <a:off x="7214400" y="4975920"/>
            <a:ext cx="276840" cy="234360"/>
          </a:xfrm>
          <a:prstGeom prst="bentConnector3">
            <a:avLst>
              <a:gd name="adj1" fmla="val 496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2" name=""/>
          <p:cNvCxnSpPr>
            <a:stCxn id="1165" idx="1"/>
            <a:endCxn id="1179" idx="0"/>
          </p:cNvCxnSpPr>
          <p:nvPr/>
        </p:nvCxnSpPr>
        <p:spPr>
          <a:xfrm flipV="1" rot="10800000">
            <a:off x="1363680" y="1507680"/>
            <a:ext cx="133560" cy="26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3" name=""/>
          <p:cNvCxnSpPr>
            <a:stCxn id="1161" idx="2"/>
            <a:endCxn id="1179" idx="1"/>
          </p:cNvCxnSpPr>
          <p:nvPr/>
        </p:nvCxnSpPr>
        <p:spPr>
          <a:xfrm rot="10800000">
            <a:off x="1362960" y="1915560"/>
            <a:ext cx="11721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61" idx="5"/>
            <a:endCxn id="1164" idx="1"/>
          </p:cNvCxnSpPr>
          <p:nvPr/>
        </p:nvCxnSpPr>
        <p:spPr>
          <a:xfrm>
            <a:off x="3533760" y="2982960"/>
            <a:ext cx="83088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5" name=""/>
          <p:cNvCxnSpPr>
            <a:stCxn id="1162" idx="2"/>
            <a:endCxn id="1164" idx="7"/>
          </p:cNvCxnSpPr>
          <p:nvPr/>
        </p:nvCxnSpPr>
        <p:spPr>
          <a:xfrm flipH="1">
            <a:off x="5380920" y="2602080"/>
            <a:ext cx="664200" cy="81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6" name=""/>
          <p:cNvCxnSpPr>
            <a:stCxn id="1166" idx="6"/>
            <a:endCxn id="1164" idx="3"/>
          </p:cNvCxnSpPr>
          <p:nvPr/>
        </p:nvCxnSpPr>
        <p:spPr>
          <a:xfrm flipV="1">
            <a:off x="3705120" y="4453920"/>
            <a:ext cx="659520" cy="595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7" name=""/>
          <p:cNvCxnSpPr>
            <a:stCxn id="1163" idx="2"/>
            <a:endCxn id="1164" idx="5"/>
          </p:cNvCxnSpPr>
          <p:nvPr/>
        </p:nvCxnSpPr>
        <p:spPr>
          <a:xfrm flipH="1" flipV="1">
            <a:off x="5380920" y="4454280"/>
            <a:ext cx="664200" cy="52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59" idx="1"/>
            <a:endCxn id="1162" idx="0"/>
          </p:cNvCxnSpPr>
          <p:nvPr/>
        </p:nvCxnSpPr>
        <p:spPr>
          <a:xfrm flipV="1" rot="10800000">
            <a:off x="6628680" y="1775880"/>
            <a:ext cx="4705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9" name=""/>
          <p:cNvCxnSpPr>
            <a:stCxn id="1175" idx="1"/>
            <a:endCxn id="1159" idx="3"/>
          </p:cNvCxnSpPr>
          <p:nvPr/>
        </p:nvCxnSpPr>
        <p:spPr>
          <a:xfrm rot="10800000">
            <a:off x="8633520" y="1775520"/>
            <a:ext cx="302400" cy="293040"/>
          </a:xfrm>
          <a:prstGeom prst="bentConnector3">
            <a:avLst>
              <a:gd name="adj1" fmla="val 497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78" idx="1"/>
            <a:endCxn id="1190" idx="0"/>
          </p:cNvCxnSpPr>
          <p:nvPr/>
        </p:nvCxnSpPr>
        <p:spPr>
          <a:xfrm rot="10800000">
            <a:off x="7760520" y="5373000"/>
            <a:ext cx="234000" cy="94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1" name=""/>
          <p:cNvSpPr/>
          <p:nvPr/>
        </p:nvSpPr>
        <p:spPr>
          <a:xfrm>
            <a:off x="7925760" y="5589000"/>
            <a:ext cx="1266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วันธรรมสวน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เข้าพรร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อกพรร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เทโวโรหณ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503120" y="4262400"/>
            <a:ext cx="12265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วันม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าฆ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วันวิสาข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วันอัฏฐมี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CordiaUPC"/>
              </a:rPr>
              <a:t>-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CordiaUPC"/>
              </a:rPr>
              <a:t>วันอาสาฬห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966880" y="18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959320" y="18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0" y="45360"/>
            <a:ext cx="9906120" cy="6508080"/>
            <a:chOff x="0" y="45360"/>
            <a:chExt cx="9906120" cy="6508080"/>
          </a:xfrm>
        </p:grpSpPr>
        <p:sp>
          <p:nvSpPr>
            <p:cNvPr id="1207" name=""/>
            <p:cNvSpPr/>
            <p:nvPr/>
          </p:nvSpPr>
          <p:spPr>
            <a:xfrm>
              <a:off x="0" y="45360"/>
              <a:ext cx="9906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 เรื่องพระธรรม  ชั้นมัธยมศึกษาปีที่ 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80000" y="2960640"/>
              <a:ext cx="143964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ธรร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28880" y="1844640"/>
              <a:ext cx="935280" cy="934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ธรรมคุณ 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76880" y="1773360"/>
              <a:ext cx="93528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ริยสัจ 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02440" y="654120"/>
              <a:ext cx="182736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ุกข์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รู้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47440" y="654120"/>
              <a:ext cx="183672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มุทัย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ละ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91720" y="654120"/>
              <a:ext cx="201024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ิโรธ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บรรลุ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60560" y="654120"/>
              <a:ext cx="202716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ค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เจริญ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09720" y="981000"/>
              <a:ext cx="524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ันธ์ 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28680" y="1197000"/>
              <a:ext cx="656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ายตน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42280" y="981360"/>
              <a:ext cx="42048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ข 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97040" y="1913760"/>
              <a:ext cx="67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งคล ๓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998160" y="942480"/>
              <a:ext cx="71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ก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938760" y="479736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ไตรปิฎ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24160" y="3213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ศาสน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ภาษิ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69000" y="3213000"/>
              <a:ext cx="9352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บริหารจิ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045120" y="4797360"/>
              <a:ext cx="9352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5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ัพท์ทา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5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ศาสน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8880" y="5996160"/>
              <a:ext cx="2836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โครงสร้างชื่อคัมภีร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และ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 New"/>
                </a:rPr>
                <a:t>สาระสังเขปของพระสุตตันตปิฎ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440160" y="5996160"/>
              <a:ext cx="19796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12040" y="4856040"/>
              <a:ext cx="24732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ามหลักสติปัฏฐานเน้นอานาปานสต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93320" y="4370400"/>
              <a:ext cx="24094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รู้และเข้าใจวิธีปฏิบัติและประโยชน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อง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56320" y="4076280"/>
              <a:ext cx="1900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วดมนต์แปลและแผ่เมตต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95480" y="5343480"/>
              <a:ext cx="24825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ำวิธี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ปใช้ในชีวิตประจำวั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44240" y="1483560"/>
              <a:ext cx="749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บายมุข 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08680" y="6021720"/>
              <a:ext cx="124920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ฌาน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ญา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2" name=""/>
            <p:cNvCxnSpPr>
              <a:stCxn id="1231" idx="0"/>
              <a:endCxn id="1223" idx="4"/>
            </p:cNvCxnSpPr>
            <p:nvPr/>
          </p:nvCxnSpPr>
          <p:spPr>
            <a:xfrm flipV="1" rot="16200000">
              <a:off x="6378840" y="5866200"/>
              <a:ext cx="289440" cy="2088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4403160" y="6307920"/>
              <a:ext cx="12585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จูฬกัมมวิภังคสูต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18000" y="5493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5" name=""/>
            <p:cNvCxnSpPr>
              <a:stCxn id="1220" idx="4"/>
              <a:endCxn id="1225" idx="0"/>
            </p:cNvCxnSpPr>
            <p:nvPr/>
          </p:nvCxnSpPr>
          <p:spPr>
            <a:xfrm flipH="1" rot="16200000">
              <a:off x="4286160" y="5852160"/>
              <a:ext cx="264240" cy="248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6" name=""/>
            <p:cNvSpPr/>
            <p:nvPr/>
          </p:nvSpPr>
          <p:spPr>
            <a:xfrm>
              <a:off x="1094040" y="2436840"/>
              <a:ext cx="20649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มฺมุนา  วตฺตตี  โลโ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ตว์โลกย่อมเป็นไปตามก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03640" y="3560760"/>
              <a:ext cx="1684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โข  ปุญฺ</a:t>
              </a:r>
              <a:r>
                <a:rPr b="0" lang="th-TH" sz="1400" spc="-1" strike="noStrike">
                  <a:solidFill>
                    <a:srgbClr val="000000"/>
                  </a:solidFill>
                  <a:latin typeface="CordiaUPC"/>
                  <a:ea typeface="CordiaUPC"/>
                </a:rPr>
                <a:t>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ฺส   อุจฺจโ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สั่งสมบุญนำสุขมาให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6520" y="2998800"/>
              <a:ext cx="2746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ลฺยาณการี  กลฺยาณํ  ปาปการี  จ ปาปก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ำดีได้ดี   ทำชั่วได้ชั่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21720" y="1094760"/>
              <a:ext cx="1235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มบัติ ๔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ิบัติ ๔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51680" y="1199520"/>
              <a:ext cx="8928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ดรุณธรรม 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22440" y="1019880"/>
              <a:ext cx="2055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บุพพนิมิตของมัชฌิมาปฏิปท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25760" y="1556640"/>
              <a:ext cx="1185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ุศลกรรมบถ ๑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11360" y="1378800"/>
              <a:ext cx="1246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ุลจิรัฏฐิติธรรม 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979400" y="1735920"/>
              <a:ext cx="868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ติปัฏฐาน 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340120" y="2133000"/>
              <a:ext cx="9950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ระพฤติ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6" name=""/>
            <p:cNvCxnSpPr>
              <a:stCxn id="1215" idx="1"/>
              <a:endCxn id="1211" idx="2"/>
            </p:cNvCxnSpPr>
            <p:nvPr/>
          </p:nvCxnSpPr>
          <p:spPr>
            <a:xfrm rot="10800000">
              <a:off x="2615400" y="909000"/>
              <a:ext cx="148320" cy="19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7" name=""/>
            <p:cNvCxnSpPr>
              <a:stCxn id="1216" idx="1"/>
              <a:endCxn id="1215" idx="2"/>
            </p:cNvCxnSpPr>
            <p:nvPr/>
          </p:nvCxnSpPr>
          <p:spPr>
            <a:xfrm rot="10800000">
              <a:off x="2971080" y="1231200"/>
              <a:ext cx="119880" cy="9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8" name=""/>
            <p:cNvCxnSpPr>
              <a:stCxn id="1210" idx="0"/>
              <a:endCxn id="1234" idx="0"/>
            </p:cNvCxnSpPr>
            <p:nvPr/>
          </p:nvCxnSpPr>
          <p:spPr>
            <a:xfrm flipV="1" rot="16200000">
              <a:off x="5779440" y="907560"/>
              <a:ext cx="504000" cy="1227960"/>
            </a:xfrm>
            <a:prstGeom prst="bentConnector3">
              <a:avLst>
                <a:gd name="adj1" fmla="val 4982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9" name=""/>
            <p:cNvCxnSpPr>
              <a:stCxn id="1214" idx="0"/>
              <a:endCxn id="1234" idx="0"/>
            </p:cNvCxnSpPr>
            <p:nvPr/>
          </p:nvCxnSpPr>
          <p:spPr>
            <a:xfrm flipV="1" rot="16200000">
              <a:off x="6845400" y="-879120"/>
              <a:ext cx="100800" cy="2956680"/>
            </a:xfrm>
            <a:prstGeom prst="bentConnector3">
              <a:avLst>
                <a:gd name="adj1" fmla="val 2283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0" name=""/>
            <p:cNvCxnSpPr>
              <a:stCxn id="1213" idx="0"/>
              <a:endCxn id="1234" idx="0"/>
            </p:cNvCxnSpPr>
            <p:nvPr/>
          </p:nvCxnSpPr>
          <p:spPr>
            <a:xfrm flipV="1" rot="16200000">
              <a:off x="5856480" y="109800"/>
              <a:ext cx="100800" cy="978840"/>
            </a:xfrm>
            <a:prstGeom prst="bentConnector3">
              <a:avLst>
                <a:gd name="adj1" fmla="val 2283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1" name=""/>
            <p:cNvCxnSpPr>
              <a:stCxn id="1212" idx="0"/>
              <a:endCxn id="1234" idx="0"/>
            </p:cNvCxnSpPr>
            <p:nvPr/>
          </p:nvCxnSpPr>
          <p:spPr>
            <a:xfrm flipH="1" flipV="1" rot="5400000">
              <a:off x="4890600" y="122040"/>
              <a:ext cx="100800" cy="954720"/>
            </a:xfrm>
            <a:prstGeom prst="bentConnector3">
              <a:avLst>
                <a:gd name="adj1" fmla="val 2283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2" name=""/>
            <p:cNvCxnSpPr>
              <a:stCxn id="1211" idx="0"/>
              <a:endCxn id="1234" idx="0"/>
            </p:cNvCxnSpPr>
            <p:nvPr/>
          </p:nvCxnSpPr>
          <p:spPr>
            <a:xfrm flipH="1" flipV="1" rot="5400000">
              <a:off x="3966480" y="-802080"/>
              <a:ext cx="100800" cy="2802600"/>
            </a:xfrm>
            <a:prstGeom prst="bentConnector3">
              <a:avLst>
                <a:gd name="adj1" fmla="val 2283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53" name=""/>
            <p:cNvSpPr/>
            <p:nvPr/>
          </p:nvSpPr>
          <p:spPr>
            <a:xfrm>
              <a:off x="7910640" y="90792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937680" y="1266120"/>
              <a:ext cx="12877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กุศลกรรมบถ ๑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63280" y="4124160"/>
              <a:ext cx="2338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ูชโก  ลภเต ปูชํ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นฺทโก ปฏิวนฺทน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ู้บูชาเขาย่อมได้รับการบูชาตอ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ู้ไหว้เขาย่อมได้รับการไหว้ตอ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41920" y="2331360"/>
              <a:ext cx="11077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ว้นจากความชั่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05920" y="2528280"/>
              <a:ext cx="1446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ว้นจากการดื่มน้ำเม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07360" y="21146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9" name=""/>
            <p:cNvCxnSpPr>
              <a:stCxn id="1255" idx="3"/>
              <a:endCxn id="1221" idx="2"/>
            </p:cNvCxnSpPr>
            <p:nvPr/>
          </p:nvCxnSpPr>
          <p:spPr>
            <a:xfrm flipV="1">
              <a:off x="2849040" y="3681000"/>
              <a:ext cx="375480" cy="751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0" name=""/>
            <p:cNvCxnSpPr>
              <a:stCxn id="1237" idx="3"/>
              <a:endCxn id="1221" idx="2"/>
            </p:cNvCxnSpPr>
            <p:nvPr/>
          </p:nvCxnSpPr>
          <p:spPr>
            <a:xfrm flipV="1">
              <a:off x="2849040" y="3681000"/>
              <a:ext cx="375480" cy="86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1" name=""/>
            <p:cNvCxnSpPr>
              <a:stCxn id="1238" idx="3"/>
              <a:endCxn id="1221" idx="2"/>
            </p:cNvCxnSpPr>
            <p:nvPr/>
          </p:nvCxnSpPr>
          <p:spPr>
            <a:xfrm>
              <a:off x="2849040" y="3204720"/>
              <a:ext cx="375480" cy="477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2" name=""/>
            <p:cNvCxnSpPr>
              <a:stCxn id="1236" idx="3"/>
              <a:endCxn id="1221" idx="2"/>
            </p:cNvCxnSpPr>
            <p:nvPr/>
          </p:nvCxnSpPr>
          <p:spPr>
            <a:xfrm>
              <a:off x="2849040" y="2643120"/>
              <a:ext cx="375480" cy="1038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3" name=""/>
            <p:cNvCxnSpPr>
              <a:stCxn id="1257" idx="1"/>
              <a:endCxn id="1258" idx="0"/>
            </p:cNvCxnSpPr>
            <p:nvPr/>
          </p:nvCxnSpPr>
          <p:spPr>
            <a:xfrm rot="10800000">
              <a:off x="8307360" y="2189880"/>
              <a:ext cx="155880" cy="448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4" name=""/>
            <p:cNvCxnSpPr>
              <a:stCxn id="1256" idx="1"/>
              <a:endCxn id="1258" idx="1"/>
            </p:cNvCxnSpPr>
            <p:nvPr/>
          </p:nvCxnSpPr>
          <p:spPr>
            <a:xfrm rot="10800000">
              <a:off x="8307360" y="2189880"/>
              <a:ext cx="15588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5" name=""/>
            <p:cNvCxnSpPr>
              <a:stCxn id="1245" idx="1"/>
              <a:endCxn id="1258" idx="1"/>
            </p:cNvCxnSpPr>
            <p:nvPr/>
          </p:nvCxnSpPr>
          <p:spPr>
            <a:xfrm rot="10800000">
              <a:off x="8307360" y="2189880"/>
              <a:ext cx="155880" cy="53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6" name=""/>
            <p:cNvCxnSpPr>
              <a:stCxn id="1218" idx="1"/>
              <a:endCxn id="1253" idx="0"/>
            </p:cNvCxnSpPr>
            <p:nvPr/>
          </p:nvCxnSpPr>
          <p:spPr>
            <a:xfrm rot="10800000">
              <a:off x="7910640" y="957960"/>
              <a:ext cx="155880" cy="106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7" name=""/>
            <p:cNvCxnSpPr>
              <a:stCxn id="1244" idx="1"/>
              <a:endCxn id="1253" idx="1"/>
            </p:cNvCxnSpPr>
            <p:nvPr/>
          </p:nvCxnSpPr>
          <p:spPr>
            <a:xfrm rot="10800000">
              <a:off x="7910640" y="957960"/>
              <a:ext cx="155880" cy="888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8" name=""/>
            <p:cNvCxnSpPr>
              <a:stCxn id="1242" idx="1"/>
              <a:endCxn id="1253" idx="1"/>
            </p:cNvCxnSpPr>
            <p:nvPr/>
          </p:nvCxnSpPr>
          <p:spPr>
            <a:xfrm rot="10800000">
              <a:off x="7910640" y="957960"/>
              <a:ext cx="155880" cy="708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9" name=""/>
            <p:cNvCxnSpPr>
              <a:stCxn id="1240" idx="1"/>
              <a:endCxn id="1253" idx="1"/>
            </p:cNvCxnSpPr>
            <p:nvPr/>
          </p:nvCxnSpPr>
          <p:spPr>
            <a:xfrm rot="10800000">
              <a:off x="7910640" y="957960"/>
              <a:ext cx="155880" cy="35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0" name=""/>
            <p:cNvCxnSpPr>
              <a:stCxn id="1241" idx="1"/>
              <a:endCxn id="1253" idx="1"/>
            </p:cNvCxnSpPr>
            <p:nvPr/>
          </p:nvCxnSpPr>
          <p:spPr>
            <a:xfrm rot="10800000">
              <a:off x="7910640" y="957960"/>
              <a:ext cx="155880" cy="172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1" name=""/>
            <p:cNvCxnSpPr>
              <a:stCxn id="1243" idx="1"/>
              <a:endCxn id="1253" idx="1"/>
            </p:cNvCxnSpPr>
            <p:nvPr/>
          </p:nvCxnSpPr>
          <p:spPr>
            <a:xfrm rot="10800000">
              <a:off x="7909920" y="957960"/>
              <a:ext cx="191160" cy="531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2" name=""/>
            <p:cNvCxnSpPr>
              <a:stCxn id="1217" idx="1"/>
              <a:endCxn id="1213" idx="2"/>
            </p:cNvCxnSpPr>
            <p:nvPr/>
          </p:nvCxnSpPr>
          <p:spPr>
            <a:xfrm rot="10800000">
              <a:off x="6395400" y="909000"/>
              <a:ext cx="191160" cy="186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73" name=""/>
            <p:cNvSpPr/>
            <p:nvPr/>
          </p:nvSpPr>
          <p:spPr>
            <a:xfrm>
              <a:off x="4229280" y="1087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4" name=""/>
            <p:cNvCxnSpPr>
              <a:stCxn id="1239" idx="1"/>
              <a:endCxn id="1273" idx="0"/>
            </p:cNvCxnSpPr>
            <p:nvPr/>
          </p:nvCxnSpPr>
          <p:spPr>
            <a:xfrm rot="10800000">
              <a:off x="4228560" y="1162800"/>
              <a:ext cx="129240" cy="41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75" name=""/>
            <p:cNvSpPr/>
            <p:nvPr/>
          </p:nvSpPr>
          <p:spPr>
            <a:xfrm>
              <a:off x="3981600" y="90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6" name=""/>
            <p:cNvCxnSpPr>
              <a:stCxn id="1219" idx="1"/>
              <a:endCxn id="1275" idx="0"/>
            </p:cNvCxnSpPr>
            <p:nvPr/>
          </p:nvCxnSpPr>
          <p:spPr>
            <a:xfrm rot="10800000">
              <a:off x="3980880" y="984960"/>
              <a:ext cx="110160" cy="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7" name=""/>
            <p:cNvCxnSpPr>
              <a:stCxn id="1230" idx="1"/>
              <a:endCxn id="1275" idx="1"/>
            </p:cNvCxnSpPr>
            <p:nvPr/>
          </p:nvCxnSpPr>
          <p:spPr>
            <a:xfrm rot="10800000">
              <a:off x="3980880" y="984960"/>
              <a:ext cx="138600" cy="608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8" name=""/>
            <p:cNvCxnSpPr>
              <a:stCxn id="1254" idx="1"/>
              <a:endCxn id="1275" idx="1"/>
            </p:cNvCxnSpPr>
            <p:nvPr/>
          </p:nvCxnSpPr>
          <p:spPr>
            <a:xfrm rot="10800000">
              <a:off x="3980880" y="984960"/>
              <a:ext cx="110160" cy="39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9" name=""/>
            <p:cNvCxnSpPr>
              <a:stCxn id="1224" idx="0"/>
              <a:endCxn id="1220" idx="4"/>
            </p:cNvCxnSpPr>
            <p:nvPr/>
          </p:nvCxnSpPr>
          <p:spPr>
            <a:xfrm flipH="1" flipV="1" rot="5400000">
              <a:off x="2889360" y="4478760"/>
              <a:ext cx="264240" cy="277092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0" name=""/>
            <p:cNvCxnSpPr>
              <a:stCxn id="1233" idx="1"/>
              <a:endCxn id="1225" idx="2"/>
            </p:cNvCxnSpPr>
            <p:nvPr/>
          </p:nvCxnSpPr>
          <p:spPr>
            <a:xfrm rot="10800000">
              <a:off x="4430880" y="6172920"/>
              <a:ext cx="133560" cy="22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1" name=""/>
            <p:cNvCxnSpPr>
              <a:stCxn id="1229" idx="1"/>
              <a:endCxn id="1222" idx="5"/>
            </p:cNvCxnSpPr>
            <p:nvPr/>
          </p:nvCxnSpPr>
          <p:spPr>
            <a:xfrm rot="10800000">
              <a:off x="7466760" y="4010760"/>
              <a:ext cx="289440" cy="1528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2" name=""/>
            <p:cNvCxnSpPr>
              <a:stCxn id="1226" idx="1"/>
              <a:endCxn id="1222" idx="5"/>
            </p:cNvCxnSpPr>
            <p:nvPr/>
          </p:nvCxnSpPr>
          <p:spPr>
            <a:xfrm rot="10800000">
              <a:off x="7466760" y="4010760"/>
              <a:ext cx="291240" cy="1040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3" name=""/>
            <p:cNvCxnSpPr>
              <a:stCxn id="1227" idx="1"/>
              <a:endCxn id="1222" idx="5"/>
            </p:cNvCxnSpPr>
            <p:nvPr/>
          </p:nvCxnSpPr>
          <p:spPr>
            <a:xfrm rot="10800000">
              <a:off x="7466760" y="4010760"/>
              <a:ext cx="286560" cy="554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4" name=""/>
            <p:cNvCxnSpPr>
              <a:stCxn id="1222" idx="5"/>
              <a:endCxn id="1228" idx="1"/>
            </p:cNvCxnSpPr>
            <p:nvPr/>
          </p:nvCxnSpPr>
          <p:spPr>
            <a:xfrm flipH="1" rot="16200000">
              <a:off x="7520400" y="3957840"/>
              <a:ext cx="165960" cy="272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85" name=""/>
            <p:cNvSpPr/>
            <p:nvPr/>
          </p:nvSpPr>
          <p:spPr>
            <a:xfrm>
              <a:off x="6646320" y="1126440"/>
              <a:ext cx="85500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ามิสสุ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ิรามิสสุ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441560" y="5762520"/>
              <a:ext cx="1900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ัฒนาการเรียนรู้ด้วยวิธีคิ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โยนิโสมนสิการ ๒ วิธ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90480" y="6381720"/>
              <a:ext cx="139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อรรถธรรมสัมพันธ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812000" y="6172200"/>
              <a:ext cx="16261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อุบายปลุกเร้าคุณธรร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9" name=""/>
            <p:cNvCxnSpPr>
              <a:stCxn id="1286" idx="1"/>
              <a:endCxn id="1222" idx="5"/>
            </p:cNvCxnSpPr>
            <p:nvPr/>
          </p:nvCxnSpPr>
          <p:spPr>
            <a:xfrm rot="10800000">
              <a:off x="7466760" y="4010760"/>
              <a:ext cx="270720" cy="1947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90" name=""/>
            <p:cNvSpPr/>
            <p:nvPr/>
          </p:nvSpPr>
          <p:spPr>
            <a:xfrm>
              <a:off x="7839000" y="61117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1" name=""/>
            <p:cNvCxnSpPr>
              <a:stCxn id="1290" idx="0"/>
              <a:endCxn id="1288" idx="1"/>
            </p:cNvCxnSpPr>
            <p:nvPr/>
          </p:nvCxnSpPr>
          <p:spPr>
            <a:xfrm flipH="1" rot="16200000">
              <a:off x="7922520" y="6172560"/>
              <a:ext cx="2160" cy="16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2" name=""/>
            <p:cNvCxnSpPr>
              <a:stCxn id="1290" idx="1"/>
              <a:endCxn id="1287" idx="1"/>
            </p:cNvCxnSpPr>
            <p:nvPr/>
          </p:nvCxnSpPr>
          <p:spPr>
            <a:xfrm flipH="1" rot="16200000">
              <a:off x="7850160" y="6244200"/>
              <a:ext cx="211680" cy="23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3" name=""/>
            <p:cNvCxnSpPr>
              <a:stCxn id="1220" idx="0"/>
              <a:endCxn id="1208" idx="3"/>
            </p:cNvCxnSpPr>
            <p:nvPr/>
          </p:nvCxnSpPr>
          <p:spPr>
            <a:xfrm flipV="1">
              <a:off x="4406400" y="4201560"/>
              <a:ext cx="484920" cy="595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4" name=""/>
            <p:cNvCxnSpPr>
              <a:stCxn id="1223" idx="0"/>
              <a:endCxn id="1208" idx="5"/>
            </p:cNvCxnSpPr>
            <p:nvPr/>
          </p:nvCxnSpPr>
          <p:spPr>
            <a:xfrm flipH="1" flipV="1">
              <a:off x="5908320" y="4201560"/>
              <a:ext cx="605520" cy="595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5" name=""/>
            <p:cNvCxnSpPr>
              <a:stCxn id="1222" idx="2"/>
              <a:endCxn id="1208" idx="6"/>
            </p:cNvCxnSpPr>
            <p:nvPr/>
          </p:nvCxnSpPr>
          <p:spPr>
            <a:xfrm flipH="1">
              <a:off x="6132600" y="3681000"/>
              <a:ext cx="536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6" name=""/>
            <p:cNvCxnSpPr>
              <a:stCxn id="1221" idx="6"/>
              <a:endCxn id="1208" idx="2"/>
            </p:cNvCxnSpPr>
            <p:nvPr/>
          </p:nvCxnSpPr>
          <p:spPr>
            <a:xfrm>
              <a:off x="4159080" y="3681000"/>
              <a:ext cx="5090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7" name=""/>
            <p:cNvCxnSpPr>
              <a:stCxn id="1209" idx="5"/>
              <a:endCxn id="1208" idx="1"/>
            </p:cNvCxnSpPr>
            <p:nvPr/>
          </p:nvCxnSpPr>
          <p:spPr>
            <a:xfrm>
              <a:off x="4527360" y="2642760"/>
              <a:ext cx="363960" cy="516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8" name=""/>
            <p:cNvCxnSpPr>
              <a:stCxn id="1210" idx="3"/>
              <a:endCxn id="1208" idx="7"/>
            </p:cNvCxnSpPr>
            <p:nvPr/>
          </p:nvCxnSpPr>
          <p:spPr>
            <a:xfrm flipH="1">
              <a:off x="5908320" y="2571480"/>
              <a:ext cx="405360" cy="58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9" name=""/>
            <p:cNvSpPr/>
            <p:nvPr/>
          </p:nvSpPr>
          <p:spPr>
            <a:xfrm>
              <a:off x="8962200" y="18900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๔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956800" y="18900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"/>
          <p:cNvGrpSpPr/>
          <p:nvPr/>
        </p:nvGrpSpPr>
        <p:grpSpPr>
          <a:xfrm>
            <a:off x="0" y="104040"/>
            <a:ext cx="9906120" cy="6468840"/>
            <a:chOff x="0" y="104040"/>
            <a:chExt cx="9906120" cy="6468840"/>
          </a:xfrm>
        </p:grpSpPr>
        <p:sp>
          <p:nvSpPr>
            <p:cNvPr id="1303" name=""/>
            <p:cNvSpPr/>
            <p:nvPr/>
          </p:nvSpPr>
          <p:spPr>
            <a:xfrm>
              <a:off x="0" y="104040"/>
              <a:ext cx="9906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 เรื่องพระสงฆ์  ชั้นมัธยมศึกษาปีที่ 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32160" y="227664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สงฆ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46520" y="1808280"/>
              <a:ext cx="97452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น้าที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22880" y="1881360"/>
              <a:ext cx="97488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ัวอย่า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86120" y="3500280"/>
              <a:ext cx="97452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ยา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62840" y="3284640"/>
              <a:ext cx="97452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มมน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6760" y="907920"/>
              <a:ext cx="97488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ิก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48160" y="4221000"/>
              <a:ext cx="976320" cy="90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พิธ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92560" y="1197000"/>
              <a:ext cx="20041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เข้าใจบทบาทของพระภิกษ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ในการเผยแผ่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6320" y="1655640"/>
              <a:ext cx="2295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ฝึกฝนบทบาทตนเอ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ในการช่วยเผยแผ่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545960" y="2532240"/>
              <a:ext cx="1551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พระมหาธรรมราชาลิไ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82600" y="1836720"/>
              <a:ext cx="185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สมเด็จพระมหาสมณเจ้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รมพระยาวชิรญาณวโรร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183320" y="4635000"/>
              <a:ext cx="157248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ยาทของผู้เป็นแข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40480" y="5766480"/>
              <a:ext cx="26895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ต่งกายไปวั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ต่งกายไปงานมงคล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/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งานอวมงค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88880" y="4694400"/>
              <a:ext cx="16826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ับการพัฒนาชุมช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การจัดระเบียบสังค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52160" y="5157000"/>
              <a:ext cx="1326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ทำบุญตักบาต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92360" y="5387400"/>
              <a:ext cx="510408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วายภัตตาหาร สิ่งของที่ควรถวาย และสิ่งของต้องห้ามสำหรับพระภิกษ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701960" y="5977800"/>
              <a:ext cx="27403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จัดเครื่องไทยธรรม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/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ครื่องไทย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35600" y="5785920"/>
              <a:ext cx="15289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วายผ้าอาบน้ำฝ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29920" y="6184440"/>
              <a:ext cx="8492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กรวดน้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12560" y="6384240"/>
              <a:ext cx="16448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ทอดกฐิน ทอดผ้าป่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607720" y="549360"/>
              <a:ext cx="970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สารีบุต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84320" y="765000"/>
              <a:ext cx="12679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โมคคัลลาน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77120" y="981000"/>
              <a:ext cx="11048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างขุชชุตตร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69560" y="1235160"/>
              <a:ext cx="12754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เจ้าพิมพิสา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74960" y="2114640"/>
              <a:ext cx="14461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เข้าค่ายคุณ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12040" y="2405160"/>
              <a:ext cx="14018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เข้าร่วมพิธีก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ทาง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4120" y="2863800"/>
              <a:ext cx="20116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เป็นลูกที่ด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ตามหลักทิศเบื้องหน้าในทิศ 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04120" y="4220640"/>
              <a:ext cx="164844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ต้อนรับ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ฏิสันถาร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6240" y="4963680"/>
              <a:ext cx="26715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ปฏิบัติระเบียบพิธีปฏิบัติต่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ภิกษุ การยืน การให้ที่นั่ง</a:t>
              </a:r>
              <a:br>
                <a:rPr sz="1400"/>
              </a:b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ดินสวน การสนทนา การรับสิ่งขอ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3" name=""/>
            <p:cNvCxnSpPr>
              <a:stCxn id="1325" idx="1"/>
              <a:endCxn id="1309" idx="6"/>
            </p:cNvCxnSpPr>
            <p:nvPr/>
          </p:nvCxnSpPr>
          <p:spPr>
            <a:xfrm flipV="1" rot="10800000">
              <a:off x="5380920" y="889560"/>
              <a:ext cx="364320" cy="46908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4" name=""/>
            <p:cNvCxnSpPr>
              <a:stCxn id="1324" idx="1"/>
              <a:endCxn id="1309" idx="6"/>
            </p:cNvCxnSpPr>
            <p:nvPr/>
          </p:nvCxnSpPr>
          <p:spPr>
            <a:xfrm flipV="1" rot="10800000">
              <a:off x="5380920" y="673560"/>
              <a:ext cx="364320" cy="68508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5" name=""/>
            <p:cNvCxnSpPr>
              <a:stCxn id="1327" idx="1"/>
              <a:endCxn id="1309" idx="6"/>
            </p:cNvCxnSpPr>
            <p:nvPr/>
          </p:nvCxnSpPr>
          <p:spPr>
            <a:xfrm rot="10800000">
              <a:off x="5380920" y="1358280"/>
              <a:ext cx="364320" cy="216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6" name=""/>
            <p:cNvCxnSpPr>
              <a:stCxn id="1326" idx="1"/>
              <a:endCxn id="1309" idx="6"/>
            </p:cNvCxnSpPr>
            <p:nvPr/>
          </p:nvCxnSpPr>
          <p:spPr>
            <a:xfrm flipV="1" rot="10800000">
              <a:off x="5380920" y="1105560"/>
              <a:ext cx="364320" cy="25308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7" name=""/>
            <p:cNvCxnSpPr>
              <a:stCxn id="1319" idx="1"/>
              <a:endCxn id="1310" idx="4"/>
            </p:cNvCxnSpPr>
            <p:nvPr/>
          </p:nvCxnSpPr>
          <p:spPr>
            <a:xfrm rot="10800000">
              <a:off x="4936320" y="5120640"/>
              <a:ext cx="212040" cy="36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8" name=""/>
            <p:cNvCxnSpPr>
              <a:stCxn id="1339" idx="1"/>
              <a:endCxn id="1310" idx="4"/>
            </p:cNvCxnSpPr>
            <p:nvPr/>
          </p:nvCxnSpPr>
          <p:spPr>
            <a:xfrm rot="10800000">
              <a:off x="4936320" y="5120640"/>
              <a:ext cx="218160" cy="56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0" name=""/>
            <p:cNvCxnSpPr>
              <a:stCxn id="1320" idx="1"/>
              <a:endCxn id="1310" idx="4"/>
            </p:cNvCxnSpPr>
            <p:nvPr/>
          </p:nvCxnSpPr>
          <p:spPr>
            <a:xfrm rot="10800000">
              <a:off x="4936320" y="5120640"/>
              <a:ext cx="218160" cy="95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1" name=""/>
            <p:cNvCxnSpPr>
              <a:stCxn id="1323" idx="1"/>
              <a:endCxn id="1310" idx="4"/>
            </p:cNvCxnSpPr>
            <p:nvPr/>
          </p:nvCxnSpPr>
          <p:spPr>
            <a:xfrm rot="10800000">
              <a:off x="4936320" y="5120640"/>
              <a:ext cx="221400" cy="13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2" name=""/>
            <p:cNvCxnSpPr>
              <a:stCxn id="1321" idx="1"/>
              <a:endCxn id="1310" idx="4"/>
            </p:cNvCxnSpPr>
            <p:nvPr/>
          </p:nvCxnSpPr>
          <p:spPr>
            <a:xfrm rot="10800000">
              <a:off x="4936320" y="5120640"/>
              <a:ext cx="218160" cy="75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3" name=""/>
            <p:cNvCxnSpPr>
              <a:stCxn id="1318" idx="1"/>
              <a:endCxn id="1310" idx="4"/>
            </p:cNvCxnSpPr>
            <p:nvPr/>
          </p:nvCxnSpPr>
          <p:spPr>
            <a:xfrm rot="10800000">
              <a:off x="4936320" y="5120640"/>
              <a:ext cx="212040" cy="14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4" name=""/>
            <p:cNvCxnSpPr>
              <a:stCxn id="1322" idx="1"/>
              <a:endCxn id="1310" idx="4"/>
            </p:cNvCxnSpPr>
            <p:nvPr/>
          </p:nvCxnSpPr>
          <p:spPr>
            <a:xfrm rot="10800000">
              <a:off x="4936320" y="5121360"/>
              <a:ext cx="221400" cy="1157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5" name=""/>
            <p:cNvCxnSpPr>
              <a:stCxn id="1317" idx="1"/>
              <a:endCxn id="1308" idx="4"/>
            </p:cNvCxnSpPr>
            <p:nvPr/>
          </p:nvCxnSpPr>
          <p:spPr>
            <a:xfrm rot="10800000">
              <a:off x="6649200" y="4184640"/>
              <a:ext cx="331200" cy="705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6" name=""/>
            <p:cNvSpPr/>
            <p:nvPr/>
          </p:nvSpPr>
          <p:spPr>
            <a:xfrm>
              <a:off x="7816680" y="1868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7" name=""/>
            <p:cNvCxnSpPr>
              <a:stCxn id="1316" idx="3"/>
              <a:endCxn id="1307" idx="2"/>
            </p:cNvCxnSpPr>
            <p:nvPr/>
          </p:nvCxnSpPr>
          <p:spPr>
            <a:xfrm flipV="1">
              <a:off x="2505240" y="3950640"/>
              <a:ext cx="381600" cy="1980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8" name=""/>
            <p:cNvCxnSpPr>
              <a:stCxn id="1332" idx="3"/>
              <a:endCxn id="1307" idx="2"/>
            </p:cNvCxnSpPr>
            <p:nvPr/>
          </p:nvCxnSpPr>
          <p:spPr>
            <a:xfrm flipV="1">
              <a:off x="2505240" y="3951000"/>
              <a:ext cx="381600" cy="13485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9" name=""/>
            <p:cNvCxnSpPr>
              <a:stCxn id="1315" idx="3"/>
              <a:endCxn id="1307" idx="2"/>
            </p:cNvCxnSpPr>
            <p:nvPr/>
          </p:nvCxnSpPr>
          <p:spPr>
            <a:xfrm flipV="1">
              <a:off x="2505240" y="3951000"/>
              <a:ext cx="381600" cy="7624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0" name=""/>
            <p:cNvCxnSpPr>
              <a:stCxn id="1331" idx="3"/>
              <a:endCxn id="1307" idx="2"/>
            </p:cNvCxnSpPr>
            <p:nvPr/>
          </p:nvCxnSpPr>
          <p:spPr>
            <a:xfrm flipV="1">
              <a:off x="2505240" y="3951000"/>
              <a:ext cx="381600" cy="3484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1" name=""/>
            <p:cNvCxnSpPr>
              <a:stCxn id="1313" idx="1"/>
              <a:endCxn id="1306" idx="6"/>
            </p:cNvCxnSpPr>
            <p:nvPr/>
          </p:nvCxnSpPr>
          <p:spPr>
            <a:xfrm rot="10800000">
              <a:off x="7097040" y="2331360"/>
              <a:ext cx="664200" cy="28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2" name=""/>
            <p:cNvCxnSpPr>
              <a:stCxn id="1314" idx="1"/>
              <a:endCxn id="1306" idx="6"/>
            </p:cNvCxnSpPr>
            <p:nvPr/>
          </p:nvCxnSpPr>
          <p:spPr>
            <a:xfrm flipV="1" rot="10800000">
              <a:off x="7097040" y="2008800"/>
              <a:ext cx="664200" cy="322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3" name=""/>
            <p:cNvCxnSpPr>
              <a:stCxn id="1328" idx="3"/>
              <a:endCxn id="1305" idx="2"/>
            </p:cNvCxnSpPr>
            <p:nvPr/>
          </p:nvCxnSpPr>
          <p:spPr>
            <a:xfrm>
              <a:off x="2301480" y="2203560"/>
              <a:ext cx="545400" cy="5616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4" name=""/>
            <p:cNvCxnSpPr>
              <a:stCxn id="1329" idx="3"/>
              <a:endCxn id="1305" idx="2"/>
            </p:cNvCxnSpPr>
            <p:nvPr/>
          </p:nvCxnSpPr>
          <p:spPr>
            <a:xfrm flipV="1">
              <a:off x="2301480" y="2258640"/>
              <a:ext cx="545400" cy="31968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5" name=""/>
            <p:cNvCxnSpPr>
              <a:stCxn id="1312" idx="3"/>
              <a:endCxn id="1305" idx="2"/>
            </p:cNvCxnSpPr>
            <p:nvPr/>
          </p:nvCxnSpPr>
          <p:spPr>
            <a:xfrm>
              <a:off x="2301480" y="1828440"/>
              <a:ext cx="545400" cy="43092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6" name=""/>
            <p:cNvCxnSpPr>
              <a:stCxn id="1311" idx="3"/>
              <a:endCxn id="1305" idx="2"/>
            </p:cNvCxnSpPr>
            <p:nvPr/>
          </p:nvCxnSpPr>
          <p:spPr>
            <a:xfrm>
              <a:off x="2301480" y="1369800"/>
              <a:ext cx="545400" cy="88956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7" name=""/>
            <p:cNvSpPr/>
            <p:nvPr/>
          </p:nvSpPr>
          <p:spPr>
            <a:xfrm>
              <a:off x="620640" y="3324240"/>
              <a:ext cx="1973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แสดงตนเป็นพุทธมามก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8" name=""/>
            <p:cNvCxnSpPr>
              <a:stCxn id="1330" idx="3"/>
              <a:endCxn id="1305" idx="2"/>
            </p:cNvCxnSpPr>
            <p:nvPr/>
          </p:nvCxnSpPr>
          <p:spPr>
            <a:xfrm flipV="1">
              <a:off x="2301480" y="2258280"/>
              <a:ext cx="545400" cy="77868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9" name=""/>
            <p:cNvCxnSpPr>
              <a:stCxn id="1357" idx="3"/>
              <a:endCxn id="1305" idx="2"/>
            </p:cNvCxnSpPr>
            <p:nvPr/>
          </p:nvCxnSpPr>
          <p:spPr>
            <a:xfrm flipV="1">
              <a:off x="2301480" y="2258640"/>
              <a:ext cx="545400" cy="1154880"/>
            </a:xfrm>
            <a:prstGeom prst="bentConnector3">
              <a:avLst>
                <a:gd name="adj1" fmla="val 498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39" name=""/>
            <p:cNvSpPr/>
            <p:nvPr/>
          </p:nvSpPr>
          <p:spPr>
            <a:xfrm>
              <a:off x="4797360" y="5587560"/>
              <a:ext cx="235476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วายสังฆทาน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/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ครื่องสังฆทา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0" name=""/>
            <p:cNvCxnSpPr>
              <a:stCxn id="1309" idx="4"/>
              <a:endCxn id="1304" idx="0"/>
            </p:cNvCxnSpPr>
            <p:nvPr/>
          </p:nvCxnSpPr>
          <p:spPr>
            <a:xfrm>
              <a:off x="4893840" y="1807920"/>
              <a:ext cx="59400" cy="456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1" name=""/>
            <p:cNvCxnSpPr>
              <a:stCxn id="1306" idx="2"/>
              <a:endCxn id="1304" idx="7"/>
            </p:cNvCxnSpPr>
            <p:nvPr/>
          </p:nvCxnSpPr>
          <p:spPr>
            <a:xfrm flipH="1">
              <a:off x="5460120" y="2331720"/>
              <a:ext cx="66276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2" name=""/>
            <p:cNvCxnSpPr>
              <a:stCxn id="1308" idx="2"/>
              <a:endCxn id="1304" idx="5"/>
            </p:cNvCxnSpPr>
            <p:nvPr/>
          </p:nvCxnSpPr>
          <p:spPr>
            <a:xfrm flipH="1" flipV="1">
              <a:off x="5460480" y="3517560"/>
              <a:ext cx="702720" cy="218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3" name=""/>
            <p:cNvCxnSpPr>
              <a:stCxn id="1310" idx="0"/>
              <a:endCxn id="1304" idx="4"/>
            </p:cNvCxnSpPr>
            <p:nvPr/>
          </p:nvCxnSpPr>
          <p:spPr>
            <a:xfrm flipV="1">
              <a:off x="4937040" y="3728160"/>
              <a:ext cx="16560" cy="492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4" name=""/>
            <p:cNvCxnSpPr>
              <a:stCxn id="1307" idx="6"/>
              <a:endCxn id="1304" idx="3"/>
            </p:cNvCxnSpPr>
            <p:nvPr/>
          </p:nvCxnSpPr>
          <p:spPr>
            <a:xfrm flipV="1">
              <a:off x="3860280" y="3517560"/>
              <a:ext cx="5835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5" name=""/>
            <p:cNvCxnSpPr>
              <a:stCxn id="1305" idx="6"/>
              <a:endCxn id="1304" idx="1"/>
            </p:cNvCxnSpPr>
            <p:nvPr/>
          </p:nvCxnSpPr>
          <p:spPr>
            <a:xfrm>
              <a:off x="3820680" y="2259000"/>
              <a:ext cx="62316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6" name=""/>
            <p:cNvSpPr/>
            <p:nvPr/>
          </p:nvSpPr>
          <p:spPr>
            <a:xfrm>
              <a:off x="8962920" y="189000"/>
              <a:ext cx="5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๔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56800" y="1890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๒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965440" y="18900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1816200" y="56880"/>
            <a:ext cx="7181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พระรัตนตรัย  ชั้นมัธยมศึกษาปีที่  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314880" y="1557360"/>
            <a:ext cx="12394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592520" y="1197000"/>
            <a:ext cx="781200" cy="32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734080" y="2028960"/>
            <a:ext cx="6602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622760" y="182880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280040" y="2755800"/>
            <a:ext cx="1403280" cy="533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00800" y="1413000"/>
            <a:ext cx="54432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175000" y="552960"/>
            <a:ext cx="81828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เคราะห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570800" y="764640"/>
            <a:ext cx="18957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19480" y="2654280"/>
            <a:ext cx="812880" cy="74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222640" y="2205000"/>
            <a:ext cx="7808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อริยสัจ 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05120" y="108720"/>
            <a:ext cx="16016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กข์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รู้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0200" y="828000"/>
            <a:ext cx="161388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ุทัย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ละ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-63000" y="1837440"/>
            <a:ext cx="17708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โรธ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บรรลุ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-60120" y="2483640"/>
            <a:ext cx="178740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เจริญ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82320" y="329400"/>
            <a:ext cx="461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ขันธ์ 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59680" y="546840"/>
            <a:ext cx="75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ไตรลักษณ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38840" y="3758400"/>
            <a:ext cx="6782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58120" y="1128240"/>
            <a:ext cx="71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ก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252520" y="3587760"/>
            <a:ext cx="9907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754280" y="3068640"/>
            <a:ext cx="1171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ศาสนสุภาษ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27360" y="3429000"/>
            <a:ext cx="1238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บริหารจ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จริญปัญญ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003480" y="3860640"/>
            <a:ext cx="10922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ัพท์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470680" y="4572000"/>
            <a:ext cx="138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โครงสร้าง</a:t>
            </a:r>
            <a:br>
              <a:rPr sz="1300"/>
            </a:b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ชื่อคัมภีร์ </a:t>
            </a:r>
            <a:br>
              <a:rPr sz="1300"/>
            </a:b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าระสังเขป</a:t>
            </a:r>
            <a:br>
              <a:rPr sz="1300"/>
            </a:b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ระอภิธรรมปิฎ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12720" y="5264640"/>
            <a:ext cx="10530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ื่องน่ารู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692880" y="5352120"/>
            <a:ext cx="175536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ตามหลักสติปัฏฐานเน้นอานาปานส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681720" y="4968000"/>
            <a:ext cx="171432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รู้และเข้าใจวิธีปฏิบัติและประโยชน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253600" y="6040800"/>
            <a:ext cx="1624320" cy="335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ัฒนาการเรียนรู้ด้วยวิธีคิ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โยนิโสมนสิการ ๒ วิธ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722400" y="4720320"/>
            <a:ext cx="1350000" cy="14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วดมนต์แปลและแผ่เมตต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668400" y="5736240"/>
            <a:ext cx="176472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ำวิธี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ไปใช้ในชีวิตประจำว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943600" y="288756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827680" y="2421000"/>
            <a:ext cx="9889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หน้าที่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215120" y="3357720"/>
            <a:ext cx="10922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วพุทธตัวอย่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980400" y="3789360"/>
            <a:ext cx="11300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746760" y="4365720"/>
            <a:ext cx="156060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 New"/>
              </a:rPr>
              <a:t>สัมม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cs typeface="Cordia New"/>
              </a:rPr>
              <a:t>กับเศรษฐกิจพอเพีย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240160" y="3645000"/>
            <a:ext cx="99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ิก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967360" y="4653000"/>
            <a:ext cx="7794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พิธ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048080" y="2718720"/>
            <a:ext cx="22172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ป็นศิษย์ที่ดีตามหลักทิศเบื้องขวา ในทิศ 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67960" y="2869560"/>
            <a:ext cx="10299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ค่ายคุณ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863400" y="3020400"/>
            <a:ext cx="21945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ร่วมพิธีกรรมทางพระพุทธศาส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128000" y="3171240"/>
            <a:ext cx="140508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ดงตนเป็นพุทธมามก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0" name=""/>
          <p:cNvCxnSpPr>
            <a:stCxn id="1373" idx="4"/>
            <a:endCxn id="1374" idx="0"/>
          </p:cNvCxnSpPr>
          <p:nvPr/>
        </p:nvCxnSpPr>
        <p:spPr>
          <a:xfrm flipH="1">
            <a:off x="4980960" y="2527200"/>
            <a:ext cx="13320" cy="2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1" name=""/>
          <p:cNvCxnSpPr>
            <a:stCxn id="1378" idx="6"/>
            <a:endCxn id="1374" idx="1"/>
          </p:cNvCxnSpPr>
          <p:nvPr/>
        </p:nvCxnSpPr>
        <p:spPr>
          <a:xfrm flipV="1">
            <a:off x="4044960" y="3022200"/>
            <a:ext cx="20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2" name=""/>
          <p:cNvCxnSpPr>
            <a:stCxn id="1399" idx="2"/>
            <a:endCxn id="1374" idx="3"/>
          </p:cNvCxnSpPr>
          <p:nvPr/>
        </p:nvCxnSpPr>
        <p:spPr>
          <a:xfrm flipH="1" flipV="1">
            <a:off x="5713200" y="3022200"/>
            <a:ext cx="21816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3" name=""/>
          <p:cNvCxnSpPr>
            <a:stCxn id="1373" idx="2"/>
            <a:endCxn id="1370" idx="5"/>
          </p:cNvCxnSpPr>
          <p:nvPr/>
        </p:nvCxnSpPr>
        <p:spPr>
          <a:xfrm flipH="1" flipV="1">
            <a:off x="4371480" y="2109600"/>
            <a:ext cx="2390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4" name=""/>
          <p:cNvCxnSpPr>
            <a:stCxn id="1373" idx="7"/>
            <a:endCxn id="1375" idx="3"/>
          </p:cNvCxnSpPr>
          <p:nvPr/>
        </p:nvCxnSpPr>
        <p:spPr>
          <a:xfrm flipV="1">
            <a:off x="5257440" y="1627920"/>
            <a:ext cx="3229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5" name=""/>
          <p:cNvCxnSpPr>
            <a:stCxn id="1373" idx="6"/>
            <a:endCxn id="1372" idx="2"/>
          </p:cNvCxnSpPr>
          <p:nvPr/>
        </p:nvCxnSpPr>
        <p:spPr>
          <a:xfrm>
            <a:off x="5379840" y="217188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373" idx="0"/>
            <a:endCxn id="1371" idx="4"/>
          </p:cNvCxnSpPr>
          <p:nvPr/>
        </p:nvCxnSpPr>
        <p:spPr>
          <a:xfrm flipH="1" flipV="1">
            <a:off x="4982400" y="1523520"/>
            <a:ext cx="118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236160" y="1480320"/>
            <a:ext cx="1013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ปปัญจธรรม 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72880" y="105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51000" y="2062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0" name=""/>
          <p:cNvCxnSpPr>
            <a:stCxn id="1388" idx="7"/>
            <a:endCxn id="1378" idx="3"/>
          </p:cNvCxnSpPr>
          <p:nvPr/>
        </p:nvCxnSpPr>
        <p:spPr>
          <a:xfrm flipV="1">
            <a:off x="3098880" y="3306240"/>
            <a:ext cx="2404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389" idx="6"/>
            <a:endCxn id="1378" idx="3"/>
          </p:cNvCxnSpPr>
          <p:nvPr/>
        </p:nvCxnSpPr>
        <p:spPr>
          <a:xfrm>
            <a:off x="2925360" y="3284280"/>
            <a:ext cx="4136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391" idx="0"/>
            <a:endCxn id="1378" idx="4"/>
          </p:cNvCxnSpPr>
          <p:nvPr/>
        </p:nvCxnSpPr>
        <p:spPr>
          <a:xfrm flipV="1">
            <a:off x="3549600" y="3416040"/>
            <a:ext cx="76680" cy="44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3" name=""/>
          <p:cNvCxnSpPr>
            <a:stCxn id="1390" idx="0"/>
            <a:endCxn id="1378" idx="5"/>
          </p:cNvCxnSpPr>
          <p:nvPr/>
        </p:nvCxnSpPr>
        <p:spPr>
          <a:xfrm flipH="1" flipV="1">
            <a:off x="3912840" y="330624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4" name=""/>
          <p:cNvCxnSpPr>
            <a:stCxn id="1404" idx="0"/>
            <a:endCxn id="1399" idx="3"/>
          </p:cNvCxnSpPr>
          <p:nvPr/>
        </p:nvCxnSpPr>
        <p:spPr>
          <a:xfrm flipV="1">
            <a:off x="5735520" y="3485520"/>
            <a:ext cx="3178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5" name=""/>
          <p:cNvCxnSpPr>
            <a:stCxn id="1405" idx="0"/>
            <a:endCxn id="1399" idx="4"/>
          </p:cNvCxnSpPr>
          <p:nvPr/>
        </p:nvCxnSpPr>
        <p:spPr>
          <a:xfrm flipH="1" flipV="1">
            <a:off x="6314400" y="3585600"/>
            <a:ext cx="435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6" name=""/>
          <p:cNvCxnSpPr>
            <a:stCxn id="1402" idx="1"/>
            <a:endCxn id="1399" idx="5"/>
          </p:cNvCxnSpPr>
          <p:nvPr/>
        </p:nvCxnSpPr>
        <p:spPr>
          <a:xfrm flipH="1" flipV="1">
            <a:off x="6578280" y="3485880"/>
            <a:ext cx="56736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7" name=""/>
          <p:cNvCxnSpPr>
            <a:stCxn id="1401" idx="1"/>
            <a:endCxn id="1399" idx="6"/>
          </p:cNvCxnSpPr>
          <p:nvPr/>
        </p:nvCxnSpPr>
        <p:spPr>
          <a:xfrm flipH="1" flipV="1">
            <a:off x="6700320" y="3230280"/>
            <a:ext cx="6739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8" name=""/>
          <p:cNvCxnSpPr>
            <a:stCxn id="1400" idx="4"/>
            <a:endCxn id="1399" idx="0"/>
          </p:cNvCxnSpPr>
          <p:nvPr/>
        </p:nvCxnSpPr>
        <p:spPr>
          <a:xfrm flipH="1">
            <a:off x="6314760" y="2707920"/>
            <a:ext cx="720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9" name=""/>
          <p:cNvSpPr/>
          <p:nvPr/>
        </p:nvSpPr>
        <p:spPr>
          <a:xfrm>
            <a:off x="1680840" y="550800"/>
            <a:ext cx="1769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ข้าสู่ประเทศต่าง ๆ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ั่วโล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การนับถือ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ประเทศเหล่านั้นในปัจจุบั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784880" y="1267560"/>
            <a:ext cx="1537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ช่วยสร้างสรรค์อาร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ความสงบสุขให้แก่โล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563640" y="552960"/>
            <a:ext cx="154368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ศึกษาพุทธประว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จากพระพุทธรูปปางต่าง 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67480" y="1177200"/>
            <a:ext cx="1218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วัณณหังสชาด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695200" y="969120"/>
            <a:ext cx="1095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นันทิวิสาลชาด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74560" y="477720"/>
            <a:ext cx="675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ปฐมเทศ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943600" y="706320"/>
            <a:ext cx="9417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โอวาทปาฏิโมกข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67200" y="252720"/>
            <a:ext cx="19886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วัน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างพระพุทธศาสนาในประเทศไท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10760" y="585720"/>
            <a:ext cx="16045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วิสาขบูชาวันสำคัญสาก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023320" y="818280"/>
            <a:ext cx="17539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ปฏิบัติตน  การฟังพระธรรมเทศ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ในการประกอบพิธีที่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งดเว้นอบายมุข   การประพฤติวิรัติในวันธรรมสวนะและเทศกาล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797880" y="1643040"/>
            <a:ext cx="3309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รียนรู้ถึงหน้าที่ของพระภิกษุในการปฏิบัติตามหลักพระธรรมวิน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และจริยาวัตรอย่าง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815520" y="1930320"/>
            <a:ext cx="3330000" cy="1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ปลูกจิตสำนึกในด้านการบำรุงรักษาวัด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พุทธสถานให้เกิดประโยชน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843960" y="2097000"/>
            <a:ext cx="3241440" cy="1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ปฏิบัติหน้าที่ชาวพุทธตามพุทธปณิธาน ๔ ในมหาปรินิพพานสูต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891840" y="2263680"/>
            <a:ext cx="264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ศึกษาเรียนรู้เรื่ององค์ประกอบของพระพุทธศาส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นำไปปฏิบัติและเผยแผ่ตามโอกา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978600" y="2552760"/>
            <a:ext cx="2017800" cy="1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ศึกษาการรวมตัวขององค์กรชาวพุท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689960" y="9079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5" name=""/>
          <p:cNvCxnSpPr>
            <a:stCxn id="1436" idx="1"/>
            <a:endCxn id="1444" idx="0"/>
          </p:cNvCxnSpPr>
          <p:nvPr/>
        </p:nvCxnSpPr>
        <p:spPr>
          <a:xfrm flipV="1" rot="10800000">
            <a:off x="7689240" y="382680"/>
            <a:ext cx="154440" cy="52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6" name=""/>
          <p:cNvCxnSpPr>
            <a:stCxn id="1437" idx="1"/>
            <a:endCxn id="1444" idx="0"/>
          </p:cNvCxnSpPr>
          <p:nvPr/>
        </p:nvCxnSpPr>
        <p:spPr>
          <a:xfrm flipV="1" rot="10800000">
            <a:off x="7689240" y="653040"/>
            <a:ext cx="143640" cy="25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377" idx="1"/>
            <a:endCxn id="1444" idx="0"/>
          </p:cNvCxnSpPr>
          <p:nvPr/>
        </p:nvCxnSpPr>
        <p:spPr>
          <a:xfrm flipV="1" rot="10800000">
            <a:off x="7689240" y="860040"/>
            <a:ext cx="151560" cy="48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8220960" y="3333600"/>
            <a:ext cx="1569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ม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CordiaUPC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จ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CordiaUPC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หญิงพูนพิสมัย ดิศกุ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182080" y="3573360"/>
            <a:ext cx="1875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ศาสตราจารย์สัญญา ธรรมศักด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220600" y="4005360"/>
            <a:ext cx="181368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ต่อพระภิกษ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งานศาสนพิธีที่บ้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เตรียมสถานที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นท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การพู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ใช้คำพูดกับพระภิกษุตามฐาน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1" name=""/>
          <p:cNvCxnSpPr>
            <a:stCxn id="1402" idx="6"/>
          </p:cNvCxnSpPr>
          <p:nvPr/>
        </p:nvCxnSpPr>
        <p:spPr>
          <a:xfrm>
            <a:off x="8110080" y="3970080"/>
            <a:ext cx="353160" cy="3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2" name=""/>
          <p:cNvSpPr/>
          <p:nvPr/>
        </p:nvSpPr>
        <p:spPr>
          <a:xfrm>
            <a:off x="6323760" y="5229000"/>
            <a:ext cx="1215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ิธีทำบุญงานมงคล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อวมงค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139800" y="5575680"/>
            <a:ext cx="29430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นิมนต์พระภิกษุ  การเตรียมที่ตั้งพระพุทธรู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ครื่องบูชา  การวงสายสิญจน์ การปูลาดอาสน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ตรียมเครื่องรับรอง การจุดธูปเท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314040" y="6152040"/>
            <a:ext cx="13946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้อปฏิบัติในวันเลี้ยงพร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ข้าวพระพุท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ไท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418280" y="4004640"/>
            <a:ext cx="13777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อัญญาโกณฑัญญ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626720" y="4165200"/>
            <a:ext cx="11307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มหาปชาบดีเถร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63320" y="4323960"/>
            <a:ext cx="7452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ขมาเถร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596480" y="4482720"/>
            <a:ext cx="11703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ปเสนทิโกศ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9" name=""/>
          <p:cNvCxnSpPr>
            <a:stCxn id="1405" idx="4"/>
            <a:endCxn id="1452" idx="1"/>
          </p:cNvCxnSpPr>
          <p:nvPr/>
        </p:nvCxnSpPr>
        <p:spPr>
          <a:xfrm flipH="1" rot="16200000">
            <a:off x="6234120" y="5136120"/>
            <a:ext cx="3657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2743920" y="6451560"/>
            <a:ext cx="7038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Angsana New"/>
              </a:rPr>
              <a:t>แบบอริยสั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654640" y="6622920"/>
            <a:ext cx="12646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Angsana New"/>
              </a:rPr>
              <a:t>แบบสืบสาวเหตุปัจจ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171240" y="4309920"/>
            <a:ext cx="41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ตต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4437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8468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5" name=""/>
          <p:cNvCxnSpPr>
            <a:stCxn id="1397" idx="1"/>
            <a:endCxn id="1464" idx="0"/>
          </p:cNvCxnSpPr>
          <p:nvPr/>
        </p:nvCxnSpPr>
        <p:spPr>
          <a:xfrm rot="10800000">
            <a:off x="3783960" y="4580640"/>
            <a:ext cx="91080" cy="212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6" name=""/>
          <p:cNvCxnSpPr>
            <a:stCxn id="1395" idx="1"/>
            <a:endCxn id="1464" idx="1"/>
          </p:cNvCxnSpPr>
          <p:nvPr/>
        </p:nvCxnSpPr>
        <p:spPr>
          <a:xfrm rot="10800000">
            <a:off x="3783960" y="4580640"/>
            <a:ext cx="91080" cy="52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7" name=""/>
          <p:cNvCxnSpPr>
            <a:stCxn id="1394" idx="1"/>
            <a:endCxn id="1464" idx="1"/>
          </p:cNvCxnSpPr>
          <p:nvPr/>
        </p:nvCxnSpPr>
        <p:spPr>
          <a:xfrm rot="10800000">
            <a:off x="3783960" y="4580640"/>
            <a:ext cx="91080" cy="912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8" name=""/>
          <p:cNvCxnSpPr>
            <a:stCxn id="1398" idx="1"/>
            <a:endCxn id="1464" idx="1"/>
          </p:cNvCxnSpPr>
          <p:nvPr/>
        </p:nvCxnSpPr>
        <p:spPr>
          <a:xfrm rot="10800000">
            <a:off x="3783960" y="4580640"/>
            <a:ext cx="76680" cy="129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9" name=""/>
          <p:cNvCxnSpPr>
            <a:stCxn id="1396" idx="3"/>
            <a:endCxn id="1464" idx="1"/>
          </p:cNvCxnSpPr>
          <p:nvPr/>
        </p:nvCxnSpPr>
        <p:spPr>
          <a:xfrm flipV="1">
            <a:off x="3673080" y="4581000"/>
            <a:ext cx="111960" cy="1627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0" name=""/>
          <p:cNvSpPr/>
          <p:nvPr/>
        </p:nvSpPr>
        <p:spPr>
          <a:xfrm>
            <a:off x="369252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1" name=""/>
          <p:cNvCxnSpPr>
            <a:stCxn id="1390" idx="4"/>
            <a:endCxn id="1463" idx="0"/>
          </p:cNvCxnSpPr>
          <p:nvPr/>
        </p:nvCxnSpPr>
        <p:spPr>
          <a:xfrm rot="5400000">
            <a:off x="3739320" y="3930480"/>
            <a:ext cx="551520" cy="462600"/>
          </a:xfrm>
          <a:prstGeom prst="bentConnector3">
            <a:avLst>
              <a:gd name="adj1" fmla="val 996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73" idx="3"/>
            <a:endCxn id="1470" idx="0"/>
          </p:cNvCxnSpPr>
          <p:nvPr/>
        </p:nvCxnSpPr>
        <p:spPr>
          <a:xfrm flipV="1">
            <a:off x="3557160" y="4436280"/>
            <a:ext cx="135720" cy="121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4" name=""/>
          <p:cNvSpPr/>
          <p:nvPr/>
        </p:nvSpPr>
        <p:spPr>
          <a:xfrm>
            <a:off x="269244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"/>
          <p:cNvCxnSpPr>
            <a:stCxn id="1461" idx="1"/>
            <a:endCxn id="1474" idx="0"/>
          </p:cNvCxnSpPr>
          <p:nvPr/>
        </p:nvCxnSpPr>
        <p:spPr>
          <a:xfrm rot="10800000">
            <a:off x="2691720" y="6523920"/>
            <a:ext cx="148320" cy="18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6" name=""/>
          <p:cNvCxnSpPr>
            <a:stCxn id="1460" idx="1"/>
            <a:endCxn id="1474" idx="1"/>
          </p:cNvCxnSpPr>
          <p:nvPr/>
        </p:nvCxnSpPr>
        <p:spPr>
          <a:xfrm rot="10800000">
            <a:off x="2692440" y="6523920"/>
            <a:ext cx="155880" cy="13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7" name=""/>
          <p:cNvSpPr/>
          <p:nvPr/>
        </p:nvSpPr>
        <p:spPr>
          <a:xfrm>
            <a:off x="2593080" y="5589360"/>
            <a:ext cx="1286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ณิธาน 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มหาปรินิพพานสูต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57360" y="3860640"/>
            <a:ext cx="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9" name=""/>
          <p:cNvCxnSpPr>
            <a:stCxn id="1478" idx="0"/>
            <a:endCxn id="1392" idx="1"/>
          </p:cNvCxnSpPr>
          <p:nvPr/>
        </p:nvCxnSpPr>
        <p:spPr>
          <a:xfrm flipH="1" rot="16200000">
            <a:off x="2295360" y="4546080"/>
            <a:ext cx="508680" cy="185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0" name=""/>
          <p:cNvCxnSpPr>
            <a:stCxn id="1478" idx="1"/>
            <a:endCxn id="1393" idx="1"/>
          </p:cNvCxnSpPr>
          <p:nvPr/>
        </p:nvCxnSpPr>
        <p:spPr>
          <a:xfrm flipH="1" rot="16200000">
            <a:off x="1981080" y="4860000"/>
            <a:ext cx="1023120" cy="72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1" name=""/>
          <p:cNvSpPr/>
          <p:nvPr/>
        </p:nvSpPr>
        <p:spPr>
          <a:xfrm>
            <a:off x="2692440" y="54910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2" name=""/>
          <p:cNvCxnSpPr>
            <a:stCxn id="1477" idx="1"/>
            <a:endCxn id="1481" idx="0"/>
          </p:cNvCxnSpPr>
          <p:nvPr/>
        </p:nvCxnSpPr>
        <p:spPr>
          <a:xfrm rot="10800000">
            <a:off x="2691720" y="5563440"/>
            <a:ext cx="4824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3" name=""/>
          <p:cNvSpPr/>
          <p:nvPr/>
        </p:nvSpPr>
        <p:spPr>
          <a:xfrm>
            <a:off x="1989000" y="2708280"/>
            <a:ext cx="7797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งฆคุณ 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46840" y="1267560"/>
            <a:ext cx="525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ฏฏะ 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75840" y="2129760"/>
            <a:ext cx="542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ตถะ 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6" name=""/>
          <p:cNvCxnSpPr>
            <a:stCxn id="1485" idx="1"/>
            <a:endCxn id="1419" idx="0"/>
          </p:cNvCxnSpPr>
          <p:nvPr/>
        </p:nvCxnSpPr>
        <p:spPr>
          <a:xfrm rot="10800000">
            <a:off x="350280" y="2133000"/>
            <a:ext cx="73440" cy="10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384480" y="2821680"/>
            <a:ext cx="972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มีองค์ 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7920" y="3196440"/>
            <a:ext cx="10774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ปปุริสธรรม 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0280" y="3009240"/>
            <a:ext cx="66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ปัญญา 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74760" y="3571200"/>
            <a:ext cx="1062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อุบาสกธรรม 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71520" y="3384000"/>
            <a:ext cx="1209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บุญกิริยาวัตถุ ๑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90680" y="4452480"/>
            <a:ext cx="1406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นทนาธรรม ตามก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79440" y="33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73040" y="5176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5" name=""/>
          <p:cNvCxnSpPr>
            <a:stCxn id="1384" idx="1"/>
            <a:endCxn id="1493" idx="0"/>
          </p:cNvCxnSpPr>
          <p:nvPr/>
        </p:nvCxnSpPr>
        <p:spPr>
          <a:xfrm rot="10800000">
            <a:off x="378720" y="403920"/>
            <a:ext cx="65520" cy="3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6" name=""/>
          <p:cNvCxnSpPr>
            <a:stCxn id="1385" idx="1"/>
            <a:endCxn id="1494" idx="0"/>
          </p:cNvCxnSpPr>
          <p:nvPr/>
        </p:nvCxnSpPr>
        <p:spPr>
          <a:xfrm rot="10800000">
            <a:off x="472320" y="588240"/>
            <a:ext cx="478440" cy="69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7" name=""/>
          <p:cNvSpPr/>
          <p:nvPr/>
        </p:nvSpPr>
        <p:spPr>
          <a:xfrm>
            <a:off x="1754280" y="33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8" name=""/>
          <p:cNvCxnSpPr>
            <a:endCxn id="1497" idx="0"/>
          </p:cNvCxnSpPr>
          <p:nvPr/>
        </p:nvCxnSpPr>
        <p:spPr>
          <a:xfrm flipV="1" rot="16200000">
            <a:off x="1087920" y="1214640"/>
            <a:ext cx="1800720" cy="469080"/>
          </a:xfrm>
          <a:prstGeom prst="bentConnector3">
            <a:avLst>
              <a:gd name="adj1" fmla="val 2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9" name=""/>
          <p:cNvCxnSpPr>
            <a:stCxn id="1383" idx="3"/>
            <a:endCxn id="1497" idx="1"/>
          </p:cNvCxnSpPr>
          <p:nvPr/>
        </p:nvCxnSpPr>
        <p:spPr>
          <a:xfrm flipV="1">
            <a:off x="1525320" y="548640"/>
            <a:ext cx="229320" cy="204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0" name=""/>
          <p:cNvCxnSpPr>
            <a:stCxn id="1382" idx="3"/>
            <a:endCxn id="1497" idx="1"/>
          </p:cNvCxnSpPr>
          <p:nvPr/>
        </p:nvCxnSpPr>
        <p:spPr>
          <a:xfrm flipV="1">
            <a:off x="1521000" y="548640"/>
            <a:ext cx="234000" cy="139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1" name=""/>
          <p:cNvCxnSpPr>
            <a:stCxn id="1381" idx="3"/>
            <a:endCxn id="1497" idx="1"/>
          </p:cNvCxnSpPr>
          <p:nvPr/>
        </p:nvCxnSpPr>
        <p:spPr>
          <a:xfrm flipV="1">
            <a:off x="1521000" y="549000"/>
            <a:ext cx="234000" cy="38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2" name=""/>
          <p:cNvCxnSpPr>
            <a:stCxn id="1380" idx="3"/>
            <a:endCxn id="1497" idx="0"/>
          </p:cNvCxnSpPr>
          <p:nvPr/>
        </p:nvCxnSpPr>
        <p:spPr>
          <a:xfrm>
            <a:off x="1522440" y="218880"/>
            <a:ext cx="23256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3" name=""/>
          <p:cNvCxnSpPr>
            <a:stCxn id="1489" idx="1"/>
            <a:endCxn id="1504" idx="0"/>
          </p:cNvCxnSpPr>
          <p:nvPr/>
        </p:nvCxnSpPr>
        <p:spPr>
          <a:xfrm rot="10800000">
            <a:off x="428040" y="2851920"/>
            <a:ext cx="7992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5" name=""/>
          <p:cNvCxnSpPr>
            <a:stCxn id="1491" idx="1"/>
            <a:endCxn id="1504" idx="1"/>
          </p:cNvCxnSpPr>
          <p:nvPr/>
        </p:nvCxnSpPr>
        <p:spPr>
          <a:xfrm rot="10800000">
            <a:off x="428040" y="2851920"/>
            <a:ext cx="79920" cy="642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6" name=""/>
          <p:cNvCxnSpPr>
            <a:stCxn id="1386" idx="1"/>
            <a:endCxn id="1504" idx="1"/>
          </p:cNvCxnSpPr>
          <p:nvPr/>
        </p:nvCxnSpPr>
        <p:spPr>
          <a:xfrm rot="10800000">
            <a:off x="428040" y="2851920"/>
            <a:ext cx="7992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7" name=""/>
          <p:cNvCxnSpPr>
            <a:stCxn id="1490" idx="1"/>
            <a:endCxn id="1504" idx="1"/>
          </p:cNvCxnSpPr>
          <p:nvPr/>
        </p:nvCxnSpPr>
        <p:spPr>
          <a:xfrm rot="10800000">
            <a:off x="428040" y="2851920"/>
            <a:ext cx="79920" cy="82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8" name=""/>
          <p:cNvCxnSpPr>
            <a:stCxn id="1488" idx="1"/>
            <a:endCxn id="1504" idx="1"/>
          </p:cNvCxnSpPr>
          <p:nvPr/>
        </p:nvCxnSpPr>
        <p:spPr>
          <a:xfrm rot="10800000">
            <a:off x="428040" y="2851920"/>
            <a:ext cx="79920" cy="45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9" name=""/>
          <p:cNvCxnSpPr>
            <a:stCxn id="1487" idx="1"/>
            <a:endCxn id="1504" idx="1"/>
          </p:cNvCxnSpPr>
          <p:nvPr/>
        </p:nvCxnSpPr>
        <p:spPr>
          <a:xfrm rot="10800000">
            <a:off x="428040" y="2851920"/>
            <a:ext cx="79920" cy="80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0" name=""/>
          <p:cNvCxnSpPr>
            <a:stCxn id="1483" idx="6"/>
            <a:endCxn id="1378" idx="2"/>
          </p:cNvCxnSpPr>
          <p:nvPr/>
        </p:nvCxnSpPr>
        <p:spPr>
          <a:xfrm>
            <a:off x="2768400" y="2852640"/>
            <a:ext cx="43884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1" name=""/>
          <p:cNvSpPr/>
          <p:nvPr/>
        </p:nvSpPr>
        <p:spPr>
          <a:xfrm>
            <a:off x="589680" y="4149360"/>
            <a:ext cx="629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พบสมณ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15880" y="4300200"/>
            <a:ext cx="11016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ฟังธรรมตามก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71680" y="3997080"/>
            <a:ext cx="758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มีศิลปวิทย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2876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5" name=""/>
          <p:cNvCxnSpPr>
            <a:stCxn id="1387" idx="1"/>
            <a:endCxn id="1418" idx="0"/>
          </p:cNvCxnSpPr>
          <p:nvPr/>
        </p:nvCxnSpPr>
        <p:spPr>
          <a:xfrm rot="10800000">
            <a:off x="272160" y="1196280"/>
            <a:ext cx="78840" cy="3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417" idx="1"/>
            <a:endCxn id="1418" idx="1"/>
          </p:cNvCxnSpPr>
          <p:nvPr/>
        </p:nvCxnSpPr>
        <p:spPr>
          <a:xfrm rot="10800000">
            <a:off x="272160" y="1196280"/>
            <a:ext cx="83520" cy="394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506520" y="126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8" name=""/>
          <p:cNvCxnSpPr>
            <a:stCxn id="1484" idx="1"/>
            <a:endCxn id="1517" idx="0"/>
          </p:cNvCxnSpPr>
          <p:nvPr/>
        </p:nvCxnSpPr>
        <p:spPr>
          <a:xfrm rot="10800000">
            <a:off x="505800" y="1340640"/>
            <a:ext cx="79920" cy="37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585720" y="3914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0" name=""/>
          <p:cNvCxnSpPr>
            <a:stCxn id="1513" idx="1"/>
            <a:endCxn id="1519" idx="0"/>
          </p:cNvCxnSpPr>
          <p:nvPr/>
        </p:nvCxnSpPr>
        <p:spPr>
          <a:xfrm rot="10800000">
            <a:off x="585000" y="3985560"/>
            <a:ext cx="691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1" name=""/>
          <p:cNvCxnSpPr>
            <a:stCxn id="1511" idx="1"/>
            <a:endCxn id="1519" idx="1"/>
          </p:cNvCxnSpPr>
          <p:nvPr/>
        </p:nvCxnSpPr>
        <p:spPr>
          <a:xfrm rot="10800000">
            <a:off x="585000" y="3985560"/>
            <a:ext cx="6912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2" name=""/>
          <p:cNvCxnSpPr>
            <a:stCxn id="1512" idx="1"/>
            <a:endCxn id="1519" idx="1"/>
          </p:cNvCxnSpPr>
          <p:nvPr/>
        </p:nvCxnSpPr>
        <p:spPr>
          <a:xfrm rot="10800000">
            <a:off x="585000" y="3985560"/>
            <a:ext cx="69120" cy="41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3" name=""/>
          <p:cNvCxnSpPr>
            <a:stCxn id="1492" idx="1"/>
            <a:endCxn id="1519" idx="1"/>
          </p:cNvCxnSpPr>
          <p:nvPr/>
        </p:nvCxnSpPr>
        <p:spPr>
          <a:xfrm rot="10800000">
            <a:off x="585000" y="3985560"/>
            <a:ext cx="69120" cy="57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4" name=""/>
          <p:cNvSpPr/>
          <p:nvPr/>
        </p:nvSpPr>
        <p:spPr>
          <a:xfrm>
            <a:off x="22734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5" name=""/>
          <p:cNvCxnSpPr>
            <a:stCxn id="1526" idx="3"/>
            <a:endCxn id="1524" idx="0"/>
          </p:cNvCxnSpPr>
          <p:nvPr/>
        </p:nvCxnSpPr>
        <p:spPr>
          <a:xfrm flipV="1">
            <a:off x="2141640" y="4581000"/>
            <a:ext cx="13248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7" name=""/>
          <p:cNvCxnSpPr>
            <a:stCxn id="1528" idx="3"/>
            <a:endCxn id="1524" idx="1"/>
          </p:cNvCxnSpPr>
          <p:nvPr/>
        </p:nvCxnSpPr>
        <p:spPr>
          <a:xfrm flipV="1">
            <a:off x="2141640" y="4580640"/>
            <a:ext cx="132480" cy="96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9" name=""/>
          <p:cNvCxnSpPr>
            <a:stCxn id="1530" idx="3"/>
            <a:endCxn id="1524" idx="1"/>
          </p:cNvCxnSpPr>
          <p:nvPr/>
        </p:nvCxnSpPr>
        <p:spPr>
          <a:xfrm flipV="1">
            <a:off x="2141640" y="4581360"/>
            <a:ext cx="132480" cy="140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1" name=""/>
          <p:cNvCxnSpPr>
            <a:stCxn id="1532" idx="3"/>
            <a:endCxn id="1524" idx="1"/>
          </p:cNvCxnSpPr>
          <p:nvPr/>
        </p:nvCxnSpPr>
        <p:spPr>
          <a:xfrm flipV="1">
            <a:off x="2141640" y="4580640"/>
            <a:ext cx="132480" cy="183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3" name=""/>
          <p:cNvCxnSpPr>
            <a:stCxn id="1389" idx="3"/>
            <a:endCxn id="1524" idx="0"/>
          </p:cNvCxnSpPr>
          <p:nvPr/>
        </p:nvCxnSpPr>
        <p:spPr>
          <a:xfrm flipH="1" rot="16200000">
            <a:off x="1635840" y="3727800"/>
            <a:ext cx="929520" cy="347040"/>
          </a:xfrm>
          <a:prstGeom prst="bentConnector3">
            <a:avLst>
              <a:gd name="adj1" fmla="val 5331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3" name=""/>
          <p:cNvSpPr/>
          <p:nvPr/>
        </p:nvSpPr>
        <p:spPr>
          <a:xfrm>
            <a:off x="3091680" y="4457520"/>
            <a:ext cx="525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อนัตต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394080" y="1484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"/>
          <p:cNvCxnSpPr>
            <a:stCxn id="1370" idx="1"/>
            <a:endCxn id="1534" idx="0"/>
          </p:cNvCxnSpPr>
          <p:nvPr/>
        </p:nvCxnSpPr>
        <p:spPr>
          <a:xfrm flipV="1" rot="16200000">
            <a:off x="3396600" y="1551960"/>
            <a:ext cx="97560" cy="104040"/>
          </a:xfrm>
          <a:prstGeom prst="bentConnector3">
            <a:avLst>
              <a:gd name="adj1" fmla="val 981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6" name=""/>
          <p:cNvCxnSpPr>
            <a:stCxn id="1430" idx="3"/>
            <a:endCxn id="1534" idx="0"/>
          </p:cNvCxnSpPr>
          <p:nvPr/>
        </p:nvCxnSpPr>
        <p:spPr>
          <a:xfrm>
            <a:off x="3106800" y="1407960"/>
            <a:ext cx="288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7" name=""/>
          <p:cNvCxnSpPr>
            <a:stCxn id="1429" idx="3"/>
            <a:endCxn id="1534" idx="0"/>
          </p:cNvCxnSpPr>
          <p:nvPr/>
        </p:nvCxnSpPr>
        <p:spPr>
          <a:xfrm>
            <a:off x="3201840" y="837720"/>
            <a:ext cx="192960" cy="64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3593160" y="885960"/>
            <a:ext cx="10958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เช่น 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างมารวิช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    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างปฐมเทศ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   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างลีล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    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างประจำวันเกิ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11020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0" name=""/>
          <p:cNvCxnSpPr>
            <a:stCxn id="1376" idx="1"/>
            <a:endCxn id="1539" idx="0"/>
          </p:cNvCxnSpPr>
          <p:nvPr/>
        </p:nvCxnSpPr>
        <p:spPr>
          <a:xfrm flipV="1" rot="10800000">
            <a:off x="5109480" y="692640"/>
            <a:ext cx="15480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1" name=""/>
          <p:cNvCxnSpPr>
            <a:stCxn id="1431" idx="3"/>
            <a:endCxn id="1539" idx="0"/>
          </p:cNvCxnSpPr>
          <p:nvPr/>
        </p:nvCxnSpPr>
        <p:spPr>
          <a:xfrm>
            <a:off x="4923000" y="693360"/>
            <a:ext cx="18792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2" name=""/>
          <p:cNvCxnSpPr>
            <a:stCxn id="1371" idx="0"/>
            <a:endCxn id="1539" idx="1"/>
          </p:cNvCxnSpPr>
          <p:nvPr/>
        </p:nvCxnSpPr>
        <p:spPr>
          <a:xfrm flipH="1" flipV="1" rot="5400000">
            <a:off x="4938120" y="1024920"/>
            <a:ext cx="216720" cy="127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3" name=""/>
          <p:cNvCxnSpPr>
            <a:stCxn id="1376" idx="3"/>
            <a:endCxn id="1434" idx="1"/>
          </p:cNvCxnSpPr>
          <p:nvPr/>
        </p:nvCxnSpPr>
        <p:spPr>
          <a:xfrm flipV="1">
            <a:off x="5905440" y="572400"/>
            <a:ext cx="164160" cy="121320"/>
          </a:xfrm>
          <a:prstGeom prst="bentConnector3">
            <a:avLst>
              <a:gd name="adj1" fmla="val 494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4" name=""/>
          <p:cNvCxnSpPr>
            <a:stCxn id="1376" idx="3"/>
            <a:endCxn id="1435" idx="1"/>
          </p:cNvCxnSpPr>
          <p:nvPr/>
        </p:nvCxnSpPr>
        <p:spPr>
          <a:xfrm>
            <a:off x="5905440" y="693720"/>
            <a:ext cx="164160" cy="108720"/>
          </a:xfrm>
          <a:prstGeom prst="bentConnector3">
            <a:avLst>
              <a:gd name="adj1" fmla="val 494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5" name=""/>
          <p:cNvCxnSpPr>
            <a:stCxn id="1375" idx="0"/>
            <a:endCxn id="1433" idx="1"/>
          </p:cNvCxnSpPr>
          <p:nvPr/>
        </p:nvCxnSpPr>
        <p:spPr>
          <a:xfrm flipH="1" flipV="1" rot="5400000">
            <a:off x="5617440" y="1213920"/>
            <a:ext cx="354960" cy="43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6" name=""/>
          <p:cNvCxnSpPr>
            <a:stCxn id="1375" idx="0"/>
            <a:endCxn id="1432" idx="1"/>
          </p:cNvCxnSpPr>
          <p:nvPr/>
        </p:nvCxnSpPr>
        <p:spPr>
          <a:xfrm flipH="1" flipV="1" rot="5400000">
            <a:off x="5723280" y="1316520"/>
            <a:ext cx="146880" cy="46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7" name=""/>
          <p:cNvCxnSpPr>
            <a:stCxn id="1455" idx="3"/>
            <a:endCxn id="1404" idx="4"/>
          </p:cNvCxnSpPr>
          <p:nvPr/>
        </p:nvCxnSpPr>
        <p:spPr>
          <a:xfrm flipV="1">
            <a:off x="5600880" y="4005000"/>
            <a:ext cx="135360" cy="9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8" name=""/>
          <p:cNvCxnSpPr>
            <a:stCxn id="1456" idx="3"/>
            <a:endCxn id="1404" idx="4"/>
          </p:cNvCxnSpPr>
          <p:nvPr/>
        </p:nvCxnSpPr>
        <p:spPr>
          <a:xfrm flipV="1">
            <a:off x="5600880" y="4005360"/>
            <a:ext cx="13536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9" name=""/>
          <p:cNvCxnSpPr>
            <a:stCxn id="1457" idx="3"/>
            <a:endCxn id="1404" idx="4"/>
          </p:cNvCxnSpPr>
          <p:nvPr/>
        </p:nvCxnSpPr>
        <p:spPr>
          <a:xfrm flipV="1">
            <a:off x="5600880" y="4004640"/>
            <a:ext cx="13536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0" name=""/>
          <p:cNvCxnSpPr>
            <a:stCxn id="1458" idx="3"/>
            <a:endCxn id="1404" idx="4"/>
          </p:cNvCxnSpPr>
          <p:nvPr/>
        </p:nvCxnSpPr>
        <p:spPr>
          <a:xfrm flipV="1">
            <a:off x="5600880" y="4005000"/>
            <a:ext cx="135360" cy="57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1" name=""/>
          <p:cNvCxnSpPr>
            <a:stCxn id="1405" idx="4"/>
            <a:endCxn id="1453" idx="1"/>
          </p:cNvCxnSpPr>
          <p:nvPr/>
        </p:nvCxnSpPr>
        <p:spPr>
          <a:xfrm flipH="1" rot="16200000">
            <a:off x="6017400" y="5352840"/>
            <a:ext cx="79920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2" name=""/>
          <p:cNvCxnSpPr>
            <a:stCxn id="1405" idx="4"/>
            <a:endCxn id="1454" idx="1"/>
          </p:cNvCxnSpPr>
          <p:nvPr/>
        </p:nvCxnSpPr>
        <p:spPr>
          <a:xfrm flipH="1" rot="16200000">
            <a:off x="5729040" y="5640840"/>
            <a:ext cx="13755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8" name=""/>
          <p:cNvSpPr/>
          <p:nvPr/>
        </p:nvSpPr>
        <p:spPr>
          <a:xfrm>
            <a:off x="496440" y="5351400"/>
            <a:ext cx="19461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ธมฺมจารี  สุขํ  เสติ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ผู้ประพฤติธรรมย่อมอยู่เป็นสุ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87200" y="5789520"/>
            <a:ext cx="2269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ปมาโท มจฺจุโน ปทํ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ประมาทเป็นทางแห่งความตา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76160" y="6227640"/>
            <a:ext cx="16153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สฺสูสํ  ลภเต  ปญฺ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ผู้ฟังด้วยดีย่อมได้ปัญญ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914760" y="4915080"/>
            <a:ext cx="14522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อตฺตา  หเว  ชิตํ  เสยฺโ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ชนะตนนั้นแลดีกว่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137360" y="191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4" name=""/>
          <p:cNvCxnSpPr>
            <a:stCxn id="1439" idx="1"/>
            <a:endCxn id="1553" idx="0"/>
          </p:cNvCxnSpPr>
          <p:nvPr/>
        </p:nvCxnSpPr>
        <p:spPr>
          <a:xfrm flipV="1" rot="10800000">
            <a:off x="7136640" y="1767240"/>
            <a:ext cx="154800" cy="150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5" name=""/>
          <p:cNvCxnSpPr>
            <a:stCxn id="1440" idx="1"/>
            <a:endCxn id="1553" idx="1"/>
          </p:cNvCxnSpPr>
          <p:nvPr/>
        </p:nvCxnSpPr>
        <p:spPr>
          <a:xfrm rot="10800000">
            <a:off x="7136640" y="1988280"/>
            <a:ext cx="154800" cy="7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6" name=""/>
          <p:cNvCxnSpPr>
            <a:stCxn id="1409" idx="1"/>
            <a:endCxn id="1553" idx="1"/>
          </p:cNvCxnSpPr>
          <p:nvPr/>
        </p:nvCxnSpPr>
        <p:spPr>
          <a:xfrm rot="10800000">
            <a:off x="7136640" y="1988280"/>
            <a:ext cx="196200" cy="1240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7" name=""/>
          <p:cNvCxnSpPr>
            <a:stCxn id="1442" idx="1"/>
            <a:endCxn id="1553" idx="1"/>
          </p:cNvCxnSpPr>
          <p:nvPr/>
        </p:nvCxnSpPr>
        <p:spPr>
          <a:xfrm rot="10800000">
            <a:off x="7136640" y="1988280"/>
            <a:ext cx="154800" cy="401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8" name=""/>
          <p:cNvCxnSpPr>
            <a:stCxn id="1441" idx="1"/>
            <a:endCxn id="1553" idx="1"/>
          </p:cNvCxnSpPr>
          <p:nvPr/>
        </p:nvCxnSpPr>
        <p:spPr>
          <a:xfrm rot="10800000">
            <a:off x="7136640" y="1988280"/>
            <a:ext cx="154800" cy="17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9" name=""/>
          <p:cNvCxnSpPr>
            <a:stCxn id="1407" idx="1"/>
            <a:endCxn id="1553" idx="1"/>
          </p:cNvCxnSpPr>
          <p:nvPr/>
        </p:nvCxnSpPr>
        <p:spPr>
          <a:xfrm rot="10800000">
            <a:off x="7136640" y="1988280"/>
            <a:ext cx="154800" cy="93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0" name=""/>
          <p:cNvCxnSpPr>
            <a:stCxn id="1406" idx="1"/>
            <a:endCxn id="1553" idx="1"/>
          </p:cNvCxnSpPr>
          <p:nvPr/>
        </p:nvCxnSpPr>
        <p:spPr>
          <a:xfrm rot="10800000">
            <a:off x="7136640" y="1988280"/>
            <a:ext cx="167040" cy="788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1" name=""/>
          <p:cNvCxnSpPr>
            <a:stCxn id="1443" idx="1"/>
            <a:endCxn id="1553" idx="1"/>
          </p:cNvCxnSpPr>
          <p:nvPr/>
        </p:nvCxnSpPr>
        <p:spPr>
          <a:xfrm rot="10800000">
            <a:off x="7136640" y="1988280"/>
            <a:ext cx="154800" cy="629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2" name=""/>
          <p:cNvCxnSpPr>
            <a:stCxn id="1408" idx="1"/>
            <a:endCxn id="1553" idx="1"/>
          </p:cNvCxnSpPr>
          <p:nvPr/>
        </p:nvCxnSpPr>
        <p:spPr>
          <a:xfrm rot="10800000">
            <a:off x="7136640" y="1988280"/>
            <a:ext cx="154800" cy="1089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3" name=""/>
          <p:cNvCxnSpPr>
            <a:stCxn id="1400" idx="6"/>
            <a:endCxn id="1553" idx="1"/>
          </p:cNvCxnSpPr>
          <p:nvPr/>
        </p:nvCxnSpPr>
        <p:spPr>
          <a:xfrm flipV="1">
            <a:off x="6816240" y="1988280"/>
            <a:ext cx="321480" cy="577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378" idx="3"/>
            <a:endCxn id="1388" idx="7"/>
          </p:cNvCxnSpPr>
          <p:nvPr/>
        </p:nvCxnSpPr>
        <p:spPr>
          <a:xfrm flipH="1">
            <a:off x="3098520" y="3306600"/>
            <a:ext cx="2404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378" idx="1"/>
            <a:endCxn id="1379" idx="5"/>
          </p:cNvCxnSpPr>
          <p:nvPr/>
        </p:nvCxnSpPr>
        <p:spPr>
          <a:xfrm flipH="1" flipV="1">
            <a:off x="2889000" y="2449080"/>
            <a:ext cx="4500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399" idx="5"/>
            <a:endCxn id="1403" idx="1"/>
          </p:cNvCxnSpPr>
          <p:nvPr/>
        </p:nvCxnSpPr>
        <p:spPr>
          <a:xfrm>
            <a:off x="6578640" y="3485880"/>
            <a:ext cx="39744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7" name=""/>
          <p:cNvCxnSpPr>
            <a:stCxn id="1378" idx="3"/>
            <a:endCxn id="1389" idx="6"/>
          </p:cNvCxnSpPr>
          <p:nvPr/>
        </p:nvCxnSpPr>
        <p:spPr>
          <a:xfrm flipH="1" flipV="1">
            <a:off x="2925000" y="3283920"/>
            <a:ext cx="4136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8" name=""/>
          <p:cNvCxnSpPr>
            <a:stCxn id="1378" idx="5"/>
            <a:endCxn id="1390" idx="0"/>
          </p:cNvCxnSpPr>
          <p:nvPr/>
        </p:nvCxnSpPr>
        <p:spPr>
          <a:xfrm>
            <a:off x="3913200" y="330660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9" name=""/>
          <p:cNvCxnSpPr>
            <a:stCxn id="1378" idx="2"/>
            <a:endCxn id="1483" idx="6"/>
          </p:cNvCxnSpPr>
          <p:nvPr/>
        </p:nvCxnSpPr>
        <p:spPr>
          <a:xfrm flipH="1" flipV="1">
            <a:off x="2768040" y="2852280"/>
            <a:ext cx="43884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0" name=""/>
          <p:cNvCxnSpPr>
            <a:stCxn id="1399" idx="3"/>
            <a:endCxn id="1404" idx="0"/>
          </p:cNvCxnSpPr>
          <p:nvPr/>
        </p:nvCxnSpPr>
        <p:spPr>
          <a:xfrm flipH="1">
            <a:off x="5735520" y="3485880"/>
            <a:ext cx="3178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399" idx="4"/>
            <a:endCxn id="1405" idx="0"/>
          </p:cNvCxnSpPr>
          <p:nvPr/>
        </p:nvCxnSpPr>
        <p:spPr>
          <a:xfrm>
            <a:off x="6314760" y="3585960"/>
            <a:ext cx="435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2" name=""/>
          <p:cNvCxnSpPr>
            <a:stCxn id="1399" idx="0"/>
            <a:endCxn id="1400" idx="4"/>
          </p:cNvCxnSpPr>
          <p:nvPr/>
        </p:nvCxnSpPr>
        <p:spPr>
          <a:xfrm flipV="1">
            <a:off x="6315120" y="2707920"/>
            <a:ext cx="720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399" idx="6"/>
            <a:endCxn id="1401" idx="1"/>
          </p:cNvCxnSpPr>
          <p:nvPr/>
        </p:nvCxnSpPr>
        <p:spPr>
          <a:xfrm>
            <a:off x="6700680" y="3230640"/>
            <a:ext cx="6739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4" name=""/>
          <p:cNvCxnSpPr>
            <a:stCxn id="1399" idx="5"/>
            <a:endCxn id="1402" idx="1"/>
          </p:cNvCxnSpPr>
          <p:nvPr/>
        </p:nvCxnSpPr>
        <p:spPr>
          <a:xfrm>
            <a:off x="6578640" y="3486240"/>
            <a:ext cx="56736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5" name=""/>
          <p:cNvCxnSpPr>
            <a:stCxn id="1373" idx="0"/>
            <a:endCxn id="1371" idx="4"/>
          </p:cNvCxnSpPr>
          <p:nvPr/>
        </p:nvCxnSpPr>
        <p:spPr>
          <a:xfrm flipH="1" flipV="1">
            <a:off x="4982400" y="1523520"/>
            <a:ext cx="118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6" name=""/>
          <p:cNvCxnSpPr>
            <a:stCxn id="1373" idx="2"/>
            <a:endCxn id="1370" idx="5"/>
          </p:cNvCxnSpPr>
          <p:nvPr/>
        </p:nvCxnSpPr>
        <p:spPr>
          <a:xfrm flipH="1" flipV="1">
            <a:off x="4371480" y="2109600"/>
            <a:ext cx="2390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7" name=""/>
          <p:cNvCxnSpPr>
            <a:stCxn id="1378" idx="4"/>
            <a:endCxn id="1391" idx="0"/>
          </p:cNvCxnSpPr>
          <p:nvPr/>
        </p:nvCxnSpPr>
        <p:spPr>
          <a:xfrm flipH="1">
            <a:off x="3549600" y="3416400"/>
            <a:ext cx="76680" cy="44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373" idx="7"/>
            <a:endCxn id="1375" idx="3"/>
          </p:cNvCxnSpPr>
          <p:nvPr/>
        </p:nvCxnSpPr>
        <p:spPr>
          <a:xfrm flipV="1">
            <a:off x="5257440" y="1627920"/>
            <a:ext cx="3229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373" idx="6"/>
            <a:endCxn id="1372" idx="2"/>
          </p:cNvCxnSpPr>
          <p:nvPr/>
        </p:nvCxnSpPr>
        <p:spPr>
          <a:xfrm>
            <a:off x="5379840" y="217188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0" name=""/>
          <p:cNvSpPr/>
          <p:nvPr/>
        </p:nvSpPr>
        <p:spPr>
          <a:xfrm flipH="1">
            <a:off x="3540240" y="44197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9181440" y="3816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70720" y="34099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8300880" y="35352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8375760" y="3419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9800" y="3635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6" name=""/>
          <p:cNvCxnSpPr>
            <a:stCxn id="1444" idx="1"/>
            <a:endCxn id="1372" idx="7"/>
          </p:cNvCxnSpPr>
          <p:nvPr/>
        </p:nvCxnSpPr>
        <p:spPr>
          <a:xfrm rot="5400000">
            <a:off x="6446880" y="829440"/>
            <a:ext cx="1092960" cy="1393200"/>
          </a:xfrm>
          <a:prstGeom prst="bentConnector3">
            <a:avLst>
              <a:gd name="adj1" fmla="val 47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7" name=""/>
          <p:cNvSpPr/>
          <p:nvPr/>
        </p:nvSpPr>
        <p:spPr>
          <a:xfrm>
            <a:off x="7977240" y="10126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7977240" y="933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3591000" y="765000"/>
            <a:ext cx="156960" cy="216000"/>
            <a:chOff x="3591000" y="765000"/>
            <a:chExt cx="156960" cy="216000"/>
          </a:xfrm>
        </p:grpSpPr>
        <p:sp>
          <p:nvSpPr>
            <p:cNvPr id="1590" name=""/>
            <p:cNvSpPr/>
            <p:nvPr/>
          </p:nvSpPr>
          <p:spPr>
            <a:xfrm flipV="1">
              <a:off x="3591000" y="765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91000" y="76500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91000" y="9810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8965440" y="189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5" name=""/>
          <p:cNvGrpSpPr/>
          <p:nvPr/>
        </p:nvGrpSpPr>
        <p:grpSpPr>
          <a:xfrm>
            <a:off x="0" y="177120"/>
            <a:ext cx="9906120" cy="5916600"/>
            <a:chOff x="0" y="177120"/>
            <a:chExt cx="9906120" cy="5916600"/>
          </a:xfrm>
        </p:grpSpPr>
        <p:sp>
          <p:nvSpPr>
            <p:cNvPr id="1596" name=""/>
            <p:cNvSpPr/>
            <p:nvPr/>
          </p:nvSpPr>
          <p:spPr>
            <a:xfrm>
              <a:off x="0" y="177120"/>
              <a:ext cx="9906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พุทธ   ชั้นมัธยมศึกษาปีที่  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079800" y="1989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ระวัติแล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วามสำคัญขอ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772240" y="1989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ประวัต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72240" y="4329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ันสำคั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200480" y="302112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79800" y="4329000"/>
              <a:ext cx="93492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ด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20080" y="2728800"/>
              <a:ext cx="19702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รุป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/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ิเคราะห์พุทธประวัต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697080" y="5021280"/>
              <a:ext cx="25189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ันธรรมสวนะและเทศกาลสำคั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29920" y="1154880"/>
              <a:ext cx="23454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ผยแผ่พระพุทธศาส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ข้าสู่ประเทศต่าง ๆ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ั่วโล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การนับถือพระพุทธศาส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องประเทศเหล่านั้นในปัจจุบั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95960" y="2047320"/>
              <a:ext cx="20404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่วยสร้างสรรค์อารยธรร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ความสงบสุขให้แก่โล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8120" y="1198080"/>
              <a:ext cx="20358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ึกษาพุทธประวัต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จากพระพุทธรูปปางต่าง 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690720" y="5877000"/>
              <a:ext cx="138204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วัณณหังสชาด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47160" y="5516640"/>
              <a:ext cx="124200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ันทิวิสาลชาด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69040" y="3068640"/>
              <a:ext cx="786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ปฐมเทศ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031960" y="3297240"/>
              <a:ext cx="1100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โอวาทปาฏิโมกข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8520" y="4188240"/>
              <a:ext cx="26319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ระวัติวันสำคั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างพระพุทธศาสนาในประเทศไท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746760" y="4708440"/>
              <a:ext cx="2130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ันวิสาขบูชาวันสำคัญสาก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82560" y="5328360"/>
              <a:ext cx="27309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ปฏิบัติตน  การฟังพระธรรมเทศ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ต่งกายในการประกอบพิธีที่วั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งดเว้นอบายมุข  การประพฤติวิรัต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นวันธรรมสวนะและเทศกาลสำคั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4" name=""/>
            <p:cNvCxnSpPr>
              <a:stCxn id="1611" idx="1"/>
              <a:endCxn id="1599" idx="6"/>
            </p:cNvCxnSpPr>
            <p:nvPr/>
          </p:nvCxnSpPr>
          <p:spPr>
            <a:xfrm flipV="1" rot="10800000">
              <a:off x="6706440" y="4362120"/>
              <a:ext cx="349920" cy="435600"/>
            </a:xfrm>
            <a:prstGeom prst="bentConnector3">
              <a:avLst>
                <a:gd name="adj1" fmla="val 499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5" name=""/>
            <p:cNvCxnSpPr>
              <a:stCxn id="1612" idx="1"/>
              <a:endCxn id="1599" idx="6"/>
            </p:cNvCxnSpPr>
            <p:nvPr/>
          </p:nvCxnSpPr>
          <p:spPr>
            <a:xfrm rot="10800000">
              <a:off x="6706440" y="4796640"/>
              <a:ext cx="3340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6" name=""/>
            <p:cNvCxnSpPr>
              <a:stCxn id="1603" idx="1"/>
              <a:endCxn id="1599" idx="6"/>
            </p:cNvCxnSpPr>
            <p:nvPr/>
          </p:nvCxnSpPr>
          <p:spPr>
            <a:xfrm rot="10800000">
              <a:off x="6706440" y="4796640"/>
              <a:ext cx="345240" cy="349920"/>
            </a:xfrm>
            <a:prstGeom prst="bentConnector3">
              <a:avLst>
                <a:gd name="adj1" fmla="val 496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7" name=""/>
            <p:cNvCxnSpPr>
              <a:stCxn id="1605" idx="3"/>
              <a:endCxn id="1597" idx="2"/>
            </p:cNvCxnSpPr>
            <p:nvPr/>
          </p:nvCxnSpPr>
          <p:spPr>
            <a:xfrm>
              <a:off x="2550600" y="2233440"/>
              <a:ext cx="529200" cy="224640"/>
            </a:xfrm>
            <a:prstGeom prst="bentConnector3">
              <a:avLst>
                <a:gd name="adj1" fmla="val 4982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8" name=""/>
            <p:cNvCxnSpPr>
              <a:stCxn id="1604" idx="3"/>
              <a:endCxn id="1597" idx="2"/>
            </p:cNvCxnSpPr>
            <p:nvPr/>
          </p:nvCxnSpPr>
          <p:spPr>
            <a:xfrm>
              <a:off x="2550600" y="1537920"/>
              <a:ext cx="529200" cy="919800"/>
            </a:xfrm>
            <a:prstGeom prst="bentConnector3">
              <a:avLst>
                <a:gd name="adj1" fmla="val 498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9" name=""/>
            <p:cNvSpPr/>
            <p:nvPr/>
          </p:nvSpPr>
          <p:spPr>
            <a:xfrm>
              <a:off x="7274160" y="1628640"/>
              <a:ext cx="1830240" cy="7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เช่น 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ea typeface="CordiaUPC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ปางมารวิชั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      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ปางปฐมเทศ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ea typeface="CordiaUPC"/>
                </a:rPr>
                <a:t>     </a:t>
              </a: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ปางลีล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       </a:t>
              </a: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ปางประจำวันเกิ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02" idx="1"/>
              <a:endCxn id="1598" idx="6"/>
            </p:cNvCxnSpPr>
            <p:nvPr/>
          </p:nvCxnSpPr>
          <p:spPr>
            <a:xfrm rot="10800000">
              <a:off x="6706440" y="2456640"/>
              <a:ext cx="694440" cy="367560"/>
            </a:xfrm>
            <a:prstGeom prst="bentConnector3">
              <a:avLst>
                <a:gd name="adj1" fmla="val 4984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06" idx="1"/>
              <a:endCxn id="1598" idx="6"/>
            </p:cNvCxnSpPr>
            <p:nvPr/>
          </p:nvCxnSpPr>
          <p:spPr>
            <a:xfrm flipV="1" rot="10800000">
              <a:off x="6706440" y="1382760"/>
              <a:ext cx="694440" cy="1073520"/>
            </a:xfrm>
            <a:prstGeom prst="bentConnector3">
              <a:avLst>
                <a:gd name="adj1" fmla="val 4984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2" idx="2"/>
              <a:endCxn id="1609" idx="1"/>
            </p:cNvCxnSpPr>
            <p:nvPr/>
          </p:nvCxnSpPr>
          <p:spPr>
            <a:xfrm flipH="1" rot="16200000">
              <a:off x="8011800" y="3011760"/>
              <a:ext cx="259560" cy="73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3" name=""/>
            <p:cNvCxnSpPr>
              <a:stCxn id="1602" idx="2"/>
              <a:endCxn id="1610" idx="1"/>
            </p:cNvCxnSpPr>
            <p:nvPr/>
          </p:nvCxnSpPr>
          <p:spPr>
            <a:xfrm flipH="1" rot="16200000">
              <a:off x="7897680" y="3126240"/>
              <a:ext cx="488160" cy="73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4" name=""/>
            <p:cNvCxnSpPr>
              <a:stCxn id="1601" idx="4"/>
              <a:endCxn id="1608" idx="1"/>
            </p:cNvCxnSpPr>
            <p:nvPr/>
          </p:nvCxnSpPr>
          <p:spPr>
            <a:xfrm flipH="1" rot="16200000">
              <a:off x="3506760" y="5304960"/>
              <a:ext cx="354600" cy="272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5" name=""/>
            <p:cNvCxnSpPr>
              <a:stCxn id="1601" idx="4"/>
              <a:endCxn id="1607" idx="1"/>
            </p:cNvCxnSpPr>
            <p:nvPr/>
          </p:nvCxnSpPr>
          <p:spPr>
            <a:xfrm flipH="1" rot="16200000">
              <a:off x="3366360" y="5445000"/>
              <a:ext cx="71496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597" idx="5"/>
              <a:endCxn id="1600" idx="1"/>
            </p:cNvCxnSpPr>
            <p:nvPr/>
          </p:nvCxnSpPr>
          <p:spPr>
            <a:xfrm>
              <a:off x="3878280" y="2787480"/>
              <a:ext cx="534240" cy="43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7" name=""/>
            <p:cNvCxnSpPr>
              <a:stCxn id="1601" idx="7"/>
              <a:endCxn id="1600" idx="3"/>
            </p:cNvCxnSpPr>
            <p:nvPr/>
          </p:nvCxnSpPr>
          <p:spPr>
            <a:xfrm flipV="1">
              <a:off x="3878280" y="4261680"/>
              <a:ext cx="534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8" name=""/>
            <p:cNvCxnSpPr>
              <a:stCxn id="1598" idx="3"/>
              <a:endCxn id="1600" idx="7"/>
            </p:cNvCxnSpPr>
            <p:nvPr/>
          </p:nvCxnSpPr>
          <p:spPr>
            <a:xfrm flipH="1">
              <a:off x="5428800" y="2787480"/>
              <a:ext cx="480240" cy="43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9" name=""/>
            <p:cNvCxnSpPr>
              <a:stCxn id="1599" idx="1"/>
              <a:endCxn id="1600" idx="5"/>
            </p:cNvCxnSpPr>
            <p:nvPr/>
          </p:nvCxnSpPr>
          <p:spPr>
            <a:xfrm flipH="1" flipV="1">
              <a:off x="5428800" y="4261680"/>
              <a:ext cx="480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0" name=""/>
            <p:cNvSpPr/>
            <p:nvPr/>
          </p:nvSpPr>
          <p:spPr>
            <a:xfrm>
              <a:off x="9089280" y="1825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๔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7413480" y="5268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8962200" y="1890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๔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0" y="11880"/>
            <a:ext cx="9906120" cy="6400800"/>
            <a:chOff x="0" y="11880"/>
            <a:chExt cx="9906120" cy="6400800"/>
          </a:xfrm>
        </p:grpSpPr>
        <p:sp>
          <p:nvSpPr>
            <p:cNvPr id="1635" name=""/>
            <p:cNvSpPr/>
            <p:nvPr/>
          </p:nvSpPr>
          <p:spPr>
            <a:xfrm>
              <a:off x="0" y="11880"/>
              <a:ext cx="9906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ธรรม  ชั้นมัธยมศึกษาปีที่  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70400" y="267480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ธรร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13400" y="148428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ริยสัจ 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073880" y="709560"/>
              <a:ext cx="182736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ุกข์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รู้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706120" y="709560"/>
              <a:ext cx="183672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มุทัย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ละ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515560" y="709560"/>
              <a:ext cx="201024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ิโรธ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บรรลุ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87480" y="709560"/>
              <a:ext cx="2027160" cy="250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ค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เจริญ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16120" y="1065240"/>
              <a:ext cx="524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ันธ์ 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884240" y="1282680"/>
              <a:ext cx="856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ตรลักษณ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93920" y="2076480"/>
              <a:ext cx="769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งคล ๓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64360" y="976680"/>
              <a:ext cx="81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กรร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524480" y="447372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ไตรปิฎ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46520" y="353700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ศาสน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ภาษิ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02440" y="216864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บริหารจิ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05520" y="4005360"/>
              <a:ext cx="93492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ัพท์ทา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841400" y="5918400"/>
              <a:ext cx="287712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โครงสร้างชื่อคัมภีร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และสาระสังเขปของพระอภิธรรมปิฎ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190400" y="5918040"/>
              <a:ext cx="19796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32920" y="3816360"/>
              <a:ext cx="24732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ามหลักสติปัฏฐานเน้นอานาปานสต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413840" y="3432240"/>
              <a:ext cx="24094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รู้และเข้าใจวิธีปฏิบัติและประโยชน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อง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62080" y="4584600"/>
              <a:ext cx="1900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ัฒนาการเรียนรู้ด้วยวิธีคิ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โยนิโสมนสิการ ๒ วิธ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477200" y="3212640"/>
              <a:ext cx="1900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วดมนต์แปลและแผ่เมตต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416360" y="4200480"/>
              <a:ext cx="24825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ำวิธี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ปใช้ในชีวิตประจำวั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22240" y="1378080"/>
              <a:ext cx="1150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ปัญจธรรม 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160840" y="5300640"/>
              <a:ext cx="12646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สืบสาวเหตุปัจจั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34280" y="5084640"/>
              <a:ext cx="7038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อริยสั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613920" y="5218200"/>
              <a:ext cx="4723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ัตต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605720" y="3141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2" name=""/>
            <p:cNvCxnSpPr>
              <a:stCxn id="1655" idx="1"/>
              <a:endCxn id="1661" idx="0"/>
            </p:cNvCxnSpPr>
            <p:nvPr/>
          </p:nvCxnSpPr>
          <p:spPr>
            <a:xfrm rot="10800000">
              <a:off x="7605000" y="3285360"/>
              <a:ext cx="99000" cy="27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53" idx="1"/>
              <a:endCxn id="1661" idx="1"/>
            </p:cNvCxnSpPr>
            <p:nvPr/>
          </p:nvCxnSpPr>
          <p:spPr>
            <a:xfrm rot="10800000">
              <a:off x="7605000" y="3285360"/>
              <a:ext cx="99000" cy="34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4" name=""/>
            <p:cNvCxnSpPr>
              <a:stCxn id="1652" idx="1"/>
              <a:endCxn id="1661" idx="1"/>
            </p:cNvCxnSpPr>
            <p:nvPr/>
          </p:nvCxnSpPr>
          <p:spPr>
            <a:xfrm rot="10800000">
              <a:off x="7605000" y="3285360"/>
              <a:ext cx="99000" cy="726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5" name=""/>
            <p:cNvCxnSpPr>
              <a:stCxn id="1656" idx="1"/>
              <a:endCxn id="1661" idx="1"/>
            </p:cNvCxnSpPr>
            <p:nvPr/>
          </p:nvCxnSpPr>
          <p:spPr>
            <a:xfrm rot="10800000">
              <a:off x="7605000" y="3285360"/>
              <a:ext cx="99000" cy="1110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6" name=""/>
            <p:cNvCxnSpPr>
              <a:stCxn id="1654" idx="1"/>
              <a:endCxn id="1661" idx="1"/>
            </p:cNvCxnSpPr>
            <p:nvPr/>
          </p:nvCxnSpPr>
          <p:spPr>
            <a:xfrm rot="10800000">
              <a:off x="7605000" y="3285360"/>
              <a:ext cx="99000" cy="1494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7" name=""/>
            <p:cNvCxnSpPr>
              <a:stCxn id="1648" idx="4"/>
              <a:endCxn id="1661" idx="0"/>
            </p:cNvCxnSpPr>
            <p:nvPr/>
          </p:nvCxnSpPr>
          <p:spPr>
            <a:xfrm flipH="1" rot="16200000">
              <a:off x="7118280" y="2655000"/>
              <a:ext cx="38880" cy="935640"/>
            </a:xfrm>
            <a:prstGeom prst="bentConnector3">
              <a:avLst>
                <a:gd name="adj1" fmla="val 495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8" name=""/>
            <p:cNvCxnSpPr>
              <a:stCxn id="1669" idx="1"/>
              <a:endCxn id="1649" idx="4"/>
            </p:cNvCxnSpPr>
            <p:nvPr/>
          </p:nvCxnSpPr>
          <p:spPr>
            <a:xfrm rot="10800000">
              <a:off x="6473160" y="4939560"/>
              <a:ext cx="213480" cy="63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0" idx="1"/>
              <a:endCxn id="1649" idx="4"/>
            </p:cNvCxnSpPr>
            <p:nvPr/>
          </p:nvCxnSpPr>
          <p:spPr>
            <a:xfrm rot="10800000">
              <a:off x="6473160" y="4939560"/>
              <a:ext cx="210240" cy="39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1" name=""/>
            <p:cNvSpPr/>
            <p:nvPr/>
          </p:nvSpPr>
          <p:spPr>
            <a:xfrm>
              <a:off x="8229600" y="4869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2" name=""/>
            <p:cNvCxnSpPr>
              <a:stCxn id="1659" idx="1"/>
              <a:endCxn id="1671" idx="0"/>
            </p:cNvCxnSpPr>
            <p:nvPr/>
          </p:nvCxnSpPr>
          <p:spPr>
            <a:xfrm rot="10800000">
              <a:off x="8228880" y="5010840"/>
              <a:ext cx="108720" cy="15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58" idx="1"/>
              <a:endCxn id="1671" idx="1"/>
            </p:cNvCxnSpPr>
            <p:nvPr/>
          </p:nvCxnSpPr>
          <p:spPr>
            <a:xfrm rot="10800000">
              <a:off x="8228880" y="5010840"/>
              <a:ext cx="108720" cy="37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4" name=""/>
            <p:cNvSpPr/>
            <p:nvPr/>
          </p:nvSpPr>
          <p:spPr>
            <a:xfrm>
              <a:off x="5041080" y="6165000"/>
              <a:ext cx="2613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6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ปณิธาน ๔  ในมหาปรินิพพานสูต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5" name=""/>
            <p:cNvCxnSpPr>
              <a:stCxn id="1646" idx="4"/>
              <a:endCxn id="1650" idx="0"/>
            </p:cNvCxnSpPr>
            <p:nvPr/>
          </p:nvCxnSpPr>
          <p:spPr>
            <a:xfrm rot="5400000">
              <a:off x="3880800" y="4806360"/>
              <a:ext cx="510120" cy="1713960"/>
            </a:xfrm>
            <a:prstGeom prst="bentConnector3">
              <a:avLst>
                <a:gd name="adj1" fmla="val 497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46" idx="4"/>
              <a:endCxn id="1651" idx="1"/>
            </p:cNvCxnSpPr>
            <p:nvPr/>
          </p:nvCxnSpPr>
          <p:spPr>
            <a:xfrm rot="5400000">
              <a:off x="4437720" y="5452200"/>
              <a:ext cx="598680" cy="511920"/>
            </a:xfrm>
            <a:prstGeom prst="bentConnector4">
              <a:avLst>
                <a:gd name="adj1" fmla="val 42418"/>
                <a:gd name="adj2" fmla="val 1446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74" idx="1"/>
              <a:endCxn id="1651" idx="2"/>
            </p:cNvCxnSpPr>
            <p:nvPr/>
          </p:nvCxnSpPr>
          <p:spPr>
            <a:xfrm rot="10800000">
              <a:off x="5179320" y="6095160"/>
              <a:ext cx="240480" cy="13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8" name=""/>
            <p:cNvSpPr/>
            <p:nvPr/>
          </p:nvSpPr>
          <p:spPr>
            <a:xfrm>
              <a:off x="3003480" y="2168640"/>
              <a:ext cx="935280" cy="93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งฆคุณ 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960000" y="1193040"/>
              <a:ext cx="525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วัฏฏะ 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575760" y="1030320"/>
              <a:ext cx="6170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ัตถะ 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1" name=""/>
            <p:cNvCxnSpPr>
              <a:stCxn id="1680" idx="1"/>
              <a:endCxn id="1640" idx="2"/>
            </p:cNvCxnSpPr>
            <p:nvPr/>
          </p:nvCxnSpPr>
          <p:spPr>
            <a:xfrm rot="10800000">
              <a:off x="6520680" y="964440"/>
              <a:ext cx="13104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2" name=""/>
            <p:cNvSpPr/>
            <p:nvPr/>
          </p:nvSpPr>
          <p:spPr>
            <a:xfrm>
              <a:off x="7635240" y="1065240"/>
              <a:ext cx="11048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คมีองค์ 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610760" y="1469880"/>
              <a:ext cx="12222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ัปปุริสธรรม 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711920" y="1268280"/>
              <a:ext cx="7542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ัญญา 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618320" y="1874880"/>
              <a:ext cx="1205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ุบาสกธรรม 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05360" y="1671480"/>
              <a:ext cx="13744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บุญกิริยาวัตถุ ๑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958880" y="2848680"/>
              <a:ext cx="1522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นทนาธรรม ตามกา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838160" y="12682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9" name=""/>
            <p:cNvCxnSpPr>
              <a:stCxn id="1642" idx="1"/>
              <a:endCxn id="1690" idx="0"/>
            </p:cNvCxnSpPr>
            <p:nvPr/>
          </p:nvCxnSpPr>
          <p:spPr>
            <a:xfrm rot="10800000">
              <a:off x="1712160" y="1051920"/>
              <a:ext cx="73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>
              <a:stCxn id="1643" idx="1"/>
              <a:endCxn id="1688" idx="0"/>
            </p:cNvCxnSpPr>
            <p:nvPr/>
          </p:nvCxnSpPr>
          <p:spPr>
            <a:xfrm rot="10800000">
              <a:off x="1837440" y="1339200"/>
              <a:ext cx="150120" cy="68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2" name=""/>
            <p:cNvCxnSpPr>
              <a:stCxn id="1637" idx="0"/>
              <a:endCxn id="1640" idx="0"/>
            </p:cNvCxnSpPr>
            <p:nvPr/>
          </p:nvCxnSpPr>
          <p:spPr>
            <a:xfrm flipH="1" flipV="1" rot="5400000">
              <a:off x="5411520" y="374040"/>
              <a:ext cx="780120" cy="1440360"/>
            </a:xfrm>
            <a:prstGeom prst="bentConnector3">
              <a:avLst>
                <a:gd name="adj1" fmla="val 1293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3" name=""/>
            <p:cNvCxnSpPr>
              <a:stCxn id="1641" idx="0"/>
              <a:endCxn id="1637" idx="0"/>
            </p:cNvCxnSpPr>
            <p:nvPr/>
          </p:nvCxnSpPr>
          <p:spPr>
            <a:xfrm rot="5400000">
              <a:off x="6301080" y="-515880"/>
              <a:ext cx="780120" cy="3219840"/>
            </a:xfrm>
            <a:prstGeom prst="bentConnector3">
              <a:avLst>
                <a:gd name="adj1" fmla="val -293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4" name=""/>
            <p:cNvCxnSpPr>
              <a:stCxn id="1637" idx="0"/>
              <a:endCxn id="1638" idx="0"/>
            </p:cNvCxnSpPr>
            <p:nvPr/>
          </p:nvCxnSpPr>
          <p:spPr>
            <a:xfrm flipV="1" rot="16200000">
              <a:off x="3144240" y="-453240"/>
              <a:ext cx="780120" cy="3094920"/>
            </a:xfrm>
            <a:prstGeom prst="bentConnector3">
              <a:avLst>
                <a:gd name="adj1" fmla="val 1293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5" name=""/>
            <p:cNvCxnSpPr>
              <a:stCxn id="1639" idx="0"/>
              <a:endCxn id="1637" idx="0"/>
            </p:cNvCxnSpPr>
            <p:nvPr/>
          </p:nvCxnSpPr>
          <p:spPr>
            <a:xfrm flipH="1" rot="16200000">
              <a:off x="3962880" y="364680"/>
              <a:ext cx="780120" cy="1458360"/>
            </a:xfrm>
            <a:prstGeom prst="bentConnector3">
              <a:avLst>
                <a:gd name="adj1" fmla="val -293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6" name=""/>
            <p:cNvCxnSpPr>
              <a:stCxn id="1684" idx="1"/>
              <a:endCxn id="1697" idx="0"/>
            </p:cNvCxnSpPr>
            <p:nvPr/>
          </p:nvCxnSpPr>
          <p:spPr>
            <a:xfrm rot="10800000">
              <a:off x="7682760" y="1099440"/>
              <a:ext cx="129240" cy="29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8" name=""/>
            <p:cNvCxnSpPr>
              <a:stCxn id="1686" idx="1"/>
              <a:endCxn id="1697" idx="1"/>
            </p:cNvCxnSpPr>
            <p:nvPr/>
          </p:nvCxnSpPr>
          <p:spPr>
            <a:xfrm rot="10800000">
              <a:off x="7682760" y="1099440"/>
              <a:ext cx="119880" cy="69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9" name=""/>
            <p:cNvCxnSpPr>
              <a:stCxn id="1644" idx="1"/>
              <a:endCxn id="1697" idx="1"/>
            </p:cNvCxnSpPr>
            <p:nvPr/>
          </p:nvCxnSpPr>
          <p:spPr>
            <a:xfrm rot="10800000">
              <a:off x="7682760" y="1099440"/>
              <a:ext cx="113400" cy="11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0" name=""/>
            <p:cNvCxnSpPr>
              <a:stCxn id="1685" idx="1"/>
              <a:endCxn id="1697" idx="1"/>
            </p:cNvCxnSpPr>
            <p:nvPr/>
          </p:nvCxnSpPr>
          <p:spPr>
            <a:xfrm rot="10800000">
              <a:off x="7682760" y="1099440"/>
              <a:ext cx="119880" cy="9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1" name=""/>
            <p:cNvCxnSpPr>
              <a:stCxn id="1683" idx="1"/>
              <a:endCxn id="1697" idx="1"/>
            </p:cNvCxnSpPr>
            <p:nvPr/>
          </p:nvCxnSpPr>
          <p:spPr>
            <a:xfrm rot="10800000">
              <a:off x="7682760" y="1099440"/>
              <a:ext cx="118080" cy="49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2" name=""/>
            <p:cNvCxnSpPr>
              <a:stCxn id="1682" idx="1"/>
              <a:endCxn id="1697" idx="1"/>
            </p:cNvCxnSpPr>
            <p:nvPr/>
          </p:nvCxnSpPr>
          <p:spPr>
            <a:xfrm rot="10800000">
              <a:off x="7682760" y="1099440"/>
              <a:ext cx="124560" cy="9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3" name=""/>
            <p:cNvSpPr/>
            <p:nvPr/>
          </p:nvSpPr>
          <p:spPr>
            <a:xfrm>
              <a:off x="8067960" y="2545560"/>
              <a:ext cx="681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บสมณ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987680" y="2696400"/>
              <a:ext cx="1191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ฟังธรรมตามกา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47080" y="2393280"/>
              <a:ext cx="821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ีศิลปวิทย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683480" y="9558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7" name=""/>
            <p:cNvCxnSpPr>
              <a:stCxn id="1645" idx="1"/>
              <a:endCxn id="1639" idx="2"/>
            </p:cNvCxnSpPr>
            <p:nvPr/>
          </p:nvCxnSpPr>
          <p:spPr>
            <a:xfrm rot="10800000">
              <a:off x="3623400" y="964440"/>
              <a:ext cx="69120" cy="13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8" name=""/>
            <p:cNvCxnSpPr>
              <a:stCxn id="1657" idx="1"/>
              <a:endCxn id="1639" idx="2"/>
            </p:cNvCxnSpPr>
            <p:nvPr/>
          </p:nvCxnSpPr>
          <p:spPr>
            <a:xfrm rot="10800000">
              <a:off x="3623400" y="964440"/>
              <a:ext cx="65520" cy="53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9" name=""/>
            <p:cNvSpPr/>
            <p:nvPr/>
          </p:nvSpPr>
          <p:spPr>
            <a:xfrm>
              <a:off x="3860640" y="1158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0" name=""/>
            <p:cNvCxnSpPr>
              <a:stCxn id="1679" idx="1"/>
              <a:endCxn id="1709" idx="0"/>
            </p:cNvCxnSpPr>
            <p:nvPr/>
          </p:nvCxnSpPr>
          <p:spPr>
            <a:xfrm rot="10800000">
              <a:off x="3859920" y="1231200"/>
              <a:ext cx="156600" cy="7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1" name=""/>
            <p:cNvSpPr/>
            <p:nvPr/>
          </p:nvSpPr>
          <p:spPr>
            <a:xfrm>
              <a:off x="8043840" y="2278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2" name=""/>
            <p:cNvCxnSpPr>
              <a:stCxn id="1705" idx="1"/>
              <a:endCxn id="1711" idx="0"/>
            </p:cNvCxnSpPr>
            <p:nvPr/>
          </p:nvCxnSpPr>
          <p:spPr>
            <a:xfrm rot="10800000">
              <a:off x="8043120" y="2348640"/>
              <a:ext cx="119880" cy="15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3" name=""/>
            <p:cNvCxnSpPr>
              <a:stCxn id="1703" idx="1"/>
              <a:endCxn id="1711" idx="1"/>
            </p:cNvCxnSpPr>
            <p:nvPr/>
          </p:nvCxnSpPr>
          <p:spPr>
            <a:xfrm rot="10800000">
              <a:off x="8043120" y="2348640"/>
              <a:ext cx="115200" cy="30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4" name=""/>
            <p:cNvCxnSpPr>
              <a:stCxn id="1704" idx="1"/>
              <a:endCxn id="1711" idx="1"/>
            </p:cNvCxnSpPr>
            <p:nvPr/>
          </p:nvCxnSpPr>
          <p:spPr>
            <a:xfrm rot="10800000">
              <a:off x="8043120" y="2348640"/>
              <a:ext cx="12924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5" name=""/>
            <p:cNvCxnSpPr>
              <a:stCxn id="1687" idx="1"/>
              <a:endCxn id="1711" idx="1"/>
            </p:cNvCxnSpPr>
            <p:nvPr/>
          </p:nvCxnSpPr>
          <p:spPr>
            <a:xfrm rot="10800000">
              <a:off x="8043120" y="2348640"/>
              <a:ext cx="140400" cy="610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6" name=""/>
            <p:cNvCxnSpPr>
              <a:stCxn id="1647" idx="2"/>
              <a:endCxn id="1717" idx="3"/>
            </p:cNvCxnSpPr>
            <p:nvPr/>
          </p:nvCxnSpPr>
          <p:spPr>
            <a:xfrm rot="10800000">
              <a:off x="2456640" y="3518640"/>
              <a:ext cx="389880" cy="486720"/>
            </a:xfrm>
            <a:prstGeom prst="bentConnector3">
              <a:avLst>
                <a:gd name="adj1" fmla="val 4972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9" name=""/>
            <p:cNvSpPr/>
            <p:nvPr/>
          </p:nvSpPr>
          <p:spPr>
            <a:xfrm>
              <a:off x="6598440" y="5462640"/>
              <a:ext cx="59724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นัตต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4160" y="3848040"/>
              <a:ext cx="2391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มฺมจารี  สุขํ  เสต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ู้ประพฤติธรรมย่อมอยู่เป็นสุ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4360" y="4411800"/>
              <a:ext cx="27932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มาโท มจฺจุโน ปทํ</a:t>
              </a: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วามประมาทเป็นทางแห่งความต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1920" y="4975200"/>
              <a:ext cx="1982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สฺสูสํ  ลภเต  ปญฺ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ู้ฟังด้วยดีย่อมได้ปัญญ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48600" y="3284640"/>
              <a:ext cx="1789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ตฺตา  หเว  ชิตํ  เสยฺโ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นะตนนั้นแลดีกว่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1" name=""/>
            <p:cNvCxnSpPr>
              <a:stCxn id="1647" idx="2"/>
              <a:endCxn id="1718" idx="3"/>
            </p:cNvCxnSpPr>
            <p:nvPr/>
          </p:nvCxnSpPr>
          <p:spPr>
            <a:xfrm flipV="1" rot="10800000">
              <a:off x="2456640" y="4005000"/>
              <a:ext cx="389880" cy="78480"/>
            </a:xfrm>
            <a:prstGeom prst="bentConnector3">
              <a:avLst>
                <a:gd name="adj1" fmla="val 497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2" name=""/>
            <p:cNvCxnSpPr>
              <a:stCxn id="1647" idx="2"/>
              <a:endCxn id="1719" idx="3"/>
            </p:cNvCxnSpPr>
            <p:nvPr/>
          </p:nvCxnSpPr>
          <p:spPr>
            <a:xfrm flipV="1" rot="10800000">
              <a:off x="2456640" y="4004280"/>
              <a:ext cx="389880" cy="641880"/>
            </a:xfrm>
            <a:prstGeom prst="bentConnector3">
              <a:avLst>
                <a:gd name="adj1" fmla="val 497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3" name=""/>
            <p:cNvCxnSpPr>
              <a:stCxn id="1647" idx="2"/>
              <a:endCxn id="1720" idx="3"/>
            </p:cNvCxnSpPr>
            <p:nvPr/>
          </p:nvCxnSpPr>
          <p:spPr>
            <a:xfrm flipV="1" rot="10800000">
              <a:off x="2456640" y="4004280"/>
              <a:ext cx="389880" cy="1205640"/>
            </a:xfrm>
            <a:prstGeom prst="bentConnector3">
              <a:avLst>
                <a:gd name="adj1" fmla="val 497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4" name=""/>
            <p:cNvCxnSpPr>
              <a:stCxn id="1647" idx="7"/>
            </p:cNvCxnSpPr>
            <p:nvPr/>
          </p:nvCxnSpPr>
          <p:spPr>
            <a:xfrm flipV="1">
              <a:off x="3645000" y="3362040"/>
              <a:ext cx="65160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5" name=""/>
            <p:cNvCxnSpPr>
              <a:stCxn id="1646" idx="0"/>
              <a:endCxn id="1636" idx="4"/>
            </p:cNvCxnSpPr>
            <p:nvPr/>
          </p:nvCxnSpPr>
          <p:spPr>
            <a:xfrm flipV="1">
              <a:off x="4992480" y="4127040"/>
              <a:ext cx="99000" cy="347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649" idx="1"/>
              <a:endCxn id="1636" idx="5"/>
            </p:cNvCxnSpPr>
            <p:nvPr/>
          </p:nvCxnSpPr>
          <p:spPr>
            <a:xfrm flipH="1" flipV="1">
              <a:off x="5598720" y="3916080"/>
              <a:ext cx="5436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648" idx="2"/>
              <a:endCxn id="1636" idx="7"/>
            </p:cNvCxnSpPr>
            <p:nvPr/>
          </p:nvCxnSpPr>
          <p:spPr>
            <a:xfrm flipH="1">
              <a:off x="5599080" y="2636640"/>
              <a:ext cx="60372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678" idx="6"/>
              <a:endCxn id="1636" idx="1"/>
            </p:cNvCxnSpPr>
            <p:nvPr/>
          </p:nvCxnSpPr>
          <p:spPr>
            <a:xfrm>
              <a:off x="3938400" y="2636640"/>
              <a:ext cx="64332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637" idx="4"/>
              <a:endCxn id="1636" idx="0"/>
            </p:cNvCxnSpPr>
            <p:nvPr/>
          </p:nvCxnSpPr>
          <p:spPr>
            <a:xfrm>
              <a:off x="5081760" y="2418840"/>
              <a:ext cx="10080" cy="243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0" name=""/>
            <p:cNvSpPr/>
            <p:nvPr/>
          </p:nvSpPr>
          <p:spPr>
            <a:xfrm>
              <a:off x="8969040" y="1890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๔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712880" y="9795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959320" y="18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๕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4" name=""/>
          <p:cNvGrpSpPr/>
          <p:nvPr/>
        </p:nvGrpSpPr>
        <p:grpSpPr>
          <a:xfrm>
            <a:off x="-160920" y="11880"/>
            <a:ext cx="10067040" cy="6703920"/>
            <a:chOff x="-160920" y="11880"/>
            <a:chExt cx="10067040" cy="6703920"/>
          </a:xfrm>
        </p:grpSpPr>
        <p:sp>
          <p:nvSpPr>
            <p:cNvPr id="1735" name=""/>
            <p:cNvSpPr/>
            <p:nvPr/>
          </p:nvSpPr>
          <p:spPr>
            <a:xfrm>
              <a:off x="4094280" y="2852640"/>
              <a:ext cx="1365120" cy="125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สงฆ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12880" y="2421000"/>
              <a:ext cx="97488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น้าที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045120" y="2708280"/>
              <a:ext cx="97488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ัวอย่า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846520" y="4076640"/>
              <a:ext cx="97452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ยา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88160" y="4149720"/>
              <a:ext cx="97632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สัมม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cs typeface="Cordia New"/>
                </a:rPr>
                <a:t>กับเศรษฐกิ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cs typeface="Cordia New"/>
                </a:rPr>
                <a:t>พอเพีย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89400" y="1700280"/>
              <a:ext cx="97488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สาวิก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29000" y="4653000"/>
              <a:ext cx="97488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พิธ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23440" y="3048480"/>
              <a:ext cx="19825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ป็นศิษย์ที่ด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ามหลักทิศเบื้องขวาในทิศ 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997200" y="3481200"/>
              <a:ext cx="144612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ข้าค่ายคุณ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-114120" y="3742920"/>
              <a:ext cx="274932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ข้าร่วมพิธีกรรมทางพระพุทธศาส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42880" y="4005000"/>
              <a:ext cx="197352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สดงตนเป็นพุทธมามก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6" name=""/>
            <p:cNvCxnSpPr>
              <a:stCxn id="1740" idx="4"/>
              <a:endCxn id="1735" idx="0"/>
            </p:cNvCxnSpPr>
            <p:nvPr/>
          </p:nvCxnSpPr>
          <p:spPr>
            <a:xfrm>
              <a:off x="4777920" y="2600280"/>
              <a:ext cx="1080" cy="24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7" name=""/>
            <p:cNvCxnSpPr>
              <a:stCxn id="1741" idx="0"/>
              <a:endCxn id="1735" idx="4"/>
            </p:cNvCxnSpPr>
            <p:nvPr/>
          </p:nvCxnSpPr>
          <p:spPr>
            <a:xfrm flipH="1" flipV="1">
              <a:off x="4777920" y="4123800"/>
              <a:ext cx="38880" cy="52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8" name=""/>
            <p:cNvCxnSpPr>
              <a:stCxn id="1738" idx="7"/>
              <a:endCxn id="1735" idx="3"/>
            </p:cNvCxnSpPr>
            <p:nvPr/>
          </p:nvCxnSpPr>
          <p:spPr>
            <a:xfrm flipV="1">
              <a:off x="3677760" y="3939480"/>
              <a:ext cx="616680" cy="26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9" name=""/>
            <p:cNvCxnSpPr>
              <a:stCxn id="1737" idx="2"/>
              <a:endCxn id="1735" idx="6"/>
            </p:cNvCxnSpPr>
            <p:nvPr/>
          </p:nvCxnSpPr>
          <p:spPr>
            <a:xfrm flipH="1">
              <a:off x="5471640" y="3159000"/>
              <a:ext cx="573840" cy="32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0" name=""/>
            <p:cNvCxnSpPr>
              <a:stCxn id="1736" idx="5"/>
              <a:endCxn id="1735" idx="2"/>
            </p:cNvCxnSpPr>
            <p:nvPr/>
          </p:nvCxnSpPr>
          <p:spPr>
            <a:xfrm>
              <a:off x="3444840" y="3189240"/>
              <a:ext cx="637200" cy="29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1" name=""/>
            <p:cNvCxnSpPr>
              <a:stCxn id="1739" idx="1"/>
              <a:endCxn id="1735" idx="5"/>
            </p:cNvCxnSpPr>
            <p:nvPr/>
          </p:nvCxnSpPr>
          <p:spPr>
            <a:xfrm flipH="1" flipV="1">
              <a:off x="5258880" y="3939840"/>
              <a:ext cx="7725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2" name=""/>
            <p:cNvSpPr/>
            <p:nvPr/>
          </p:nvSpPr>
          <p:spPr>
            <a:xfrm>
              <a:off x="135360" y="620640"/>
              <a:ext cx="24458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เรียนรู้ถึงหน้าที่ของพระภิกษ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ในการปฏิบัติตามหลักพระธรรมวินั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และจริยาวัตรอย่างเหมาะส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-56520" y="1241280"/>
              <a:ext cx="26640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ปลูกจิตสำนึกในด้านการบำรุงรักษ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วัด</a:t>
              </a: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ea typeface="CordiaUPC"/>
                </a:rPr>
                <a:t>/</a:t>
              </a: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พุทธสถานให้เกิดประโยชน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40" y="1693800"/>
              <a:ext cx="2567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ปฏิบัติหน้าที่ชาวพุทธตา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พุทธปณิธาน ๔ ในมหาปรินิพพานสูต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-4320" y="2133720"/>
              <a:ext cx="264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ศึกษาเรียนรู้เรื่ององค์ประกอบขอ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พระพุทธศาสนานำไปปฏิบัต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และเผยแผ่ตามโอกา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-160920" y="2768760"/>
              <a:ext cx="2825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การศึกษาการรวมตัวขององค์กรชาวพุท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975000" y="2838600"/>
              <a:ext cx="20836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ม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ea typeface="CordiaUPC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จ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ea typeface="CordiaUPC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หญิงพูนพิสมัย ดิศกุ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923520" y="3294000"/>
              <a:ext cx="249012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rial"/>
                  <a:cs typeface="CordiaUPC"/>
                </a:rPr>
                <a:t>ศาสตราจารย์สัญญา ธรรมศักดิ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42680" y="5013000"/>
              <a:ext cx="19947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ปฏิบัติตนต่อพระภิกษ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นงานศาสนพิธีที่บ้า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0" name=""/>
            <p:cNvCxnSpPr>
              <a:stCxn id="1738" idx="2"/>
              <a:endCxn id="1759" idx="3"/>
            </p:cNvCxnSpPr>
            <p:nvPr/>
          </p:nvCxnSpPr>
          <p:spPr>
            <a:xfrm flipV="1" rot="10800000">
              <a:off x="2504520" y="4526280"/>
              <a:ext cx="342000" cy="67320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61" name=""/>
            <p:cNvSpPr/>
            <p:nvPr/>
          </p:nvSpPr>
          <p:spPr>
            <a:xfrm>
              <a:off x="7120080" y="4291560"/>
              <a:ext cx="13766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ิธีทำบุญงานมงค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งานอวมงค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8640" y="4855320"/>
              <a:ext cx="284544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นิมนต์พระภิกษ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ตรียมที่ตั้งพระพุทธรูปและเครื่องบูช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วงสายสิญจน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ปูลาดอาสน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เตรียมเครื่องรับรอ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จุดธูปเทีย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00640" y="6165000"/>
              <a:ext cx="163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้อปฏิบัติในวันเลี้ยงพร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วายข้าวพระพุท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ถวายไทยธ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79280" y="620640"/>
              <a:ext cx="1822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อัญญาโกณฑัญญ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17440" y="851040"/>
              <a:ext cx="14918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มหาปชาบดีเถร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65680" y="1081080"/>
              <a:ext cx="9813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เขมาเถร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01240" y="1311120"/>
              <a:ext cx="15469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เจ้าปเสนทิโกศ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8" name=""/>
            <p:cNvCxnSpPr>
              <a:stCxn id="1769" idx="0"/>
              <a:endCxn id="1761" idx="1"/>
            </p:cNvCxnSpPr>
            <p:nvPr/>
          </p:nvCxnSpPr>
          <p:spPr>
            <a:xfrm flipH="1" flipV="1" rot="5400000">
              <a:off x="6470280" y="5054400"/>
              <a:ext cx="1411920" cy="23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0" name=""/>
            <p:cNvCxnSpPr>
              <a:stCxn id="1764" idx="1"/>
              <a:endCxn id="1740" idx="0"/>
            </p:cNvCxnSpPr>
            <p:nvPr/>
          </p:nvCxnSpPr>
          <p:spPr>
            <a:xfrm flipV="1" rot="10800000">
              <a:off x="4777560" y="745920"/>
              <a:ext cx="97560" cy="954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1" name=""/>
            <p:cNvCxnSpPr>
              <a:stCxn id="1765" idx="1"/>
              <a:endCxn id="1740" idx="0"/>
            </p:cNvCxnSpPr>
            <p:nvPr/>
          </p:nvCxnSpPr>
          <p:spPr>
            <a:xfrm flipV="1" rot="10800000">
              <a:off x="4777560" y="975240"/>
              <a:ext cx="97560" cy="72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2" name=""/>
            <p:cNvCxnSpPr>
              <a:stCxn id="1767" idx="1"/>
              <a:endCxn id="1740" idx="0"/>
            </p:cNvCxnSpPr>
            <p:nvPr/>
          </p:nvCxnSpPr>
          <p:spPr>
            <a:xfrm flipV="1" rot="10800000">
              <a:off x="4777560" y="1436400"/>
              <a:ext cx="9144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3" name=""/>
            <p:cNvCxnSpPr>
              <a:stCxn id="1766" idx="1"/>
              <a:endCxn id="1740" idx="0"/>
            </p:cNvCxnSpPr>
            <p:nvPr/>
          </p:nvCxnSpPr>
          <p:spPr>
            <a:xfrm flipV="1" rot="10800000">
              <a:off x="4777560" y="1206000"/>
              <a:ext cx="9756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4" name=""/>
            <p:cNvCxnSpPr>
              <a:stCxn id="1769" idx="1"/>
              <a:endCxn id="1762" idx="1"/>
            </p:cNvCxnSpPr>
            <p:nvPr/>
          </p:nvCxnSpPr>
          <p:spPr>
            <a:xfrm flipH="1" flipV="1" rot="5400000">
              <a:off x="6938640" y="5522400"/>
              <a:ext cx="475560" cy="23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5" name=""/>
            <p:cNvCxnSpPr>
              <a:stCxn id="1769" idx="0"/>
              <a:endCxn id="1763" idx="1"/>
            </p:cNvCxnSpPr>
            <p:nvPr/>
          </p:nvCxnSpPr>
          <p:spPr>
            <a:xfrm flipH="1" rot="16200000">
              <a:off x="7002720" y="6149160"/>
              <a:ext cx="347760" cy="23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6" name=""/>
            <p:cNvCxnSpPr>
              <a:stCxn id="1752" idx="3"/>
              <a:endCxn id="1736" idx="2"/>
            </p:cNvCxnSpPr>
            <p:nvPr/>
          </p:nvCxnSpPr>
          <p:spPr>
            <a:xfrm>
              <a:off x="2224080" y="879480"/>
              <a:ext cx="389520" cy="19926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7" name=""/>
            <p:cNvCxnSpPr>
              <a:stCxn id="1753" idx="3"/>
              <a:endCxn id="1736" idx="2"/>
            </p:cNvCxnSpPr>
            <p:nvPr/>
          </p:nvCxnSpPr>
          <p:spPr>
            <a:xfrm>
              <a:off x="2224080" y="1414440"/>
              <a:ext cx="389520" cy="14580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8" name=""/>
            <p:cNvCxnSpPr>
              <a:stCxn id="1745" idx="3"/>
              <a:endCxn id="1736" idx="2"/>
            </p:cNvCxnSpPr>
            <p:nvPr/>
          </p:nvCxnSpPr>
          <p:spPr>
            <a:xfrm flipV="1">
              <a:off x="2224080" y="2871000"/>
              <a:ext cx="389520" cy="1212120"/>
            </a:xfrm>
            <a:prstGeom prst="bentConnector3">
              <a:avLst>
                <a:gd name="adj1" fmla="val 4976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9" name=""/>
            <p:cNvCxnSpPr>
              <a:stCxn id="1755" idx="3"/>
              <a:endCxn id="1736" idx="2"/>
            </p:cNvCxnSpPr>
            <p:nvPr/>
          </p:nvCxnSpPr>
          <p:spPr>
            <a:xfrm>
              <a:off x="2224080" y="2392200"/>
              <a:ext cx="389520" cy="480240"/>
            </a:xfrm>
            <a:prstGeom prst="bentConnector3">
              <a:avLst>
                <a:gd name="adj1" fmla="val 4976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0" name=""/>
            <p:cNvCxnSpPr>
              <a:stCxn id="1754" idx="3"/>
              <a:endCxn id="1736" idx="2"/>
            </p:cNvCxnSpPr>
            <p:nvPr/>
          </p:nvCxnSpPr>
          <p:spPr>
            <a:xfrm>
              <a:off x="2224080" y="1866600"/>
              <a:ext cx="389520" cy="100548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1" name=""/>
            <p:cNvCxnSpPr>
              <a:stCxn id="1743" idx="3"/>
              <a:endCxn id="1736" idx="2"/>
            </p:cNvCxnSpPr>
            <p:nvPr/>
          </p:nvCxnSpPr>
          <p:spPr>
            <a:xfrm flipV="1">
              <a:off x="2224080" y="2871720"/>
              <a:ext cx="389520" cy="687960"/>
            </a:xfrm>
            <a:prstGeom prst="bentConnector3">
              <a:avLst>
                <a:gd name="adj1" fmla="val 4976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2" name=""/>
            <p:cNvCxnSpPr>
              <a:stCxn id="1742" idx="3"/>
              <a:endCxn id="1736" idx="2"/>
            </p:cNvCxnSpPr>
            <p:nvPr/>
          </p:nvCxnSpPr>
          <p:spPr>
            <a:xfrm flipV="1">
              <a:off x="2224080" y="2871360"/>
              <a:ext cx="389520" cy="342000"/>
            </a:xfrm>
            <a:prstGeom prst="bentConnector3">
              <a:avLst>
                <a:gd name="adj1" fmla="val 4976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3" name=""/>
            <p:cNvCxnSpPr>
              <a:stCxn id="1756" idx="3"/>
              <a:endCxn id="1736" idx="2"/>
            </p:cNvCxnSpPr>
            <p:nvPr/>
          </p:nvCxnSpPr>
          <p:spPr>
            <a:xfrm>
              <a:off x="2224080" y="2857320"/>
              <a:ext cx="389520" cy="1476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4" name=""/>
            <p:cNvCxnSpPr>
              <a:stCxn id="1744" idx="3"/>
              <a:endCxn id="1736" idx="2"/>
            </p:cNvCxnSpPr>
            <p:nvPr/>
          </p:nvCxnSpPr>
          <p:spPr>
            <a:xfrm flipV="1">
              <a:off x="2224080" y="2871000"/>
              <a:ext cx="389520" cy="950040"/>
            </a:xfrm>
            <a:prstGeom prst="bentConnector3">
              <a:avLst>
                <a:gd name="adj1" fmla="val 4976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5" name=""/>
            <p:cNvSpPr/>
            <p:nvPr/>
          </p:nvSpPr>
          <p:spPr>
            <a:xfrm>
              <a:off x="1635840" y="5398920"/>
              <a:ext cx="25405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จัดเตรียมสถานที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สนทน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แต่งกา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ยาทการพู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ใช้คำพูดกับพระภิกษุตามฐาน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6" name=""/>
            <p:cNvCxnSpPr>
              <a:stCxn id="1785" idx="1"/>
              <a:endCxn id="1759" idx="2"/>
            </p:cNvCxnSpPr>
            <p:nvPr/>
          </p:nvCxnSpPr>
          <p:spPr>
            <a:xfrm rot="10800000">
              <a:off x="1739160" y="5385600"/>
              <a:ext cx="172080" cy="43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7" name=""/>
            <p:cNvSpPr/>
            <p:nvPr/>
          </p:nvSpPr>
          <p:spPr>
            <a:xfrm flipV="1">
              <a:off x="7059600" y="5877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"/>
            <p:cNvCxnSpPr>
              <a:stCxn id="1741" idx="4"/>
              <a:endCxn id="1787" idx="0"/>
            </p:cNvCxnSpPr>
            <p:nvPr/>
          </p:nvCxnSpPr>
          <p:spPr>
            <a:xfrm flipH="1" rot="16200000">
              <a:off x="5667120" y="4701240"/>
              <a:ext cx="540720" cy="2243880"/>
            </a:xfrm>
            <a:prstGeom prst="bentConnector3">
              <a:avLst>
                <a:gd name="adj1" fmla="val 4230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89" name=""/>
            <p:cNvSpPr/>
            <p:nvPr/>
          </p:nvSpPr>
          <p:spPr>
            <a:xfrm>
              <a:off x="0" y="11880"/>
              <a:ext cx="9906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สงฆ์  ชั้นมัธยมศึกษาปีที่  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0" name=""/>
            <p:cNvCxnSpPr>
              <a:stCxn id="1736" idx="5"/>
              <a:endCxn id="1735" idx="2"/>
            </p:cNvCxnSpPr>
            <p:nvPr/>
          </p:nvCxnSpPr>
          <p:spPr>
            <a:xfrm>
              <a:off x="3444840" y="3189240"/>
              <a:ext cx="637200" cy="294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1" name=""/>
            <p:cNvCxnSpPr>
              <a:stCxn id="1738" idx="7"/>
              <a:endCxn id="1735" idx="3"/>
            </p:cNvCxnSpPr>
            <p:nvPr/>
          </p:nvCxnSpPr>
          <p:spPr>
            <a:xfrm flipV="1">
              <a:off x="3677760" y="3939480"/>
              <a:ext cx="616680" cy="26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2" name=""/>
            <p:cNvCxnSpPr>
              <a:stCxn id="1740" idx="4"/>
              <a:endCxn id="1735" idx="0"/>
            </p:cNvCxnSpPr>
            <p:nvPr/>
          </p:nvCxnSpPr>
          <p:spPr>
            <a:xfrm>
              <a:off x="4777920" y="2600280"/>
              <a:ext cx="1080" cy="240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3" name=""/>
            <p:cNvCxnSpPr>
              <a:stCxn id="1741" idx="0"/>
              <a:endCxn id="1735" idx="4"/>
            </p:cNvCxnSpPr>
            <p:nvPr/>
          </p:nvCxnSpPr>
          <p:spPr>
            <a:xfrm flipH="1" flipV="1">
              <a:off x="4777920" y="4123800"/>
              <a:ext cx="38880" cy="529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4" name=""/>
            <p:cNvCxnSpPr>
              <a:stCxn id="1739" idx="1"/>
              <a:endCxn id="1735" idx="5"/>
            </p:cNvCxnSpPr>
            <p:nvPr/>
          </p:nvCxnSpPr>
          <p:spPr>
            <a:xfrm flipH="1" flipV="1">
              <a:off x="5258880" y="3939840"/>
              <a:ext cx="772560" cy="342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5" name=""/>
            <p:cNvCxnSpPr>
              <a:stCxn id="1737" idx="2"/>
              <a:endCxn id="1735" idx="6"/>
            </p:cNvCxnSpPr>
            <p:nvPr/>
          </p:nvCxnSpPr>
          <p:spPr>
            <a:xfrm flipH="1">
              <a:off x="5471640" y="3159000"/>
              <a:ext cx="573840" cy="3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6" name=""/>
            <p:cNvCxnSpPr>
              <a:stCxn id="1737" idx="6"/>
              <a:endCxn id="1757" idx="1"/>
            </p:cNvCxnSpPr>
            <p:nvPr/>
          </p:nvCxnSpPr>
          <p:spPr>
            <a:xfrm flipV="1">
              <a:off x="7020000" y="2939760"/>
              <a:ext cx="273240" cy="219600"/>
            </a:xfrm>
            <a:prstGeom prst="bentConnector3">
              <a:avLst>
                <a:gd name="adj1" fmla="val 4973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7" name=""/>
            <p:cNvCxnSpPr>
              <a:stCxn id="1737" idx="6"/>
              <a:endCxn id="1758" idx="1"/>
            </p:cNvCxnSpPr>
            <p:nvPr/>
          </p:nvCxnSpPr>
          <p:spPr>
            <a:xfrm>
              <a:off x="7020000" y="3158640"/>
              <a:ext cx="273240" cy="237240"/>
            </a:xfrm>
            <a:prstGeom prst="bentConnector3">
              <a:avLst>
                <a:gd name="adj1" fmla="val 4973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8" name=""/>
            <p:cNvSpPr/>
            <p:nvPr/>
          </p:nvSpPr>
          <p:spPr>
            <a:xfrm>
              <a:off x="8962200" y="18900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๕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956800" y="18900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๕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6200" y="-80280"/>
            <a:ext cx="7181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พระพุทธศาสนา  ช่วงชั้นที่ ๓ ระดับชั้นมัธยมศึกษาปีที่ ๑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CordiaUPC"/>
              </a:rPr>
              <a:t>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6480" y="529200"/>
            <a:ext cx="1040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ภาพแวดล้อมที่กว้างขวา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ครอบคลุมสังคมไท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9000" y="422280"/>
            <a:ext cx="8701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ถาบันหลักสังคมไท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03480" y="279360"/>
            <a:ext cx="743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าประจำชา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6760" y="919800"/>
            <a:ext cx="468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ติตติร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72280" y="226800"/>
            <a:ext cx="183384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  พิธีเวียนเทียน  การปฏิบัติตนในวันมาฆบูชา  วันวิสาขบูชา วันอัฏฐมีบูชา วันอาสาฬหบูช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45560" y="1211760"/>
            <a:ext cx="17128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ความสำคัญของวันธรรมสวน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เข้าพรรษา วันออกพรรษา วันเทโวโรหณ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14880" y="1557360"/>
            <a:ext cx="12394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9600" y="1268280"/>
            <a:ext cx="781200" cy="32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34080" y="2028960"/>
            <a:ext cx="6602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22760" y="182880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0040" y="2755800"/>
            <a:ext cx="1403280" cy="533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07480"/>
            <a:ext cx="531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ังคาย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564120"/>
            <a:ext cx="622440" cy="38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ต่อสังคมไท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ฐานะเป็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82960" y="983520"/>
            <a:ext cx="1012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เข้าสู่ประเทศไท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11840" y="1484280"/>
            <a:ext cx="54468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4240" y="565920"/>
            <a:ext cx="81828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เคราะห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2880" y="919800"/>
            <a:ext cx="409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มพ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51760" y="955080"/>
            <a:ext cx="1252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9480" y="2654280"/>
            <a:ext cx="812880" cy="74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9000" y="2565360"/>
            <a:ext cx="857520" cy="43200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คุณ 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ธรรมคุณ 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CordiaUPC"/>
              </a:rPr>
              <a:t>สังฆคุณ 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2640" y="2205000"/>
            <a:ext cx="7808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อริยสัจ 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560" y="108720"/>
            <a:ext cx="16016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กข์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รู้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" y="756360"/>
            <a:ext cx="161388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ุทัย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ละ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63720" y="1620000"/>
            <a:ext cx="17708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โรธ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บรรลุ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61560" y="2483640"/>
            <a:ext cx="178740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เจริญ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5160" y="404280"/>
            <a:ext cx="3322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ขันธ์ 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1160" y="549000"/>
            <a:ext cx="14598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ธาตุ ๔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ายตนะ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ไตรลักษณ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4040" y="980640"/>
            <a:ext cx="10713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หมายและ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880" y="1915560"/>
            <a:ext cx="1119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ข ๒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ยิก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เจตสิ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         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ามิส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รามิ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200" y="2133360"/>
            <a:ext cx="3078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คิหิสุ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240" y="2781000"/>
            <a:ext cx="4647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ไตรสิกข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5680" y="2781000"/>
            <a:ext cx="6033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รรมฐาน 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3040" y="2936520"/>
            <a:ext cx="3916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ธาน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4480" y="2936520"/>
            <a:ext cx="3855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โกศล 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" y="3860280"/>
            <a:ext cx="4860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มงคล ๓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80" y="4149000"/>
            <a:ext cx="1761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ไม่คบคนพาล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คบบัณฑิต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บูชาผู้ควรบูช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640" y="1044720"/>
            <a:ext cx="51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4320" y="3587760"/>
            <a:ext cx="9903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3480" y="3213000"/>
            <a:ext cx="1138320" cy="36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ศาสนสุภาษ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7360" y="3429000"/>
            <a:ext cx="1238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บริหารจ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จริญปัญญ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0200" y="3860640"/>
            <a:ext cx="10904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ัพท์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2960" y="4654800"/>
            <a:ext cx="96300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 anchorCtr="1">
            <a:spAutoFit/>
          </a:bodyPr>
          <a:p>
            <a:pPr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ยํ  เว  เสวติ  ตาทิโ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19480" y="4831200"/>
            <a:ext cx="99648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 anchorCtr="1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ตฺตนา  โจทยตฺตาน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4560" y="5007240"/>
            <a:ext cx="93708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 anchorCtr="1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สมฺม กรณํ เสยฺโ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2120" y="5183640"/>
            <a:ext cx="101016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 anchorCtr="1">
            <a:spAutoFit/>
          </a:bodyPr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ราวาสา ฆรา ทุกฺข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05160" y="4497120"/>
            <a:ext cx="955440" cy="1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โครงสร้างชื่อคัมภี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46920" y="5296680"/>
            <a:ext cx="813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ื่องน่า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จากพระไตรปิฎ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79840" y="5635800"/>
            <a:ext cx="105732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ภิณหปัจจเวกขณ์ ๕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92880" y="5159880"/>
            <a:ext cx="175536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ตามหลักสติปัฏฐานเน้นอานาปานส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29560" y="4445640"/>
            <a:ext cx="335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ิย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เว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83160" y="4871160"/>
            <a:ext cx="171432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รู้และเข้าใจวิธีปฏิบัติและประโยชน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9800" y="5880600"/>
            <a:ext cx="135324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ัฒนาการเรียนรู้ด้วยวิธีคิ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โยนิโสม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1680" y="4655160"/>
            <a:ext cx="1350000" cy="14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วดมนต์แปลและแผ่เมตต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1000" y="5518800"/>
            <a:ext cx="1764720" cy="281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ำวิธีการบริหารจิตและเจริญปัญญ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ไปใช้ในชีวิตประจำว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88756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2520" y="4621680"/>
            <a:ext cx="8578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าระสังเขปข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วินัยปิฏ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ุตตันตปิฎ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อภิธรรมปิฎ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7680" y="2475000"/>
            <a:ext cx="9889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หน้าที่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15120" y="3357720"/>
            <a:ext cx="10922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วพุทธตัวอย่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80400" y="3789360"/>
            <a:ext cx="11300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9000" y="4373640"/>
            <a:ext cx="10144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มม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429000"/>
            <a:ext cx="99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ิก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2880" y="4076640"/>
            <a:ext cx="7794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พิธ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59600" y="1102680"/>
            <a:ext cx="907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ียนรู้วิถีชีวิตของพระภิกษ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ที่ต้องศึกษาคันถธุร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วิปัสสนาธุร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59600" y="1501920"/>
            <a:ext cx="10080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ัวอย่างเหมาะส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ด้านกาย วาจา ใ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59600" y="1670040"/>
            <a:ext cx="85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ป็นเพื่อนที่ดีตา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ทิศเบื้องซ้ายในทิศ 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59600" y="1913400"/>
            <a:ext cx="6238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มิตรแท้ มิตรเทีย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80280" y="2813760"/>
            <a:ext cx="93096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ค่ายคุณธรร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58600" y="2926800"/>
            <a:ext cx="17647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ร่วมพิธีกรรมทางพระพุทธศาส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81360" y="3039480"/>
            <a:ext cx="12679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ดงตนเป็นพุทธมามก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13800" y="3462840"/>
            <a:ext cx="765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อโศกมหารา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84200" y="3180240"/>
            <a:ext cx="108036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โสณะและพระอุตตร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19400" y="4077720"/>
            <a:ext cx="41580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ไปวั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08160" y="4219560"/>
            <a:ext cx="1287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 การนำเด็กไปวั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ในเขตวั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พบพระภิกษ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44520" y="4676040"/>
            <a:ext cx="97524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ดงความเคาร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6000" y="4830480"/>
            <a:ext cx="6246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ระนมมื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51520" y="4960440"/>
            <a:ext cx="8154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ไหว้  การกรา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15160" y="5097240"/>
            <a:ext cx="10422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คารพพระรัตนตรั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95000" y="5258880"/>
            <a:ext cx="117792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เจริญพระพุทธมนต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09400" y="5412960"/>
            <a:ext cx="106956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สวดพระอภิธรร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18760" y="5571720"/>
            <a:ext cx="103464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พระธรรมเทศ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3860280"/>
            <a:ext cx="7513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มหากัสสป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32480" y="4149360"/>
            <a:ext cx="4813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อุบาล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6160" y="4292280"/>
            <a:ext cx="6825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นาถบิณฑิก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7280" y="4579560"/>
            <a:ext cx="5194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างวิสาข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440" y="4864680"/>
            <a:ext cx="8568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โต๊ะหมู่บูช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หมู่ ๔ หมู่ 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หมู่ ๗  และ หมู่ 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3640" y="4868280"/>
            <a:ext cx="106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ุดธูปเท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เครื่องประกอ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โต๊ะหมู่บูช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760" y="5229000"/>
            <a:ext cx="8841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คำอาราธนาต่าง 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62" idx="4"/>
            <a:endCxn id="63" idx="0"/>
          </p:cNvCxnSpPr>
          <p:nvPr/>
        </p:nvCxnSpPr>
        <p:spPr>
          <a:xfrm flipH="1">
            <a:off x="4980960" y="2527200"/>
            <a:ext cx="13320" cy="2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71" idx="6"/>
            <a:endCxn id="63" idx="1"/>
          </p:cNvCxnSpPr>
          <p:nvPr/>
        </p:nvCxnSpPr>
        <p:spPr>
          <a:xfrm flipV="1">
            <a:off x="4044960" y="3022200"/>
            <a:ext cx="203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07" idx="2"/>
            <a:endCxn id="63" idx="3"/>
          </p:cNvCxnSpPr>
          <p:nvPr/>
        </p:nvCxnSpPr>
        <p:spPr>
          <a:xfrm flipH="1" flipV="1">
            <a:off x="5713200" y="3022200"/>
            <a:ext cx="21816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62" idx="2"/>
            <a:endCxn id="59" idx="5"/>
          </p:cNvCxnSpPr>
          <p:nvPr/>
        </p:nvCxnSpPr>
        <p:spPr>
          <a:xfrm flipH="1" flipV="1">
            <a:off x="4371480" y="2109600"/>
            <a:ext cx="2390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62" idx="7"/>
            <a:endCxn id="67" idx="3"/>
          </p:cNvCxnSpPr>
          <p:nvPr/>
        </p:nvCxnSpPr>
        <p:spPr>
          <a:xfrm flipV="1">
            <a:off x="5257440" y="1699920"/>
            <a:ext cx="63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62" idx="6"/>
            <a:endCxn id="61" idx="2"/>
          </p:cNvCxnSpPr>
          <p:nvPr/>
        </p:nvCxnSpPr>
        <p:spPr>
          <a:xfrm>
            <a:off x="5379840" y="217188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62" idx="0"/>
            <a:endCxn id="60" idx="4"/>
          </p:cNvCxnSpPr>
          <p:nvPr/>
        </p:nvCxnSpPr>
        <p:spPr>
          <a:xfrm flipV="1">
            <a:off x="4994280" y="1594800"/>
            <a:ext cx="1166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98640" y="1444320"/>
            <a:ext cx="7239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ปัญจธรรม 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7360" y="907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89" idx="1"/>
            <a:endCxn id="148" idx="0"/>
          </p:cNvCxnSpPr>
          <p:nvPr/>
        </p:nvCxnSpPr>
        <p:spPr>
          <a:xfrm rot="10800000">
            <a:off x="116640" y="1051920"/>
            <a:ext cx="84960" cy="68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1"/>
            <a:endCxn id="148" idx="1"/>
          </p:cNvCxnSpPr>
          <p:nvPr/>
        </p:nvCxnSpPr>
        <p:spPr>
          <a:xfrm rot="10800000">
            <a:off x="116640" y="1051920"/>
            <a:ext cx="64440" cy="47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89" idx="3"/>
            <a:endCxn id="80" idx="1"/>
          </p:cNvCxnSpPr>
          <p:nvPr/>
        </p:nvCxnSpPr>
        <p:spPr>
          <a:xfrm flipV="1">
            <a:off x="585720" y="1059840"/>
            <a:ext cx="78480" cy="60840"/>
          </a:xfrm>
          <a:prstGeom prst="bentConnector3">
            <a:avLst>
              <a:gd name="adj1" fmla="val 488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195120" y="1844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73" idx="6"/>
            <a:endCxn id="71" idx="0"/>
          </p:cNvCxnSpPr>
          <p:nvPr/>
        </p:nvCxnSpPr>
        <p:spPr>
          <a:xfrm>
            <a:off x="3003120" y="2349360"/>
            <a:ext cx="62316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72" idx="5"/>
            <a:endCxn id="71" idx="2"/>
          </p:cNvCxnSpPr>
          <p:nvPr/>
        </p:nvCxnSpPr>
        <p:spPr>
          <a:xfrm>
            <a:off x="2720880" y="2933280"/>
            <a:ext cx="48672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90" idx="7"/>
            <a:endCxn id="71" idx="3"/>
          </p:cNvCxnSpPr>
          <p:nvPr/>
        </p:nvCxnSpPr>
        <p:spPr>
          <a:xfrm flipV="1">
            <a:off x="3100320" y="3306240"/>
            <a:ext cx="23904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91" idx="6"/>
            <a:endCxn id="71" idx="3"/>
          </p:cNvCxnSpPr>
          <p:nvPr/>
        </p:nvCxnSpPr>
        <p:spPr>
          <a:xfrm flipV="1">
            <a:off x="2971440" y="3306240"/>
            <a:ext cx="36756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93" idx="0"/>
            <a:endCxn id="71" idx="4"/>
          </p:cNvCxnSpPr>
          <p:nvPr/>
        </p:nvCxnSpPr>
        <p:spPr>
          <a:xfrm flipV="1">
            <a:off x="3316320" y="3416040"/>
            <a:ext cx="310320" cy="44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92" idx="0"/>
            <a:endCxn id="71" idx="5"/>
          </p:cNvCxnSpPr>
          <p:nvPr/>
        </p:nvCxnSpPr>
        <p:spPr>
          <a:xfrm flipH="1" flipV="1">
            <a:off x="3912840" y="330624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13" idx="6"/>
            <a:endCxn id="107" idx="3"/>
          </p:cNvCxnSpPr>
          <p:nvPr/>
        </p:nvCxnSpPr>
        <p:spPr>
          <a:xfrm flipV="1">
            <a:off x="5943600" y="3485880"/>
            <a:ext cx="1101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0" name=""/>
          <p:cNvCxnSpPr>
            <a:stCxn id="114" idx="0"/>
            <a:endCxn id="107" idx="4"/>
          </p:cNvCxnSpPr>
          <p:nvPr/>
        </p:nvCxnSpPr>
        <p:spPr>
          <a:xfrm flipH="1" flipV="1">
            <a:off x="6314400" y="3585960"/>
            <a:ext cx="1990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11" idx="1"/>
            <a:endCxn id="107" idx="5"/>
          </p:cNvCxnSpPr>
          <p:nvPr/>
        </p:nvCxnSpPr>
        <p:spPr>
          <a:xfrm flipH="1" flipV="1">
            <a:off x="6578280" y="3485880"/>
            <a:ext cx="56736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10" idx="1"/>
            <a:endCxn id="107" idx="6"/>
          </p:cNvCxnSpPr>
          <p:nvPr/>
        </p:nvCxnSpPr>
        <p:spPr>
          <a:xfrm flipH="1" flipV="1">
            <a:off x="6700320" y="3230280"/>
            <a:ext cx="6739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09" idx="4"/>
            <a:endCxn id="107" idx="0"/>
          </p:cNvCxnSpPr>
          <p:nvPr/>
        </p:nvCxnSpPr>
        <p:spPr>
          <a:xfrm flipH="1">
            <a:off x="6314760" y="2761920"/>
            <a:ext cx="86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12" idx="0"/>
            <a:endCxn id="107" idx="5"/>
          </p:cNvCxnSpPr>
          <p:nvPr/>
        </p:nvCxnSpPr>
        <p:spPr>
          <a:xfrm flipH="1" flipV="1">
            <a:off x="6578640" y="3485520"/>
            <a:ext cx="59868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833480" y="1151280"/>
            <a:ext cx="13035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เข้าสู่ประเทศเพื่อนบ้านและการนับถือพระพุทธศาสนาของประเทศเพื่อนบ้านในปัจจุบ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55800" y="1685880"/>
            <a:ext cx="13032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เข้าสู่ประเทศต่าง ๆ ทั่วโลกและการนับถือพระพุทธศาสนาของประเทศเหล่านั้นในปัจจุบ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02760" y="279360"/>
            <a:ext cx="85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กฐานของวัฒน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004560" y="422280"/>
            <a:ext cx="1091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เอกลักษณ์และมรดกของชา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7360" y="933120"/>
            <a:ext cx="1092240" cy="508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ช่วยเสริมสร้างความเข้าใ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นดีกับประเทศเพื่อนบ้า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568800"/>
            <a:ext cx="1168200" cy="38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  <a:cs typeface="CordiaUPC"/>
              </a:rPr>
              <a:t>ช่วยสร้างสรรค์อารยธรรมและความสงบสุขให้แก่โล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25720" y="404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6520" y="69228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54" idx="3"/>
          </p:cNvCxnSpPr>
          <p:nvPr/>
        </p:nvCxnSpPr>
        <p:spPr>
          <a:xfrm>
            <a:off x="2858760" y="533520"/>
            <a:ext cx="67320" cy="8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55" idx="3"/>
            <a:endCxn id="171" idx="0"/>
          </p:cNvCxnSpPr>
          <p:nvPr/>
        </p:nvCxnSpPr>
        <p:spPr>
          <a:xfrm>
            <a:off x="2846520" y="388800"/>
            <a:ext cx="79920" cy="16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7" idx="1"/>
            <a:endCxn id="171" idx="0"/>
          </p:cNvCxnSpPr>
          <p:nvPr/>
        </p:nvCxnSpPr>
        <p:spPr>
          <a:xfrm flipV="1" rot="10800000">
            <a:off x="2925000" y="388440"/>
            <a:ext cx="78480" cy="16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 flipV="1" rot="10800000">
            <a:off x="2925000" y="533160"/>
            <a:ext cx="78480" cy="16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 flipV="1">
            <a:off x="3236760" y="177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64" idx="3"/>
            <a:endCxn id="177" idx="0"/>
          </p:cNvCxnSpPr>
          <p:nvPr/>
        </p:nvCxnSpPr>
        <p:spPr>
          <a:xfrm>
            <a:off x="3087720" y="963360"/>
            <a:ext cx="149760" cy="81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66" idx="3"/>
            <a:endCxn id="177" idx="1"/>
          </p:cNvCxnSpPr>
          <p:nvPr/>
        </p:nvCxnSpPr>
        <p:spPr>
          <a:xfrm>
            <a:off x="3095640" y="1134720"/>
            <a:ext cx="1418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5" idx="3"/>
            <a:endCxn id="177" idx="1"/>
          </p:cNvCxnSpPr>
          <p:nvPr/>
        </p:nvCxnSpPr>
        <p:spPr>
          <a:xfrm>
            <a:off x="3136680" y="1474560"/>
            <a:ext cx="100440" cy="30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3159000" y="191448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53960" y="358200"/>
            <a:ext cx="2130480" cy="121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ศึกษาพุทธประวัติจากพระพุทธรูปปางต่าง 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21240" y="1064520"/>
            <a:ext cx="623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มิตตวินทุก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0960" y="1207440"/>
            <a:ext cx="625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ราโชวาท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9080" y="1268280"/>
            <a:ext cx="781560" cy="1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ันทิวิสาล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02360" y="1064520"/>
            <a:ext cx="701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วัณณหังสชาด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4680" y="525600"/>
            <a:ext cx="5461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ผจญม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27040" y="549360"/>
            <a:ext cx="4831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ตรัส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35760" y="808200"/>
            <a:ext cx="5684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สั่งสอ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92680" y="808200"/>
            <a:ext cx="5608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ฐมเทศ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1800" y="808200"/>
            <a:ext cx="7862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โอวาทปาฏิโมกข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5760" y="317520"/>
            <a:ext cx="3488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ประสู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64160" y="312840"/>
            <a:ext cx="4525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เทวทูต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93280" y="549360"/>
            <a:ext cx="8640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บำเพ็ญทุกรกิริย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04800" y="317520"/>
            <a:ext cx="9385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  <a:cs typeface="CordiaUPC"/>
              </a:rPr>
              <a:t>การแสวงหาความ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97400" y="12682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5480" y="981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370400" y="9028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122880" y="750960"/>
            <a:ext cx="1405080" cy="85320"/>
            <a:chOff x="6122880" y="750960"/>
            <a:chExt cx="1405080" cy="85320"/>
          </a:xfrm>
        </p:grpSpPr>
        <p:sp>
          <p:nvSpPr>
            <p:cNvPr id="200" name=""/>
            <p:cNvSpPr/>
            <p:nvPr/>
          </p:nvSpPr>
          <p:spPr>
            <a:xfrm>
              <a:off x="6122880" y="750960"/>
              <a:ext cx="140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7960" y="754560"/>
              <a:ext cx="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48640" y="754560"/>
              <a:ext cx="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1840" y="754560"/>
              <a:ext cx="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18200" y="422280"/>
            <a:ext cx="1560240" cy="155520"/>
            <a:chOff x="6118200" y="422280"/>
            <a:chExt cx="1560240" cy="155520"/>
          </a:xfrm>
        </p:grpSpPr>
        <p:sp>
          <p:nvSpPr>
            <p:cNvPr id="205" name=""/>
            <p:cNvSpPr/>
            <p:nvPr/>
          </p:nvSpPr>
          <p:spPr>
            <a:xfrm>
              <a:off x="6118200" y="496800"/>
              <a:ext cx="15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78440" y="5047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9120" y="5047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72360" y="5047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0360" y="42876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64680" y="433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3200" y="422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30640" y="485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0640" y="69228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6800" y="1042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35760" y="10382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9280" y="118728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35760" y="1327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967360" y="4903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67360" y="49680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89600" y="7509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48520" y="418680"/>
            <a:ext cx="155268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ธรรมเบื้องต้นที่เกี่ยวเนื่องในวันม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าฆบูช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วันวิสาขบูชา วันอัฏฐมีบูชา วันอาสาฬหบูช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47080" y="724680"/>
            <a:ext cx="17794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วันสำคัญทางพระพุทธศาสนาในประเทศไท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53560" y="845280"/>
            <a:ext cx="98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วิสาขบูชาวันสำคัญสาก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57440" y="1438560"/>
            <a:ext cx="1749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และการปฏิบัติตนในวันธรรมสวน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เข้าพรรษา วันออกพรรษา วันเทโวโรหณ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18200" y="1656360"/>
            <a:ext cx="2029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ักปฏิบัติตน การฟังพระธรรมเทศนา การแต่งก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ารประกอบพิธีที่วัด  การงดเว้นอบายมุ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ระพฤติวิรัติในวันธรรมสวนะและเทศกาลสำคั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3120" y="2133720"/>
            <a:ext cx="12906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เข้าใจบทบาทของพระภิกษ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ในการเผยแผ่พระพุทธศาส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80680" y="2411280"/>
            <a:ext cx="1229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ารฝึกบทบาทตนเองใน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ช่วยเผยแผ่พระพุทธศาส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1880" y="2725560"/>
            <a:ext cx="1368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รียนรู้ถึงหน้าที่ของพระภิกษุใ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cs typeface="CordiaUPC"/>
              </a:rPr>
              <a:t>การปฏิบัติตามหลักพระธรรมวินั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65080" y="2041560"/>
            <a:ext cx="17830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ารปลูกจิตสำนึกในด้าน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บำรุงรักษาวัด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ea typeface="CordiaUPC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พุทธสถานให้เกิดประโยชน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55000" y="2276640"/>
            <a:ext cx="19674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ารปฏิบัติหน้าที่ชาวพุทธตามพุทธปณิธาน ๔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ในมหาปรินิพพานสูต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76960" y="2513160"/>
            <a:ext cx="1697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ารศึกษาเรียนรู้เรื่ององค์ประกอบขอ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พระพุทธศาสนานำไปปฏิบัติและเผยแผ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ตามโอกาส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59600" y="2921040"/>
            <a:ext cx="7812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ารศึกษาการรวมตั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ขององค์กรชาวพุท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18560" y="40644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75520" y="1143000"/>
            <a:ext cx="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57" idx="1"/>
            <a:endCxn id="233" idx="0"/>
          </p:cNvCxnSpPr>
          <p:nvPr/>
        </p:nvCxnSpPr>
        <p:spPr>
          <a:xfrm flipV="1" rot="10800000">
            <a:off x="7917840" y="403560"/>
            <a:ext cx="154440" cy="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1"/>
          </p:cNvCxnSpPr>
          <p:nvPr/>
        </p:nvCxnSpPr>
        <p:spPr>
          <a:xfrm flipV="1" rot="10800000">
            <a:off x="7917840" y="640440"/>
            <a:ext cx="130680" cy="124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7918560" y="82692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2" idx="1"/>
            <a:endCxn id="237" idx="0"/>
          </p:cNvCxnSpPr>
          <p:nvPr/>
        </p:nvCxnSpPr>
        <p:spPr>
          <a:xfrm flipH="1">
            <a:off x="7917840" y="824040"/>
            <a:ext cx="1292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58" idx="1"/>
            <a:endCxn id="234" idx="0"/>
          </p:cNvCxnSpPr>
          <p:nvPr/>
        </p:nvCxnSpPr>
        <p:spPr>
          <a:xfrm rot="10800000">
            <a:off x="8075520" y="1253520"/>
            <a:ext cx="76680" cy="5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4" idx="1"/>
            <a:endCxn id="234" idx="1"/>
          </p:cNvCxnSpPr>
          <p:nvPr/>
        </p:nvCxnSpPr>
        <p:spPr>
          <a:xfrm rot="10800000">
            <a:off x="8075520" y="1253520"/>
            <a:ext cx="76680" cy="28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6513480" y="14130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904080" y="10681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4080" y="10717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61" idx="6"/>
            <a:endCxn id="241" idx="0"/>
          </p:cNvCxnSpPr>
          <p:nvPr/>
        </p:nvCxnSpPr>
        <p:spPr>
          <a:xfrm flipV="1">
            <a:off x="6393960" y="1412640"/>
            <a:ext cx="11988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8586360" y="3673440"/>
            <a:ext cx="998280" cy="1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พระมหาธรรมราชาลิไ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544240" y="3308400"/>
            <a:ext cx="11962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สมเด็จพระมหาสมณเจ้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กรมพระยาวชิรญาณวโรรส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3787920"/>
            <a:ext cx="1181160" cy="1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ม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ea typeface="CordiaUPC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จ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ea typeface="CordiaUPC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หญิงพูนพิสมัย ดิศกุ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14720" y="3902040"/>
            <a:ext cx="1409760" cy="1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rial"/>
                <a:cs typeface="CordiaUPC"/>
              </a:rPr>
              <a:t>ศาสตราจารย์สัญญา ธรรมศักดิ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109" idx="6"/>
            <a:endCxn id="115" idx="1"/>
          </p:cNvCxnSpPr>
          <p:nvPr/>
        </p:nvCxnSpPr>
        <p:spPr>
          <a:xfrm flipV="1">
            <a:off x="6816240" y="1377720"/>
            <a:ext cx="243720" cy="124200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109" idx="6"/>
            <a:endCxn id="116" idx="1"/>
          </p:cNvCxnSpPr>
          <p:nvPr/>
        </p:nvCxnSpPr>
        <p:spPr>
          <a:xfrm flipV="1">
            <a:off x="6816240" y="1657080"/>
            <a:ext cx="243720" cy="962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109" idx="6"/>
            <a:endCxn id="117" idx="1"/>
          </p:cNvCxnSpPr>
          <p:nvPr/>
        </p:nvCxnSpPr>
        <p:spPr>
          <a:xfrm flipV="1">
            <a:off x="6816240" y="1872360"/>
            <a:ext cx="243720" cy="74700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109" idx="6"/>
            <a:endCxn id="226" idx="1"/>
          </p:cNvCxnSpPr>
          <p:nvPr/>
        </p:nvCxnSpPr>
        <p:spPr>
          <a:xfrm flipV="1">
            <a:off x="6816240" y="2246040"/>
            <a:ext cx="243720" cy="37368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109" idx="6"/>
            <a:endCxn id="227" idx="1"/>
          </p:cNvCxnSpPr>
          <p:nvPr/>
        </p:nvCxnSpPr>
        <p:spPr>
          <a:xfrm flipV="1">
            <a:off x="6816240" y="2523240"/>
            <a:ext cx="243720" cy="96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109" idx="6"/>
            <a:endCxn id="228" idx="1"/>
          </p:cNvCxnSpPr>
          <p:nvPr/>
        </p:nvCxnSpPr>
        <p:spPr>
          <a:xfrm>
            <a:off x="6816240" y="2619360"/>
            <a:ext cx="243720" cy="20880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56" idx="0"/>
            <a:endCxn id="229" idx="1"/>
          </p:cNvCxnSpPr>
          <p:nvPr/>
        </p:nvCxnSpPr>
        <p:spPr>
          <a:xfrm flipH="1" flipV="1" rot="5400000">
            <a:off x="8097480" y="2270880"/>
            <a:ext cx="338760" cy="104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6" idx="0"/>
            <a:endCxn id="230" idx="1"/>
          </p:cNvCxnSpPr>
          <p:nvPr/>
        </p:nvCxnSpPr>
        <p:spPr>
          <a:xfrm flipH="1" flipV="1" rot="5400000">
            <a:off x="8214840" y="2388600"/>
            <a:ext cx="103680" cy="104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8215200" y="2492280"/>
            <a:ext cx="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119" idx="1"/>
            <a:endCxn id="258" idx="1"/>
          </p:cNvCxnSpPr>
          <p:nvPr/>
        </p:nvCxnSpPr>
        <p:spPr>
          <a:xfrm rot="10800000">
            <a:off x="8214480" y="2579040"/>
            <a:ext cx="10404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120" idx="1"/>
            <a:endCxn id="258" idx="1"/>
          </p:cNvCxnSpPr>
          <p:nvPr/>
        </p:nvCxnSpPr>
        <p:spPr>
          <a:xfrm rot="10800000">
            <a:off x="8214480" y="2579040"/>
            <a:ext cx="104040" cy="39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118" idx="1"/>
            <a:endCxn id="109" idx="6"/>
          </p:cNvCxnSpPr>
          <p:nvPr/>
        </p:nvCxnSpPr>
        <p:spPr>
          <a:xfrm flipV="1" rot="10800000">
            <a:off x="6815880" y="2053800"/>
            <a:ext cx="243720" cy="5659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121" idx="1"/>
            <a:endCxn id="258" idx="1"/>
          </p:cNvCxnSpPr>
          <p:nvPr/>
        </p:nvCxnSpPr>
        <p:spPr>
          <a:xfrm rot="10800000">
            <a:off x="8214480" y="2579040"/>
            <a:ext cx="11520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109" idx="6"/>
            <a:endCxn id="232" idx="1"/>
          </p:cNvCxnSpPr>
          <p:nvPr/>
        </p:nvCxnSpPr>
        <p:spPr>
          <a:xfrm>
            <a:off x="6816240" y="2619000"/>
            <a:ext cx="243720" cy="41508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8433720" y="4531680"/>
            <a:ext cx="106344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ต้อนรับ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สันถาร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73960" y="4220280"/>
            <a:ext cx="101484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ของผู้เป็นแข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66400" y="6275520"/>
            <a:ext cx="17143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ปฏิบัติระเบียบพิธีปฏิบัติต่อพระภิกษ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ยืน การให้ที่นั่ง การเดินสว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นทนา การรับสิ่งขอ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8360" y="4365360"/>
            <a:ext cx="79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ไปวั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ไ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มงค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อวมงค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82520" y="5732280"/>
            <a:ext cx="1809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ต่อพระภิกษุในง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พิธีที่บ้าน การจัดเตรียมสถานที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นทนา การแต่งกาย มรรยาทการพู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ใช้คำพูดกับพระภิกษุตามฐาน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462880" y="4005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111" idx="6"/>
            <a:endCxn id="269" idx="0"/>
          </p:cNvCxnSpPr>
          <p:nvPr/>
        </p:nvCxnSpPr>
        <p:spPr>
          <a:xfrm>
            <a:off x="8110080" y="3970080"/>
            <a:ext cx="353160" cy="3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124" idx="1"/>
            <a:endCxn id="269" idx="1"/>
          </p:cNvCxnSpPr>
          <p:nvPr/>
        </p:nvCxnSpPr>
        <p:spPr>
          <a:xfrm rot="10800000">
            <a:off x="8462160" y="4075920"/>
            <a:ext cx="99360" cy="5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125" idx="1"/>
            <a:endCxn id="269" idx="1"/>
          </p:cNvCxnSpPr>
          <p:nvPr/>
        </p:nvCxnSpPr>
        <p:spPr>
          <a:xfrm rot="10800000">
            <a:off x="8462160" y="4075920"/>
            <a:ext cx="97560" cy="28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4" idx="1"/>
            <a:endCxn id="269" idx="1"/>
          </p:cNvCxnSpPr>
          <p:nvPr/>
        </p:nvCxnSpPr>
        <p:spPr>
          <a:xfrm rot="10800000">
            <a:off x="8462160" y="4075920"/>
            <a:ext cx="97560" cy="506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26" idx="1"/>
            <a:endCxn id="269" idx="1"/>
          </p:cNvCxnSpPr>
          <p:nvPr/>
        </p:nvCxnSpPr>
        <p:spPr>
          <a:xfrm rot="10800000">
            <a:off x="8462160" y="4075920"/>
            <a:ext cx="99360" cy="65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65" idx="3"/>
            <a:endCxn id="269" idx="1"/>
          </p:cNvCxnSpPr>
          <p:nvPr/>
        </p:nvCxnSpPr>
        <p:spPr>
          <a:xfrm flipV="1">
            <a:off x="8329680" y="4075920"/>
            <a:ext cx="133560" cy="196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67" idx="3"/>
            <a:endCxn id="269" idx="1"/>
          </p:cNvCxnSpPr>
          <p:nvPr/>
        </p:nvCxnSpPr>
        <p:spPr>
          <a:xfrm flipV="1">
            <a:off x="8372160" y="4076280"/>
            <a:ext cx="91080" cy="506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8" idx="1"/>
            <a:endCxn id="269" idx="1"/>
          </p:cNvCxnSpPr>
          <p:nvPr/>
        </p:nvCxnSpPr>
        <p:spPr>
          <a:xfrm rot="10800000">
            <a:off x="8462160" y="4075920"/>
            <a:ext cx="40320" cy="187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66" idx="1"/>
            <a:endCxn id="269" idx="1"/>
          </p:cNvCxnSpPr>
          <p:nvPr/>
        </p:nvCxnSpPr>
        <p:spPr>
          <a:xfrm rot="10800000">
            <a:off x="8462160" y="4075920"/>
            <a:ext cx="99360" cy="2361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8690040" y="47592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127" idx="1"/>
            <a:endCxn id="279" idx="0"/>
          </p:cNvCxnSpPr>
          <p:nvPr/>
        </p:nvCxnSpPr>
        <p:spPr>
          <a:xfrm rot="10800000">
            <a:off x="8689320" y="4830120"/>
            <a:ext cx="52920" cy="4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128" idx="1"/>
            <a:endCxn id="279" idx="1"/>
          </p:cNvCxnSpPr>
          <p:nvPr/>
        </p:nvCxnSpPr>
        <p:spPr>
          <a:xfrm rot="10800000">
            <a:off x="8689320" y="4830120"/>
            <a:ext cx="52920" cy="175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129" idx="1"/>
            <a:endCxn id="279" idx="1"/>
          </p:cNvCxnSpPr>
          <p:nvPr/>
        </p:nvCxnSpPr>
        <p:spPr>
          <a:xfrm rot="10800000">
            <a:off x="8689320" y="4830120"/>
            <a:ext cx="54720" cy="31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130" idx="1"/>
            <a:endCxn id="279" idx="1"/>
          </p:cNvCxnSpPr>
          <p:nvPr/>
        </p:nvCxnSpPr>
        <p:spPr>
          <a:xfrm rot="10800000">
            <a:off x="8689320" y="4830120"/>
            <a:ext cx="5292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131" idx="1"/>
            <a:endCxn id="279" idx="1"/>
          </p:cNvCxnSpPr>
          <p:nvPr/>
        </p:nvCxnSpPr>
        <p:spPr>
          <a:xfrm rot="10800000">
            <a:off x="8689320" y="4830120"/>
            <a:ext cx="529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132" idx="1"/>
            <a:endCxn id="279" idx="1"/>
          </p:cNvCxnSpPr>
          <p:nvPr/>
        </p:nvCxnSpPr>
        <p:spPr>
          <a:xfrm rot="10800000">
            <a:off x="8689320" y="4830120"/>
            <a:ext cx="54720" cy="786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 flipV="1">
            <a:off x="8620200" y="3645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123" idx="1"/>
            <a:endCxn id="286" idx="0"/>
          </p:cNvCxnSpPr>
          <p:nvPr/>
        </p:nvCxnSpPr>
        <p:spPr>
          <a:xfrm flipV="1" rot="10800000">
            <a:off x="8619480" y="3245400"/>
            <a:ext cx="10224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46" idx="1"/>
            <a:endCxn id="286" idx="1"/>
          </p:cNvCxnSpPr>
          <p:nvPr/>
        </p:nvCxnSpPr>
        <p:spPr>
          <a:xfrm flipV="1" rot="10800000">
            <a:off x="8619480" y="3420720"/>
            <a:ext cx="102240" cy="22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122" idx="1"/>
            <a:endCxn id="286" idx="1"/>
          </p:cNvCxnSpPr>
          <p:nvPr/>
        </p:nvCxnSpPr>
        <p:spPr>
          <a:xfrm flipV="1" rot="10800000">
            <a:off x="8619480" y="3602520"/>
            <a:ext cx="94320" cy="43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45" idx="1"/>
            <a:endCxn id="286" idx="0"/>
          </p:cNvCxnSpPr>
          <p:nvPr/>
        </p:nvCxnSpPr>
        <p:spPr>
          <a:xfrm rot="10800000">
            <a:off x="8619480" y="3717360"/>
            <a:ext cx="102240" cy="14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48" idx="1"/>
            <a:endCxn id="286" idx="0"/>
          </p:cNvCxnSpPr>
          <p:nvPr/>
        </p:nvCxnSpPr>
        <p:spPr>
          <a:xfrm rot="10800000">
            <a:off x="8619480" y="3717360"/>
            <a:ext cx="102240" cy="24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47" idx="1"/>
            <a:endCxn id="286" idx="0"/>
          </p:cNvCxnSpPr>
          <p:nvPr/>
        </p:nvCxnSpPr>
        <p:spPr>
          <a:xfrm rot="10800000">
            <a:off x="8619480" y="3717360"/>
            <a:ext cx="10224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110" idx="6"/>
            <a:endCxn id="286" idx="1"/>
          </p:cNvCxnSpPr>
          <p:nvPr/>
        </p:nvCxnSpPr>
        <p:spPr>
          <a:xfrm>
            <a:off x="8307000" y="3538440"/>
            <a:ext cx="313560" cy="1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368840" y="5589360"/>
            <a:ext cx="10609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ับเศรษฐกิจพอเพีย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74240" y="5265000"/>
            <a:ext cx="1193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ับการพัฒนา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การจัดระเบียบสังค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04120" y="4941000"/>
            <a:ext cx="841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ับการพัฒนาต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ครอบครั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81640" y="5258880"/>
            <a:ext cx="9468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ทำบุญตักบาต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02080" y="5452200"/>
            <a:ext cx="1359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ภัตตาหาร  สิ่งข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ที่ควรถวาย และสิ่งข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ต้องห้ามสำหรับพระภิกษ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92360" y="5881680"/>
            <a:ext cx="16628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สังฆทาน เครื่องสังฆท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2080" y="5398920"/>
            <a:ext cx="10882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ผ้าอาบน้ำฝ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04880" y="5970960"/>
            <a:ext cx="1123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เครื่องไท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เครื่องไท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48040" y="5568840"/>
            <a:ext cx="606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กรวดน้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53560" y="6051600"/>
            <a:ext cx="1173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ทอดกฐิน ทอดผ้าป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3080" y="5730120"/>
            <a:ext cx="1012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ิธีทำบุญงานมงค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งานอวมง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39080" y="6223680"/>
            <a:ext cx="2446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นิมนต์พระภิกษุ  การเตรียมที่ตั้งพระพุทธรู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ครื่องบูชา  การวงสายสิญจน์ การปูลาดอาสน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ตรียมเครื่องรับรอง การจุดธูปเท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54120" y="6273000"/>
            <a:ext cx="1158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ctr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ข้อปฏิบัติในวันเลี้ยงพร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ข้าวพระพุท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ถวายไท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08000" y="3860280"/>
            <a:ext cx="6141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ารีบุต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02960" y="4006440"/>
            <a:ext cx="7970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โมคคัลลาน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97200" y="4574880"/>
            <a:ext cx="6980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นางขุชชุตตร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91440" y="4436640"/>
            <a:ext cx="8046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พิมพิส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21880" y="4005000"/>
            <a:ext cx="11430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อัญญาโกณฑัญญ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05840" y="4149360"/>
            <a:ext cx="9403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มหาปชาบดีเถร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08360" y="4292280"/>
            <a:ext cx="6184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ขมาเถร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82800" y="4436640"/>
            <a:ext cx="9705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ปเสนทิโกศ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13400" y="378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133" idx="3"/>
            <a:endCxn id="315" idx="0"/>
          </p:cNvCxnSpPr>
          <p:nvPr/>
        </p:nvCxnSpPr>
        <p:spPr>
          <a:xfrm flipV="1">
            <a:off x="5445000" y="3859920"/>
            <a:ext cx="69120" cy="80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1" idx="3"/>
            <a:endCxn id="315" idx="1"/>
          </p:cNvCxnSpPr>
          <p:nvPr/>
        </p:nvCxnSpPr>
        <p:spPr>
          <a:xfrm flipV="1">
            <a:off x="5445000" y="3860280"/>
            <a:ext cx="6912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12" idx="3"/>
            <a:endCxn id="315" idx="1"/>
          </p:cNvCxnSpPr>
          <p:nvPr/>
        </p:nvCxnSpPr>
        <p:spPr>
          <a:xfrm flipV="1">
            <a:off x="5446440" y="3860280"/>
            <a:ext cx="67320" cy="369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135" idx="3"/>
            <a:endCxn id="315" idx="1"/>
          </p:cNvCxnSpPr>
          <p:nvPr/>
        </p:nvCxnSpPr>
        <p:spPr>
          <a:xfrm flipV="1">
            <a:off x="5445000" y="3860280"/>
            <a:ext cx="6912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315" idx="1"/>
          </p:cNvCxnSpPr>
          <p:nvPr/>
        </p:nvCxnSpPr>
        <p:spPr>
          <a:xfrm flipV="1">
            <a:off x="5447880" y="3860280"/>
            <a:ext cx="65520" cy="65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136" idx="3"/>
            <a:endCxn id="315" idx="1"/>
          </p:cNvCxnSpPr>
          <p:nvPr/>
        </p:nvCxnSpPr>
        <p:spPr>
          <a:xfrm flipV="1">
            <a:off x="5419800" y="3859920"/>
            <a:ext cx="94320" cy="799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07" idx="1"/>
            <a:endCxn id="315" idx="1"/>
          </p:cNvCxnSpPr>
          <p:nvPr/>
        </p:nvCxnSpPr>
        <p:spPr>
          <a:xfrm rot="10800000">
            <a:off x="5512680" y="3859920"/>
            <a:ext cx="64080" cy="80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08" idx="1"/>
            <a:endCxn id="315" idx="1"/>
          </p:cNvCxnSpPr>
          <p:nvPr/>
        </p:nvCxnSpPr>
        <p:spPr>
          <a:xfrm rot="10800000">
            <a:off x="5512680" y="3859920"/>
            <a:ext cx="67320" cy="22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134" idx="1"/>
            <a:endCxn id="315" idx="1"/>
          </p:cNvCxnSpPr>
          <p:nvPr/>
        </p:nvCxnSpPr>
        <p:spPr>
          <a:xfrm rot="10800000">
            <a:off x="5512680" y="3859920"/>
            <a:ext cx="64080" cy="369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3" idx="1"/>
            <a:endCxn id="315" idx="1"/>
          </p:cNvCxnSpPr>
          <p:nvPr/>
        </p:nvCxnSpPr>
        <p:spPr>
          <a:xfrm rot="10800000">
            <a:off x="5512680" y="3859920"/>
            <a:ext cx="6408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0" idx="1"/>
            <a:endCxn id="315" idx="1"/>
          </p:cNvCxnSpPr>
          <p:nvPr/>
        </p:nvCxnSpPr>
        <p:spPr>
          <a:xfrm rot="10800000">
            <a:off x="5512680" y="3859920"/>
            <a:ext cx="64080" cy="65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09" idx="1"/>
            <a:endCxn id="315" idx="1"/>
          </p:cNvCxnSpPr>
          <p:nvPr/>
        </p:nvCxnSpPr>
        <p:spPr>
          <a:xfrm rot="10800000">
            <a:off x="5512680" y="3859920"/>
            <a:ext cx="8964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7412040" y="4778280"/>
            <a:ext cx="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296" idx="1"/>
            <a:endCxn id="328" idx="0"/>
          </p:cNvCxnSpPr>
          <p:nvPr/>
        </p:nvCxnSpPr>
        <p:spPr>
          <a:xfrm rot="10800000">
            <a:off x="7411320" y="4868280"/>
            <a:ext cx="943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5" idx="1"/>
            <a:endCxn id="328" idx="1"/>
          </p:cNvCxnSpPr>
          <p:nvPr/>
        </p:nvCxnSpPr>
        <p:spPr>
          <a:xfrm rot="10800000">
            <a:off x="7411320" y="4869000"/>
            <a:ext cx="94320" cy="53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294" idx="1"/>
            <a:endCxn id="328" idx="1"/>
          </p:cNvCxnSpPr>
          <p:nvPr/>
        </p:nvCxnSpPr>
        <p:spPr>
          <a:xfrm rot="10800000">
            <a:off x="7411320" y="4868280"/>
            <a:ext cx="961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 flipV="1">
            <a:off x="6292800" y="4673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>
            <a:stCxn id="137" idx="3"/>
            <a:endCxn id="332" idx="0"/>
          </p:cNvCxnSpPr>
          <p:nvPr/>
        </p:nvCxnSpPr>
        <p:spPr>
          <a:xfrm flipV="1">
            <a:off x="6181200" y="4819320"/>
            <a:ext cx="111960" cy="21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139" idx="3"/>
            <a:endCxn id="332" idx="0"/>
          </p:cNvCxnSpPr>
          <p:nvPr/>
        </p:nvCxnSpPr>
        <p:spPr>
          <a:xfrm flipV="1">
            <a:off x="6181200" y="4819320"/>
            <a:ext cx="11196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00" idx="3"/>
            <a:endCxn id="332" idx="0"/>
          </p:cNvCxnSpPr>
          <p:nvPr/>
        </p:nvCxnSpPr>
        <p:spPr>
          <a:xfrm flipV="1">
            <a:off x="6181200" y="4818960"/>
            <a:ext cx="11196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02" idx="3"/>
            <a:endCxn id="332" idx="0"/>
          </p:cNvCxnSpPr>
          <p:nvPr/>
        </p:nvCxnSpPr>
        <p:spPr>
          <a:xfrm flipV="1">
            <a:off x="6181200" y="4818960"/>
            <a:ext cx="111960" cy="818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04" idx="3"/>
            <a:endCxn id="332" idx="0"/>
          </p:cNvCxnSpPr>
          <p:nvPr/>
        </p:nvCxnSpPr>
        <p:spPr>
          <a:xfrm flipV="1">
            <a:off x="6181200" y="4818960"/>
            <a:ext cx="111960" cy="1021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01" idx="3"/>
            <a:endCxn id="332" idx="0"/>
          </p:cNvCxnSpPr>
          <p:nvPr/>
        </p:nvCxnSpPr>
        <p:spPr>
          <a:xfrm flipV="1">
            <a:off x="6181200" y="4818960"/>
            <a:ext cx="111960" cy="128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06" idx="3"/>
            <a:endCxn id="332" idx="0"/>
          </p:cNvCxnSpPr>
          <p:nvPr/>
        </p:nvCxnSpPr>
        <p:spPr>
          <a:xfrm flipV="1">
            <a:off x="6181200" y="4819320"/>
            <a:ext cx="111960" cy="165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138" idx="1"/>
            <a:endCxn id="332" idx="0"/>
          </p:cNvCxnSpPr>
          <p:nvPr/>
        </p:nvCxnSpPr>
        <p:spPr>
          <a:xfrm rot="10800000">
            <a:off x="6292080" y="4818960"/>
            <a:ext cx="1008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297" idx="1"/>
            <a:endCxn id="332" idx="0"/>
          </p:cNvCxnSpPr>
          <p:nvPr/>
        </p:nvCxnSpPr>
        <p:spPr>
          <a:xfrm rot="10800000">
            <a:off x="6292080" y="4818960"/>
            <a:ext cx="100800" cy="519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298" idx="1"/>
            <a:endCxn id="332" idx="0"/>
          </p:cNvCxnSpPr>
          <p:nvPr/>
        </p:nvCxnSpPr>
        <p:spPr>
          <a:xfrm rot="10800000">
            <a:off x="6292080" y="4818960"/>
            <a:ext cx="8028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299" idx="1"/>
            <a:endCxn id="332" idx="0"/>
          </p:cNvCxnSpPr>
          <p:nvPr/>
        </p:nvCxnSpPr>
        <p:spPr>
          <a:xfrm rot="10800000">
            <a:off x="6292080" y="4818960"/>
            <a:ext cx="100800" cy="1131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03" idx="1"/>
            <a:endCxn id="332" idx="0"/>
          </p:cNvCxnSpPr>
          <p:nvPr/>
        </p:nvCxnSpPr>
        <p:spPr>
          <a:xfrm rot="10800000">
            <a:off x="6292080" y="4818960"/>
            <a:ext cx="100800" cy="130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05" idx="1"/>
            <a:endCxn id="332" idx="0"/>
          </p:cNvCxnSpPr>
          <p:nvPr/>
        </p:nvCxnSpPr>
        <p:spPr>
          <a:xfrm rot="10800000">
            <a:off x="6292080" y="4818960"/>
            <a:ext cx="121320" cy="1602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114" idx="4"/>
            <a:endCxn id="332" idx="1"/>
          </p:cNvCxnSpPr>
          <p:nvPr/>
        </p:nvCxnSpPr>
        <p:spPr>
          <a:xfrm rot="5400000">
            <a:off x="6283080" y="4445640"/>
            <a:ext cx="239040" cy="221400"/>
          </a:xfrm>
          <a:prstGeom prst="bentConnector3">
            <a:avLst>
              <a:gd name="adj1" fmla="val 4932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4046040" y="6361920"/>
            <a:ext cx="1377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คุณ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โทษ และทางออ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01800" y="6361920"/>
            <a:ext cx="14065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คุณค่าแท้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คุณค่าเทีย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26600" y="6506280"/>
            <a:ext cx="1168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อรรถธรรมสัมพัน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6240" y="6506280"/>
            <a:ext cx="1353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อุบายปลุกเร้าคุณ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98960" y="6649200"/>
            <a:ext cx="1049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สืบสาวเหตุปัจจ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2080" y="6649200"/>
            <a:ext cx="5882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อริยสั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64840" y="4899960"/>
            <a:ext cx="295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ฌ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ญา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96440" y="5236560"/>
            <a:ext cx="379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ตต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นัตต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84680" y="443700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468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105" idx="1"/>
            <a:endCxn id="356" idx="0"/>
          </p:cNvCxnSpPr>
          <p:nvPr/>
        </p:nvCxnSpPr>
        <p:spPr>
          <a:xfrm rot="10800000">
            <a:off x="3783960" y="4580640"/>
            <a:ext cx="91080" cy="146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103" idx="1"/>
            <a:endCxn id="356" idx="1"/>
          </p:cNvCxnSpPr>
          <p:nvPr/>
        </p:nvCxnSpPr>
        <p:spPr>
          <a:xfrm rot="10800000">
            <a:off x="3783960" y="4580640"/>
            <a:ext cx="92880" cy="43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101" idx="1"/>
            <a:endCxn id="356" idx="1"/>
          </p:cNvCxnSpPr>
          <p:nvPr/>
        </p:nvCxnSpPr>
        <p:spPr>
          <a:xfrm rot="10800000">
            <a:off x="3783960" y="4580640"/>
            <a:ext cx="9108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106" idx="1"/>
            <a:endCxn id="356" idx="1"/>
          </p:cNvCxnSpPr>
          <p:nvPr/>
        </p:nvCxnSpPr>
        <p:spPr>
          <a:xfrm rot="10800000">
            <a:off x="3783960" y="4580640"/>
            <a:ext cx="91080" cy="107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104" idx="1"/>
            <a:endCxn id="356" idx="1"/>
          </p:cNvCxnSpPr>
          <p:nvPr/>
        </p:nvCxnSpPr>
        <p:spPr>
          <a:xfrm rot="10800000">
            <a:off x="3783960" y="4581360"/>
            <a:ext cx="91080" cy="144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621240" y="42544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"/>
          <p:cNvCxnSpPr>
            <a:stCxn id="92" idx="4"/>
          </p:cNvCxnSpPr>
          <p:nvPr/>
        </p:nvCxnSpPr>
        <p:spPr>
          <a:xfrm flipH="1" rot="16200000">
            <a:off x="3972600" y="4159080"/>
            <a:ext cx="551520" cy="5400"/>
          </a:xfrm>
          <a:prstGeom prst="bentConnector3">
            <a:avLst>
              <a:gd name="adj1" fmla="val 498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102" idx="3"/>
            <a:endCxn id="362" idx="0"/>
          </p:cNvCxnSpPr>
          <p:nvPr/>
        </p:nvCxnSpPr>
        <p:spPr>
          <a:xfrm flipV="1">
            <a:off x="3529080" y="4398840"/>
            <a:ext cx="9288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3" idx="3"/>
            <a:endCxn id="362" idx="1"/>
          </p:cNvCxnSpPr>
          <p:nvPr/>
        </p:nvCxnSpPr>
        <p:spPr>
          <a:xfrm flipV="1">
            <a:off x="3529080" y="4398480"/>
            <a:ext cx="92880" cy="642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4" idx="3"/>
            <a:endCxn id="362" idx="1"/>
          </p:cNvCxnSpPr>
          <p:nvPr/>
        </p:nvCxnSpPr>
        <p:spPr>
          <a:xfrm flipV="1">
            <a:off x="3530520" y="4398120"/>
            <a:ext cx="91440" cy="978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4172040" y="61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48" idx="3"/>
            <a:endCxn id="367" idx="0"/>
          </p:cNvCxnSpPr>
          <p:nvPr/>
        </p:nvCxnSpPr>
        <p:spPr>
          <a:xfrm flipV="1">
            <a:off x="3940200" y="6307920"/>
            <a:ext cx="232560" cy="1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0" idx="3"/>
            <a:endCxn id="367" idx="1"/>
          </p:cNvCxnSpPr>
          <p:nvPr/>
        </p:nvCxnSpPr>
        <p:spPr>
          <a:xfrm flipV="1">
            <a:off x="4140360" y="6308280"/>
            <a:ext cx="32400" cy="270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2" idx="3"/>
            <a:endCxn id="367" idx="1"/>
          </p:cNvCxnSpPr>
          <p:nvPr/>
        </p:nvCxnSpPr>
        <p:spPr>
          <a:xfrm flipV="1">
            <a:off x="4113000" y="6307920"/>
            <a:ext cx="59400" cy="41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51" idx="1"/>
            <a:endCxn id="367" idx="1"/>
          </p:cNvCxnSpPr>
          <p:nvPr/>
        </p:nvCxnSpPr>
        <p:spPr>
          <a:xfrm rot="10800000">
            <a:off x="4171320" y="6307920"/>
            <a:ext cx="37080" cy="41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49" idx="1"/>
            <a:endCxn id="367" idx="1"/>
          </p:cNvCxnSpPr>
          <p:nvPr/>
        </p:nvCxnSpPr>
        <p:spPr>
          <a:xfrm rot="10800000">
            <a:off x="4171320" y="6307920"/>
            <a:ext cx="8640" cy="270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47" idx="1"/>
            <a:endCxn id="367" idx="1"/>
          </p:cNvCxnSpPr>
          <p:nvPr/>
        </p:nvCxnSpPr>
        <p:spPr>
          <a:xfrm rot="10800000">
            <a:off x="4171320" y="6307920"/>
            <a:ext cx="35640" cy="1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685240" y="5818320"/>
            <a:ext cx="89748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จูฬกัมมวิภังคสูต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79120" y="6001200"/>
            <a:ext cx="10713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ณิธาน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มหาปรินิพพานสูต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3860640"/>
            <a:ext cx="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6" idx="0"/>
            <a:endCxn id="98" idx="1"/>
          </p:cNvCxnSpPr>
          <p:nvPr/>
        </p:nvCxnSpPr>
        <p:spPr>
          <a:xfrm flipH="1" rot="16200000">
            <a:off x="2418480" y="4423320"/>
            <a:ext cx="17820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76" idx="1"/>
            <a:endCxn id="99" idx="1"/>
          </p:cNvCxnSpPr>
          <p:nvPr/>
        </p:nvCxnSpPr>
        <p:spPr>
          <a:xfrm flipH="1" rot="16200000">
            <a:off x="1985040" y="4856760"/>
            <a:ext cx="1023120" cy="7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2692440" y="54910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100" idx="1"/>
            <a:endCxn id="379" idx="0"/>
          </p:cNvCxnSpPr>
          <p:nvPr/>
        </p:nvCxnSpPr>
        <p:spPr>
          <a:xfrm rot="10800000">
            <a:off x="2691720" y="5563440"/>
            <a:ext cx="106920" cy="121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4" idx="1"/>
            <a:endCxn id="379" idx="1"/>
          </p:cNvCxnSpPr>
          <p:nvPr/>
        </p:nvCxnSpPr>
        <p:spPr>
          <a:xfrm rot="10800000">
            <a:off x="2691720" y="5563440"/>
            <a:ext cx="106920" cy="30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5" idx="1"/>
            <a:endCxn id="379" idx="1"/>
          </p:cNvCxnSpPr>
          <p:nvPr/>
        </p:nvCxnSpPr>
        <p:spPr>
          <a:xfrm rot="10800000">
            <a:off x="2691720" y="5563440"/>
            <a:ext cx="108720" cy="54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3" name=""/>
          <p:cNvSpPr/>
          <p:nvPr/>
        </p:nvSpPr>
        <p:spPr>
          <a:xfrm>
            <a:off x="1384920" y="5361120"/>
            <a:ext cx="104220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มฺมุนา  วตฺตตี  โลโ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24800" y="5713560"/>
            <a:ext cx="109260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โข  ปุญฺสฺส   อุจฺจโ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0040" y="5537160"/>
            <a:ext cx="195984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ลฺยาณการี  กลฺยาณํ  ปาปการี  จ ปาปก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18320" y="6067440"/>
            <a:ext cx="112464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ตฺตา  หเว  ชิตํ  เสยฺโ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8120" y="6243480"/>
            <a:ext cx="88380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ธมฺมจารี  สุขํ  เส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99040" y="6419880"/>
            <a:ext cx="88848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มาโท มจฺจุโน ปท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2760" y="6597720"/>
            <a:ext cx="88992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สฺสูสํ  ลภเต  ปญฺ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7040" y="1123560"/>
            <a:ext cx="13222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บัติ ๔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บัติ ๔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ฏฏะ 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90" idx="1"/>
            <a:endCxn id="89" idx="3"/>
          </p:cNvCxnSpPr>
          <p:nvPr/>
        </p:nvCxnSpPr>
        <p:spPr>
          <a:xfrm rot="10800000">
            <a:off x="585000" y="1119960"/>
            <a:ext cx="78480" cy="83520"/>
          </a:xfrm>
          <a:prstGeom prst="bentConnector3">
            <a:avLst>
              <a:gd name="adj1" fmla="val 488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117360" y="90792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3640" y="1196640"/>
            <a:ext cx="5364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บายมุข 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3" idx="1"/>
            <a:endCxn id="148" idx="1"/>
          </p:cNvCxnSpPr>
          <p:nvPr/>
        </p:nvCxnSpPr>
        <p:spPr>
          <a:xfrm rot="10800000">
            <a:off x="116640" y="1051920"/>
            <a:ext cx="78480" cy="22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237600" y="2296800"/>
            <a:ext cx="3916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ตถะ 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81" idx="1"/>
            <a:endCxn id="152" idx="0"/>
          </p:cNvCxnSpPr>
          <p:nvPr/>
        </p:nvCxnSpPr>
        <p:spPr>
          <a:xfrm rot="10800000">
            <a:off x="194400" y="1915560"/>
            <a:ext cx="9144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82" idx="1"/>
            <a:endCxn id="152" idx="1"/>
          </p:cNvCxnSpPr>
          <p:nvPr/>
        </p:nvCxnSpPr>
        <p:spPr>
          <a:xfrm rot="10800000">
            <a:off x="194400" y="1915560"/>
            <a:ext cx="89640" cy="297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5" idx="1"/>
            <a:endCxn id="152" idx="1"/>
          </p:cNvCxnSpPr>
          <p:nvPr/>
        </p:nvCxnSpPr>
        <p:spPr>
          <a:xfrm rot="10800000">
            <a:off x="194400" y="1915560"/>
            <a:ext cx="78480" cy="46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181800" y="3090600"/>
            <a:ext cx="6400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ดรุณธรรม 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4800" y="3090600"/>
            <a:ext cx="15267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บุพพนิมิตรของมัชฌิมาปฏิปท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5800" y="3244320"/>
            <a:ext cx="8470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ุศลกรรมบถ ๑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5760" y="3244320"/>
            <a:ext cx="89136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กุลจิรัฏฐิติธรรม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6960" y="3398400"/>
            <a:ext cx="69804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มีองค์ 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0360" y="3395160"/>
            <a:ext cx="6202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ติปัฏฐาน 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9040" y="3552480"/>
            <a:ext cx="76968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ปปุริสธรรม 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1040" y="3560400"/>
            <a:ext cx="4752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ัญญา 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3720" y="3706560"/>
            <a:ext cx="7603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ุบาสกธรรม 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28080" y="3709440"/>
            <a:ext cx="86400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บุญกิริยาวัตถุ ๑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-65880" y="4293360"/>
            <a:ext cx="2325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พฤติธ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เว้นจากความชั่ว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เว้นจากการดื่มน้ำเม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101880" y="4437720"/>
            <a:ext cx="246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มีศิลปวิทยา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พบสมณะ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ฟังธ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CordiaUPC"/>
              </a:rPr>
              <a:t>-/-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CordiaUPC"/>
              </a:rPr>
              <a:t>สนทนาธรรมตามกา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9440" y="333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3040" y="5176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78" idx="1"/>
          </p:cNvCxnSpPr>
          <p:nvPr/>
        </p:nvCxnSpPr>
        <p:spPr>
          <a:xfrm rot="10800000">
            <a:off x="388080" y="403920"/>
            <a:ext cx="80280" cy="80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79" idx="1"/>
            <a:endCxn id="412" idx="0"/>
          </p:cNvCxnSpPr>
          <p:nvPr/>
        </p:nvCxnSpPr>
        <p:spPr>
          <a:xfrm rot="10800000">
            <a:off x="472320" y="588240"/>
            <a:ext cx="64080" cy="40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1754280" y="33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 flipV="1" rot="16200000">
            <a:off x="1087920" y="1214640"/>
            <a:ext cx="1800720" cy="469080"/>
          </a:xfrm>
          <a:prstGeom prst="bentConnector3">
            <a:avLst>
              <a:gd name="adj1" fmla="val 2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77" idx="3"/>
            <a:endCxn id="415" idx="1"/>
          </p:cNvCxnSpPr>
          <p:nvPr/>
        </p:nvCxnSpPr>
        <p:spPr>
          <a:xfrm flipV="1">
            <a:off x="1525320" y="548640"/>
            <a:ext cx="229320" cy="204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76" idx="3"/>
            <a:endCxn id="415" idx="1"/>
          </p:cNvCxnSpPr>
          <p:nvPr/>
        </p:nvCxnSpPr>
        <p:spPr>
          <a:xfrm flipV="1">
            <a:off x="1521000" y="548640"/>
            <a:ext cx="23400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75" idx="3"/>
            <a:endCxn id="415" idx="1"/>
          </p:cNvCxnSpPr>
          <p:nvPr/>
        </p:nvCxnSpPr>
        <p:spPr>
          <a:xfrm flipV="1">
            <a:off x="1521000" y="549360"/>
            <a:ext cx="234000" cy="317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74" idx="3"/>
            <a:endCxn id="415" idx="0"/>
          </p:cNvCxnSpPr>
          <p:nvPr/>
        </p:nvCxnSpPr>
        <p:spPr>
          <a:xfrm>
            <a:off x="1523880" y="218880"/>
            <a:ext cx="2311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1900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83" idx="3"/>
            <a:endCxn id="421" idx="0"/>
          </p:cNvCxnSpPr>
          <p:nvPr/>
        </p:nvCxnSpPr>
        <p:spPr>
          <a:xfrm flipV="1">
            <a:off x="741240" y="2781000"/>
            <a:ext cx="78480" cy="7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85" idx="3"/>
            <a:endCxn id="421" idx="1"/>
          </p:cNvCxnSpPr>
          <p:nvPr/>
        </p:nvCxnSpPr>
        <p:spPr>
          <a:xfrm flipV="1">
            <a:off x="741240" y="2781000"/>
            <a:ext cx="78480" cy="235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399" idx="3"/>
            <a:endCxn id="421" idx="1"/>
          </p:cNvCxnSpPr>
          <p:nvPr/>
        </p:nvCxnSpPr>
        <p:spPr>
          <a:xfrm flipV="1">
            <a:off x="741240" y="2781000"/>
            <a:ext cx="78480" cy="38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2" idx="3"/>
            <a:endCxn id="421" idx="1"/>
          </p:cNvCxnSpPr>
          <p:nvPr/>
        </p:nvCxnSpPr>
        <p:spPr>
          <a:xfrm flipV="1">
            <a:off x="750600" y="2781000"/>
            <a:ext cx="68760" cy="54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04" idx="3"/>
            <a:endCxn id="421" idx="1"/>
          </p:cNvCxnSpPr>
          <p:nvPr/>
        </p:nvCxnSpPr>
        <p:spPr>
          <a:xfrm flipV="1">
            <a:off x="720360" y="2780640"/>
            <a:ext cx="99000" cy="694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06" idx="3"/>
            <a:endCxn id="421" idx="1"/>
          </p:cNvCxnSpPr>
          <p:nvPr/>
        </p:nvCxnSpPr>
        <p:spPr>
          <a:xfrm flipV="1">
            <a:off x="726840" y="2780640"/>
            <a:ext cx="92520" cy="85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08" idx="3"/>
            <a:endCxn id="421" idx="1"/>
          </p:cNvCxnSpPr>
          <p:nvPr/>
        </p:nvCxnSpPr>
        <p:spPr>
          <a:xfrm flipV="1">
            <a:off x="713880" y="2781000"/>
            <a:ext cx="105480" cy="10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07" idx="1"/>
            <a:endCxn id="421" idx="1"/>
          </p:cNvCxnSpPr>
          <p:nvPr/>
        </p:nvCxnSpPr>
        <p:spPr>
          <a:xfrm rot="10800000">
            <a:off x="818280" y="2780640"/>
            <a:ext cx="57960" cy="100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05" idx="1"/>
            <a:endCxn id="421" idx="1"/>
          </p:cNvCxnSpPr>
          <p:nvPr/>
        </p:nvCxnSpPr>
        <p:spPr>
          <a:xfrm rot="10800000">
            <a:off x="818280" y="2780640"/>
            <a:ext cx="57960" cy="851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03" idx="1"/>
            <a:endCxn id="421" idx="1"/>
          </p:cNvCxnSpPr>
          <p:nvPr/>
        </p:nvCxnSpPr>
        <p:spPr>
          <a:xfrm rot="10800000">
            <a:off x="818280" y="2780640"/>
            <a:ext cx="57960" cy="69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01" idx="1"/>
            <a:endCxn id="421" idx="1"/>
          </p:cNvCxnSpPr>
          <p:nvPr/>
        </p:nvCxnSpPr>
        <p:spPr>
          <a:xfrm rot="10800000">
            <a:off x="818280" y="2780640"/>
            <a:ext cx="57960" cy="54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400" idx="1"/>
            <a:endCxn id="421" idx="1"/>
          </p:cNvCxnSpPr>
          <p:nvPr/>
        </p:nvCxnSpPr>
        <p:spPr>
          <a:xfrm rot="10800000">
            <a:off x="818280" y="2780640"/>
            <a:ext cx="56520" cy="38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86" idx="1"/>
            <a:endCxn id="421" idx="1"/>
          </p:cNvCxnSpPr>
          <p:nvPr/>
        </p:nvCxnSpPr>
        <p:spPr>
          <a:xfrm rot="10800000">
            <a:off x="818280" y="2780640"/>
            <a:ext cx="56520" cy="235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5" name=""/>
          <p:cNvCxnSpPr>
            <a:stCxn id="84" idx="1"/>
            <a:endCxn id="421" idx="1"/>
          </p:cNvCxnSpPr>
          <p:nvPr/>
        </p:nvCxnSpPr>
        <p:spPr>
          <a:xfrm rot="10800000">
            <a:off x="818280" y="2780640"/>
            <a:ext cx="57960" cy="7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849240" y="3979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8760" y="40514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200" y="40514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88" idx="1"/>
            <a:endCxn id="438" idx="0"/>
          </p:cNvCxnSpPr>
          <p:nvPr/>
        </p:nvCxnSpPr>
        <p:spPr>
          <a:xfrm rot="10800000">
            <a:off x="159480" y="4123440"/>
            <a:ext cx="9936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409" idx="1"/>
            <a:endCxn id="438" idx="1"/>
          </p:cNvCxnSpPr>
          <p:nvPr/>
        </p:nvCxnSpPr>
        <p:spPr>
          <a:xfrm rot="10800000">
            <a:off x="159480" y="4123440"/>
            <a:ext cx="35640" cy="242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1" name=""/>
          <p:cNvCxnSpPr>
            <a:stCxn id="410" idx="1"/>
            <a:endCxn id="438" idx="1"/>
          </p:cNvCxnSpPr>
          <p:nvPr/>
        </p:nvCxnSpPr>
        <p:spPr>
          <a:xfrm rot="10800000">
            <a:off x="159480" y="4123440"/>
            <a:ext cx="37440" cy="38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231624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91" idx="3"/>
            <a:endCxn id="442" idx="0"/>
          </p:cNvCxnSpPr>
          <p:nvPr/>
        </p:nvCxnSpPr>
        <p:spPr>
          <a:xfrm flipH="1" rot="16200000">
            <a:off x="1775520" y="3751560"/>
            <a:ext cx="766080" cy="316800"/>
          </a:xfrm>
          <a:prstGeom prst="bentConnector3">
            <a:avLst>
              <a:gd name="adj1" fmla="val 535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96" idx="3"/>
            <a:endCxn id="442" idx="1"/>
          </p:cNvCxnSpPr>
          <p:nvPr/>
        </p:nvCxnSpPr>
        <p:spPr>
          <a:xfrm flipV="1">
            <a:off x="2266560" y="4652280"/>
            <a:ext cx="50040" cy="43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95" idx="3"/>
            <a:endCxn id="442" idx="1"/>
          </p:cNvCxnSpPr>
          <p:nvPr/>
        </p:nvCxnSpPr>
        <p:spPr>
          <a:xfrm flipV="1">
            <a:off x="2266560" y="4652280"/>
            <a:ext cx="50040" cy="25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97" idx="3"/>
            <a:endCxn id="442" idx="1"/>
          </p:cNvCxnSpPr>
          <p:nvPr/>
        </p:nvCxnSpPr>
        <p:spPr>
          <a:xfrm flipV="1">
            <a:off x="2266560" y="4652640"/>
            <a:ext cx="50040" cy="606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94" idx="3"/>
            <a:endCxn id="442" idx="1"/>
          </p:cNvCxnSpPr>
          <p:nvPr/>
        </p:nvCxnSpPr>
        <p:spPr>
          <a:xfrm flipV="1">
            <a:off x="2266560" y="4652640"/>
            <a:ext cx="50040" cy="7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384" idx="3"/>
            <a:endCxn id="442" idx="1"/>
          </p:cNvCxnSpPr>
          <p:nvPr/>
        </p:nvCxnSpPr>
        <p:spPr>
          <a:xfrm flipV="1">
            <a:off x="2266560" y="4652280"/>
            <a:ext cx="50040" cy="11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387" idx="3"/>
            <a:endCxn id="442" idx="1"/>
          </p:cNvCxnSpPr>
          <p:nvPr/>
        </p:nvCxnSpPr>
        <p:spPr>
          <a:xfrm flipV="1">
            <a:off x="2266560" y="4652640"/>
            <a:ext cx="50040" cy="1667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386" idx="3"/>
            <a:endCxn id="442" idx="1"/>
          </p:cNvCxnSpPr>
          <p:nvPr/>
        </p:nvCxnSpPr>
        <p:spPr>
          <a:xfrm flipV="1">
            <a:off x="2266560" y="4652280"/>
            <a:ext cx="50040" cy="1491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389" idx="3"/>
            <a:endCxn id="442" idx="1"/>
          </p:cNvCxnSpPr>
          <p:nvPr/>
        </p:nvCxnSpPr>
        <p:spPr>
          <a:xfrm flipV="1">
            <a:off x="2266560" y="4652280"/>
            <a:ext cx="50040" cy="2021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388" idx="3"/>
            <a:endCxn id="442" idx="1"/>
          </p:cNvCxnSpPr>
          <p:nvPr/>
        </p:nvCxnSpPr>
        <p:spPr>
          <a:xfrm flipV="1">
            <a:off x="2266560" y="4652640"/>
            <a:ext cx="50040" cy="18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385" idx="3"/>
            <a:endCxn id="442" idx="1"/>
          </p:cNvCxnSpPr>
          <p:nvPr/>
        </p:nvCxnSpPr>
        <p:spPr>
          <a:xfrm flipV="1">
            <a:off x="2266560" y="4652640"/>
            <a:ext cx="50040" cy="961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383" idx="3"/>
            <a:endCxn id="442" idx="1"/>
          </p:cNvCxnSpPr>
          <p:nvPr/>
        </p:nvCxnSpPr>
        <p:spPr>
          <a:xfrm flipV="1">
            <a:off x="2266560" y="4652640"/>
            <a:ext cx="50040" cy="784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56" idx="3"/>
            <a:endCxn id="442" idx="1"/>
          </p:cNvCxnSpPr>
          <p:nvPr/>
        </p:nvCxnSpPr>
        <p:spPr>
          <a:xfrm flipV="1">
            <a:off x="2266560" y="4652280"/>
            <a:ext cx="50040" cy="1313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59" idx="1"/>
            <a:endCxn id="177" idx="1"/>
          </p:cNvCxnSpPr>
          <p:nvPr/>
        </p:nvCxnSpPr>
        <p:spPr>
          <a:xfrm rot="5400000">
            <a:off x="3305520" y="1582200"/>
            <a:ext cx="122400" cy="261360"/>
          </a:xfrm>
          <a:prstGeom prst="bentConnector3">
            <a:avLst>
              <a:gd name="adj1" fmla="val -2654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86760" y="1325160"/>
            <a:ext cx="920520" cy="1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กุศลกรรมบถ ๑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1"/>
            <a:endCxn id="148" idx="1"/>
          </p:cNvCxnSpPr>
          <p:nvPr/>
        </p:nvCxnSpPr>
        <p:spPr>
          <a:xfrm rot="10800000">
            <a:off x="116640" y="1051920"/>
            <a:ext cx="78480" cy="35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846000" y="5889600"/>
            <a:ext cx="1671840" cy="1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ปูชโก  ลภเต ปูชํ </a:t>
            </a:r>
            <a:r>
              <a:rPr b="0" lang="en-US" sz="10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นฺทโก ปฏิวนฺทน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07480" y="990720"/>
            <a:ext cx="1320840" cy="152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13760" y="261000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169" idx="1"/>
            <a:endCxn id="196" idx="0"/>
          </p:cNvCxnSpPr>
          <p:nvPr/>
        </p:nvCxnSpPr>
        <p:spPr>
          <a:xfrm flipV="1" rot="10800000">
            <a:off x="3496680" y="1186920"/>
            <a:ext cx="130680" cy="83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65" idx="2"/>
            <a:endCxn id="196" idx="1"/>
          </p:cNvCxnSpPr>
          <p:nvPr/>
        </p:nvCxnSpPr>
        <p:spPr>
          <a:xfrm flipH="1" rot="16200000">
            <a:off x="3268800" y="1041120"/>
            <a:ext cx="380160" cy="7848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71" idx="0"/>
            <a:endCxn id="73" idx="6"/>
          </p:cNvCxnSpPr>
          <p:nvPr/>
        </p:nvCxnSpPr>
        <p:spPr>
          <a:xfrm flipH="1" flipV="1">
            <a:off x="3002760" y="2349000"/>
            <a:ext cx="62316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71" idx="2"/>
            <a:endCxn id="72" idx="5"/>
          </p:cNvCxnSpPr>
          <p:nvPr/>
        </p:nvCxnSpPr>
        <p:spPr>
          <a:xfrm flipH="1" flipV="1">
            <a:off x="2720520" y="2932920"/>
            <a:ext cx="48672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71" idx="3"/>
            <a:endCxn id="91" idx="6"/>
          </p:cNvCxnSpPr>
          <p:nvPr/>
        </p:nvCxnSpPr>
        <p:spPr>
          <a:xfrm flipH="1">
            <a:off x="2971080" y="3306600"/>
            <a:ext cx="36756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71" idx="3"/>
            <a:endCxn id="90" idx="7"/>
          </p:cNvCxnSpPr>
          <p:nvPr/>
        </p:nvCxnSpPr>
        <p:spPr>
          <a:xfrm flipH="1">
            <a:off x="3099960" y="3306600"/>
            <a:ext cx="23904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62" idx="2"/>
            <a:endCxn id="59" idx="5"/>
          </p:cNvCxnSpPr>
          <p:nvPr/>
        </p:nvCxnSpPr>
        <p:spPr>
          <a:xfrm flipH="1" flipV="1">
            <a:off x="4371480" y="2109600"/>
            <a:ext cx="23904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71" idx="4"/>
            <a:endCxn id="93" idx="0"/>
          </p:cNvCxnSpPr>
          <p:nvPr/>
        </p:nvCxnSpPr>
        <p:spPr>
          <a:xfrm flipH="1">
            <a:off x="3315960" y="3416400"/>
            <a:ext cx="310320" cy="44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71" idx="5"/>
            <a:endCxn id="92" idx="0"/>
          </p:cNvCxnSpPr>
          <p:nvPr/>
        </p:nvCxnSpPr>
        <p:spPr>
          <a:xfrm>
            <a:off x="3913200" y="3306600"/>
            <a:ext cx="334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62" idx="0"/>
            <a:endCxn id="60" idx="4"/>
          </p:cNvCxnSpPr>
          <p:nvPr/>
        </p:nvCxnSpPr>
        <p:spPr>
          <a:xfrm flipV="1">
            <a:off x="4994280" y="1594800"/>
            <a:ext cx="1166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62" idx="7"/>
            <a:endCxn id="67" idx="3"/>
          </p:cNvCxnSpPr>
          <p:nvPr/>
        </p:nvCxnSpPr>
        <p:spPr>
          <a:xfrm flipV="1">
            <a:off x="5257440" y="1699920"/>
            <a:ext cx="63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62" idx="6"/>
            <a:endCxn id="61" idx="2"/>
          </p:cNvCxnSpPr>
          <p:nvPr/>
        </p:nvCxnSpPr>
        <p:spPr>
          <a:xfrm>
            <a:off x="5379840" y="217188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107" idx="6"/>
            <a:endCxn id="110" idx="1"/>
          </p:cNvCxnSpPr>
          <p:nvPr/>
        </p:nvCxnSpPr>
        <p:spPr>
          <a:xfrm>
            <a:off x="6700680" y="3230640"/>
            <a:ext cx="67392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107" idx="5"/>
            <a:endCxn id="111" idx="1"/>
          </p:cNvCxnSpPr>
          <p:nvPr/>
        </p:nvCxnSpPr>
        <p:spPr>
          <a:xfrm>
            <a:off x="6578640" y="3486240"/>
            <a:ext cx="56736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107" idx="4"/>
            <a:endCxn id="114" idx="0"/>
          </p:cNvCxnSpPr>
          <p:nvPr/>
        </p:nvCxnSpPr>
        <p:spPr>
          <a:xfrm>
            <a:off x="6314760" y="3586320"/>
            <a:ext cx="1990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107" idx="5"/>
            <a:endCxn id="112" idx="0"/>
          </p:cNvCxnSpPr>
          <p:nvPr/>
        </p:nvCxnSpPr>
        <p:spPr>
          <a:xfrm>
            <a:off x="6578640" y="3485880"/>
            <a:ext cx="598680" cy="88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107" idx="0"/>
            <a:endCxn id="109" idx="4"/>
          </p:cNvCxnSpPr>
          <p:nvPr/>
        </p:nvCxnSpPr>
        <p:spPr>
          <a:xfrm flipV="1">
            <a:off x="6315120" y="2761560"/>
            <a:ext cx="86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243" idx="0"/>
            <a:endCxn id="460" idx="1"/>
          </p:cNvCxnSpPr>
          <p:nvPr/>
        </p:nvCxnSpPr>
        <p:spPr>
          <a:xfrm flipV="1">
            <a:off x="7683480" y="1066320"/>
            <a:ext cx="3247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6910560" y="2670120"/>
            <a:ext cx="13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225" idx="1"/>
            <a:endCxn id="234" idx="1"/>
          </p:cNvCxnSpPr>
          <p:nvPr/>
        </p:nvCxnSpPr>
        <p:spPr>
          <a:xfrm rot="10800000">
            <a:off x="8075520" y="1253520"/>
            <a:ext cx="76680" cy="543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8772840" y="3636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๒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"/>
          <p:cNvCxnSpPr>
            <a:stCxn id="421" idx="0"/>
            <a:endCxn id="87" idx="0"/>
          </p:cNvCxnSpPr>
          <p:nvPr/>
        </p:nvCxnSpPr>
        <p:spPr>
          <a:xfrm>
            <a:off x="818640" y="2707920"/>
            <a:ext cx="39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953920" y="1890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๒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816200" y="42120"/>
            <a:ext cx="71816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   เรื่องพระรัตนตรัย ชั้นมัธยมศึกษาปีที่ 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258480"/>
            <a:ext cx="412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สู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402840"/>
            <a:ext cx="4953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ทวทูต 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555480"/>
            <a:ext cx="9903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บำเพ็ญทุกรกิริย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715680"/>
            <a:ext cx="9079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วงหา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9880" y="1754640"/>
            <a:ext cx="176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ภาพแวดล้อมที่กว้างขวา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ครอบคลุมสังคมไท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85960" y="1533600"/>
            <a:ext cx="1712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ถาบันหลักของสังคมไท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255760" y="1317600"/>
            <a:ext cx="1143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าประจำชาต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26040" y="899640"/>
            <a:ext cx="577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ติตติรชาด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743960" y="186480"/>
            <a:ext cx="234972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  พิธีเวียนเท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ในวันมาฆบูชา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วิสาข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ัฏฐมีบูชา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าสาฬห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034840" y="1065960"/>
            <a:ext cx="188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ความ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วันธรรมสวนะ วันเข้าพรรษ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อกพรรษา วันเทโวโรหณ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84520" y="1268280"/>
            <a:ext cx="115272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พุทธศาสน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990720"/>
            <a:ext cx="907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681960" y="1484280"/>
            <a:ext cx="8254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82880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78240" y="2755800"/>
            <a:ext cx="1403280" cy="5335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17760" y="183240"/>
            <a:ext cx="7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ังคาย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72600" y="870120"/>
            <a:ext cx="2208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ของ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ต่อสังคมไทยในฐานะเป็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95160" y="508680"/>
            <a:ext cx="1842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เข้าสู่ประเทศ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65800" y="1447920"/>
            <a:ext cx="8254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62520" y="518400"/>
            <a:ext cx="20480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และวิเคราะห์พุทธประวั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26040" y="1069560"/>
            <a:ext cx="495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มพชาด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05520" y="801360"/>
            <a:ext cx="2005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19480" y="2654280"/>
            <a:ext cx="811080" cy="74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63880" y="2743200"/>
            <a:ext cx="907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คุณ 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46320" y="2209680"/>
            <a:ext cx="907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อริยสัจ 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3560" y="199080"/>
            <a:ext cx="141876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กข์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รู้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200" y="842040"/>
            <a:ext cx="161388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มุทัย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ละ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-85320" y="1777320"/>
            <a:ext cx="177084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โรธ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ควรบรรลุ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080" y="2534400"/>
            <a:ext cx="1155600" cy="43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ค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ธรรมที่เจริญ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7800" y="357840"/>
            <a:ext cx="4129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ขันธ์ 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25480" y="609120"/>
            <a:ext cx="4129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ธาตุ 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6" idx="2"/>
            <a:endCxn id="517" idx="1"/>
          </p:cNvCxnSpPr>
          <p:nvPr/>
        </p:nvCxnSpPr>
        <p:spPr>
          <a:xfrm flipH="1" rot="16200000">
            <a:off x="781920" y="662400"/>
            <a:ext cx="4356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660240" y="1243440"/>
            <a:ext cx="107316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หมายและ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5120" y="2047680"/>
            <a:ext cx="38556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สุข 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8720" y="2360160"/>
            <a:ext cx="3960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คิหิสุ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7680" y="2872440"/>
            <a:ext cx="4953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ไตรสิกข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360" y="2971440"/>
            <a:ext cx="7772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กรรมฐาน ๒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6560" y="3200040"/>
            <a:ext cx="502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ปธาน ๔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39240" y="3200040"/>
            <a:ext cx="4968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โกศล 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5400" y="3428640"/>
            <a:ext cx="6264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0120" y="3696840"/>
            <a:ext cx="7801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ไม่คบคนพา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4160" y="3849120"/>
            <a:ext cx="6231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บบัณฑ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" y="4001760"/>
            <a:ext cx="8319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บูชาผู้ควร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30120" y="1082160"/>
            <a:ext cx="495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หลักกรร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98640" y="3657600"/>
            <a:ext cx="9907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33400" y="3200400"/>
            <a:ext cx="12384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ศาสนสุภาษ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14840" y="3657600"/>
            <a:ext cx="1238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บริหารจ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เจริญปัญญ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41680" y="4038480"/>
            <a:ext cx="1320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ัพท์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520" y="4538880"/>
            <a:ext cx="16520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ยํ  เว  เสวติ  ตาทิโ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บคนเช่นใด  เป็นคนเช่นนั้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000" y="4891320"/>
            <a:ext cx="127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ตฺตนา  โจทยตฺตานํ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จงเตือนตนด้วยต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960" y="5272560"/>
            <a:ext cx="15649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นิสมฺม กรณํ เสยฺโ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ใคร่ครวญก่อน แล้วจึงทำ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-5760" y="5653440"/>
            <a:ext cx="177084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ุราวาสา ฆรา ทุกฺข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ือนที่ครองไม่ดี  นำทุกข์มาให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29120" y="4497120"/>
            <a:ext cx="11412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 New"/>
              </a:rPr>
              <a:t>โครงสร้างชื่อคัมภี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 New"/>
              </a:rPr>
              <a:t>สาระสังเข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Cordia New"/>
              </a:rPr>
              <a:t>ของพระวินัยปิฏ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50080" y="5105880"/>
            <a:ext cx="9766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ื่องน่า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จากพระไตรปิฎ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71720" y="530028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ภิณหปัจจเวกขณ์ ๕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 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34640" y="4619520"/>
            <a:ext cx="82440" cy="1171440"/>
            <a:chOff x="134640" y="4619520"/>
            <a:chExt cx="82440" cy="1171440"/>
          </a:xfrm>
        </p:grpSpPr>
        <p:sp>
          <p:nvSpPr>
            <p:cNvPr id="543" name=""/>
            <p:cNvSpPr/>
            <p:nvPr/>
          </p:nvSpPr>
          <p:spPr>
            <a:xfrm flipH="1">
              <a:off x="134640" y="4684320"/>
              <a:ext cx="6840" cy="11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5000" y="4619520"/>
              <a:ext cx="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3600" bIns="-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5000" y="4974480"/>
              <a:ext cx="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3600" bIns="-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000" y="5353200"/>
              <a:ext cx="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3600" bIns="-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5000" y="5785200"/>
              <a:ext cx="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3600" bIns="-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714840" y="5472000"/>
            <a:ext cx="1898640" cy="664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ฝึกการบริหารจิตและเจริญปัญญ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ตามหลักสติปัฏฐานเน้นอานาปานส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24120" y="4671000"/>
            <a:ext cx="115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ิยัติ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บัติ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ฏิเว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6022800"/>
            <a:ext cx="1816200" cy="664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รู้และเข้าใจวิธีปฏิบัติและประโยชน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การบริหารจิตและเจริญปัญญ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5240" y="6095880"/>
            <a:ext cx="2476440" cy="664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ัฒนาการเรียนรู้ด้วยวิธีคิดแบบโยนิโสมนการ ๒ วิธ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คุณค่าแท้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ุณค่าทีย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คุณ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โทษ และทางออ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62120" y="5708520"/>
            <a:ext cx="1733400" cy="171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สวดมนต์แปลและแผ่เมตต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24120" y="6095160"/>
            <a:ext cx="1898640" cy="50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นำวิธีการบริหารจิตและเจริญปัญญ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ไปใช้ในชีวิตประจำวั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2679840"/>
            <a:ext cx="74304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073160" y="4114440"/>
            <a:ext cx="4374360" cy="2057760"/>
            <a:chOff x="1073160" y="4114440"/>
            <a:chExt cx="4374360" cy="2057760"/>
          </a:xfrm>
        </p:grpSpPr>
        <p:grpSp>
          <p:nvGrpSpPr>
            <p:cNvPr id="556" name=""/>
            <p:cNvGrpSpPr/>
            <p:nvPr/>
          </p:nvGrpSpPr>
          <p:grpSpPr>
            <a:xfrm>
              <a:off x="1073160" y="5334120"/>
              <a:ext cx="4374360" cy="838080"/>
              <a:chOff x="1073160" y="5334120"/>
              <a:chExt cx="4374360" cy="838080"/>
            </a:xfrm>
          </p:grpSpPr>
          <p:sp>
            <p:nvSpPr>
              <p:cNvPr id="557" name=""/>
              <p:cNvSpPr/>
              <p:nvPr/>
            </p:nvSpPr>
            <p:spPr>
              <a:xfrm>
                <a:off x="1073160" y="6095880"/>
                <a:ext cx="43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3600" bIns="-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073160" y="6095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3600" bIns="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47520" y="60958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3600" bIns="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5492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3600" bIns="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49240" y="5334120"/>
                <a:ext cx="74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3600" bIns="-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84000" y="579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-3600" bIns="-36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flipV="1">
              <a:off x="4292280" y="41144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851520" y="2438280"/>
            <a:ext cx="9907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หน้าที่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84880" y="3213000"/>
            <a:ext cx="1238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วพุทธตัวอย่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99200" y="3886200"/>
            <a:ext cx="11559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มรรยาทชาวพุท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03840" y="6095880"/>
            <a:ext cx="28069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สัมมนาพระพุทธศาสนากับ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พัฒนาตนและครอบครั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18120" y="36576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สาวิก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1160" y="4267080"/>
            <a:ext cx="9903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พิธ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10280" y="1965960"/>
            <a:ext cx="1581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รียนรู้วิถีชีวิตของพระภิกษ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ี่ต้องศึกษาคันถธุร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วิปัสสนาธุร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324280" y="1773720"/>
            <a:ext cx="163368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ัวอย่างเหมาะส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ด้านกาย วาจา ใ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96200" y="2134080"/>
            <a:ext cx="1705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ป็นเพื่อนที่ดีตามหลักทิ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บื้องซ้ายในทิศ 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372800" y="2923560"/>
            <a:ext cx="108648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มิตรแท้ มิตรเทีย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64240" y="2852640"/>
            <a:ext cx="12373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ค่ายคุณ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70720" y="2499120"/>
            <a:ext cx="12009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ร่วมพิธี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ทางพระพุทธศาส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01600" y="3006720"/>
            <a:ext cx="1689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ดงตนเป็นพุทธมามก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467920" y="3526920"/>
            <a:ext cx="122508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เจ้าอโศกมหารา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43080" y="3346560"/>
            <a:ext cx="1440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โสณะและพระอุตตร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69160" y="3870360"/>
            <a:ext cx="5515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ไปวั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563320" y="4145760"/>
            <a:ext cx="1341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ต่งก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นำเด็กไปวั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ในเขตวั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ข้าพบพระภิกษ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973280" y="4835520"/>
            <a:ext cx="12999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แสดงความเคาร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616960" y="5109120"/>
            <a:ext cx="6602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ระนมมื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585280" y="5239080"/>
            <a:ext cx="9079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ไหว้  การกรา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605800" y="5375520"/>
            <a:ext cx="10731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คารพพระรัตนตรั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616960" y="5537520"/>
            <a:ext cx="11653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เจริญพระพุทธมนต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626320" y="5691600"/>
            <a:ext cx="10731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สวดพระอภิ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6440" y="5850360"/>
            <a:ext cx="10731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ฟังพระธรรมเทศน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40320" y="4293000"/>
            <a:ext cx="74304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มหากัสสป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88000" y="4480200"/>
            <a:ext cx="49536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อุบาล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22760" y="4672440"/>
            <a:ext cx="66060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อนาถบิณฑิก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43360" y="4952520"/>
            <a:ext cx="6231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นางวิสาข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48240" y="4992840"/>
            <a:ext cx="9082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โต๊ะหมู่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แบบหมู่ ๔ หมู่ ๕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หมู่ ๗  และ หมู่ 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521400" y="5031720"/>
            <a:ext cx="1073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ุดธูปเท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จัดเครื่องประก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โต๊ะหมู่บูช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5470920"/>
            <a:ext cx="90828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คำอาราธนาต่าง 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"/>
          <p:cNvCxnSpPr>
            <a:stCxn id="500" idx="4"/>
            <a:endCxn id="501" idx="0"/>
          </p:cNvCxnSpPr>
          <p:nvPr/>
        </p:nvCxnSpPr>
        <p:spPr>
          <a:xfrm flipH="1">
            <a:off x="4979520" y="2527200"/>
            <a:ext cx="1512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09" idx="6"/>
            <a:endCxn id="501" idx="1"/>
          </p:cNvCxnSpPr>
          <p:nvPr/>
        </p:nvCxnSpPr>
        <p:spPr>
          <a:xfrm flipV="1">
            <a:off x="4043160" y="3022200"/>
            <a:ext cx="2149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54" idx="2"/>
            <a:endCxn id="501" idx="3"/>
          </p:cNvCxnSpPr>
          <p:nvPr/>
        </p:nvCxnSpPr>
        <p:spPr>
          <a:xfrm flipH="1">
            <a:off x="5701680" y="3022200"/>
            <a:ext cx="229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00" idx="2"/>
            <a:endCxn id="497" idx="4"/>
          </p:cNvCxnSpPr>
          <p:nvPr/>
        </p:nvCxnSpPr>
        <p:spPr>
          <a:xfrm flipH="1" flipV="1">
            <a:off x="4160520" y="1916280"/>
            <a:ext cx="45000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00" idx="7"/>
            <a:endCxn id="505" idx="3"/>
          </p:cNvCxnSpPr>
          <p:nvPr/>
        </p:nvCxnSpPr>
        <p:spPr>
          <a:xfrm flipV="1">
            <a:off x="5256000" y="1772640"/>
            <a:ext cx="23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00" idx="6"/>
            <a:endCxn id="499" idx="3"/>
          </p:cNvCxnSpPr>
          <p:nvPr/>
        </p:nvCxnSpPr>
        <p:spPr>
          <a:xfrm flipV="1">
            <a:off x="5378400" y="1809720"/>
            <a:ext cx="14248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00" idx="0"/>
            <a:endCxn id="498" idx="4"/>
          </p:cNvCxnSpPr>
          <p:nvPr/>
        </p:nvCxnSpPr>
        <p:spPr>
          <a:xfrm flipV="1">
            <a:off x="4994280" y="1370880"/>
            <a:ext cx="248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493" idx="3"/>
            <a:endCxn id="503" idx="2"/>
          </p:cNvCxnSpPr>
          <p:nvPr/>
        </p:nvCxnSpPr>
        <p:spPr>
          <a:xfrm flipV="1">
            <a:off x="3254400" y="1196640"/>
            <a:ext cx="23040" cy="194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"/>
          <p:cNvCxnSpPr/>
          <p:nvPr/>
        </p:nvCxnSpPr>
        <p:spPr>
          <a:xfrm flipH="1" rot="16200000">
            <a:off x="5915880" y="1818360"/>
            <a:ext cx="452880" cy="1083240"/>
          </a:xfrm>
          <a:prstGeom prst="bentConnector4">
            <a:avLst>
              <a:gd name="adj1" fmla="val -50517"/>
              <a:gd name="adj2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"/>
          <p:cNvCxnSpPr>
            <a:stCxn id="503" idx="2"/>
            <a:endCxn id="492" idx="3"/>
          </p:cNvCxnSpPr>
          <p:nvPr/>
        </p:nvCxnSpPr>
        <p:spPr>
          <a:xfrm rot="5400000">
            <a:off x="3054240" y="1384920"/>
            <a:ext cx="410400" cy="34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330120" y="1424520"/>
            <a:ext cx="577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UPC"/>
              </a:rPr>
              <a:t>อบายมุข 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11" idx="2"/>
            <a:endCxn id="513" idx="3"/>
          </p:cNvCxnSpPr>
          <p:nvPr/>
        </p:nvCxnSpPr>
        <p:spPr>
          <a:xfrm rot="10800000">
            <a:off x="1443960" y="951840"/>
            <a:ext cx="702360" cy="1410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11" idx="2"/>
            <a:endCxn id="512" idx="3"/>
          </p:cNvCxnSpPr>
          <p:nvPr/>
        </p:nvCxnSpPr>
        <p:spPr>
          <a:xfrm rot="10800000">
            <a:off x="1443960" y="309600"/>
            <a:ext cx="702360" cy="2053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11" idx="2"/>
            <a:endCxn id="514" idx="3"/>
          </p:cNvCxnSpPr>
          <p:nvPr/>
        </p:nvCxnSpPr>
        <p:spPr>
          <a:xfrm rot="10800000">
            <a:off x="1443960" y="1886760"/>
            <a:ext cx="702360" cy="47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9" name=""/>
          <p:cNvCxnSpPr>
            <a:stCxn id="511" idx="2"/>
            <a:endCxn id="515" idx="3"/>
          </p:cNvCxnSpPr>
          <p:nvPr/>
        </p:nvCxnSpPr>
        <p:spPr>
          <a:xfrm flipV="1" rot="10800000">
            <a:off x="1443960" y="2361960"/>
            <a:ext cx="702360" cy="38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502" idx="3"/>
            <a:endCxn id="497" idx="0"/>
          </p:cNvCxnSpPr>
          <p:nvPr/>
        </p:nvCxnSpPr>
        <p:spPr>
          <a:xfrm>
            <a:off x="4060800" y="399960"/>
            <a:ext cx="100800" cy="869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04" idx="3"/>
            <a:endCxn id="497" idx="0"/>
          </p:cNvCxnSpPr>
          <p:nvPr/>
        </p:nvCxnSpPr>
        <p:spPr>
          <a:xfrm>
            <a:off x="4060800" y="682200"/>
            <a:ext cx="100800" cy="58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498" idx="0"/>
            <a:endCxn id="506" idx="2"/>
          </p:cNvCxnSpPr>
          <p:nvPr/>
        </p:nvCxnSpPr>
        <p:spPr>
          <a:xfrm flipH="1" flipV="1" rot="5400000">
            <a:off x="5439960" y="544320"/>
            <a:ext cx="248400" cy="64512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06" idx="3"/>
            <a:endCxn id="487" idx="1"/>
          </p:cNvCxnSpPr>
          <p:nvPr/>
        </p:nvCxnSpPr>
        <p:spPr>
          <a:xfrm flipV="1">
            <a:off x="6672240" y="389880"/>
            <a:ext cx="262800" cy="23868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506" idx="3"/>
            <a:endCxn id="488" idx="1"/>
          </p:cNvCxnSpPr>
          <p:nvPr/>
        </p:nvCxnSpPr>
        <p:spPr>
          <a:xfrm flipV="1">
            <a:off x="6672240" y="534600"/>
            <a:ext cx="262800" cy="9432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506" idx="3"/>
            <a:endCxn id="489" idx="1"/>
          </p:cNvCxnSpPr>
          <p:nvPr/>
        </p:nvCxnSpPr>
        <p:spPr>
          <a:xfrm>
            <a:off x="6672240" y="628200"/>
            <a:ext cx="262800" cy="5940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506" idx="3"/>
            <a:endCxn id="490" idx="1"/>
          </p:cNvCxnSpPr>
          <p:nvPr/>
        </p:nvCxnSpPr>
        <p:spPr>
          <a:xfrm>
            <a:off x="6672240" y="628200"/>
            <a:ext cx="262800" cy="219960"/>
          </a:xfrm>
          <a:prstGeom prst="bentConnector3">
            <a:avLst>
              <a:gd name="adj1" fmla="val 496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2476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"/>
          <p:cNvCxnSpPr>
            <a:stCxn id="530" idx="1"/>
            <a:endCxn id="617" idx="0"/>
          </p:cNvCxnSpPr>
          <p:nvPr/>
        </p:nvCxnSpPr>
        <p:spPr>
          <a:xfrm rot="10800000">
            <a:off x="246960" y="1218600"/>
            <a:ext cx="83160" cy="62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05" idx="1"/>
            <a:endCxn id="617" idx="1"/>
          </p:cNvCxnSpPr>
          <p:nvPr/>
        </p:nvCxnSpPr>
        <p:spPr>
          <a:xfrm rot="10800000">
            <a:off x="246960" y="1218600"/>
            <a:ext cx="83160" cy="408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30" idx="2"/>
            <a:endCxn id="519" idx="1"/>
          </p:cNvCxnSpPr>
          <p:nvPr/>
        </p:nvCxnSpPr>
        <p:spPr>
          <a:xfrm flipH="1" rot="16200000">
            <a:off x="592560" y="1363320"/>
            <a:ext cx="51480" cy="8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1" name=""/>
          <p:cNvSpPr/>
          <p:nvPr/>
        </p:nvSpPr>
        <p:spPr>
          <a:xfrm>
            <a:off x="495360" y="419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516" idx="1"/>
            <a:endCxn id="621" idx="0"/>
          </p:cNvCxnSpPr>
          <p:nvPr/>
        </p:nvCxnSpPr>
        <p:spPr>
          <a:xfrm rot="10800000">
            <a:off x="494640" y="494640"/>
            <a:ext cx="83160" cy="6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3" name=""/>
          <p:cNvSpPr/>
          <p:nvPr/>
        </p:nvSpPr>
        <p:spPr>
          <a:xfrm>
            <a:off x="247680" y="2001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20" idx="1"/>
            <a:endCxn id="623" idx="0"/>
          </p:cNvCxnSpPr>
          <p:nvPr/>
        </p:nvCxnSpPr>
        <p:spPr>
          <a:xfrm rot="10800000">
            <a:off x="246960" y="2077200"/>
            <a:ext cx="91080" cy="5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521" idx="1"/>
            <a:endCxn id="623" idx="1"/>
          </p:cNvCxnSpPr>
          <p:nvPr/>
        </p:nvCxnSpPr>
        <p:spPr>
          <a:xfrm rot="10800000">
            <a:off x="246960" y="2077200"/>
            <a:ext cx="97560" cy="38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6" name=""/>
          <p:cNvSpPr/>
          <p:nvPr/>
        </p:nvSpPr>
        <p:spPr>
          <a:xfrm>
            <a:off x="866880" y="287352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"/>
          <p:cNvCxnSpPr>
            <a:stCxn id="522" idx="3"/>
            <a:endCxn id="626" idx="0"/>
          </p:cNvCxnSpPr>
          <p:nvPr/>
        </p:nvCxnSpPr>
        <p:spPr>
          <a:xfrm flipV="1">
            <a:off x="743040" y="2977560"/>
            <a:ext cx="12456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8" name=""/>
          <p:cNvCxnSpPr>
            <a:stCxn id="524" idx="3"/>
            <a:endCxn id="626" idx="1"/>
          </p:cNvCxnSpPr>
          <p:nvPr/>
        </p:nvCxnSpPr>
        <p:spPr>
          <a:xfrm flipV="1">
            <a:off x="730080" y="2977920"/>
            <a:ext cx="13752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523" idx="1"/>
            <a:endCxn id="626" idx="1"/>
          </p:cNvCxnSpPr>
          <p:nvPr/>
        </p:nvCxnSpPr>
        <p:spPr>
          <a:xfrm rot="10800000">
            <a:off x="866160" y="2977560"/>
            <a:ext cx="146520" cy="97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0" name=""/>
          <p:cNvCxnSpPr>
            <a:stCxn id="525" idx="1"/>
            <a:endCxn id="626" idx="1"/>
          </p:cNvCxnSpPr>
          <p:nvPr/>
        </p:nvCxnSpPr>
        <p:spPr>
          <a:xfrm rot="10800000">
            <a:off x="866160" y="2977560"/>
            <a:ext cx="1386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526" idx="3"/>
            <a:endCxn id="626" idx="1"/>
          </p:cNvCxnSpPr>
          <p:nvPr/>
        </p:nvCxnSpPr>
        <p:spPr>
          <a:xfrm flipV="1">
            <a:off x="730080" y="2977560"/>
            <a:ext cx="13752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32076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527" idx="1"/>
            <a:endCxn id="632" idx="0"/>
          </p:cNvCxnSpPr>
          <p:nvPr/>
        </p:nvCxnSpPr>
        <p:spPr>
          <a:xfrm rot="10800000">
            <a:off x="320040" y="3733200"/>
            <a:ext cx="116640" cy="5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4" name=""/>
          <p:cNvCxnSpPr>
            <a:stCxn id="528" idx="1"/>
            <a:endCxn id="632" idx="1"/>
          </p:cNvCxnSpPr>
          <p:nvPr/>
        </p:nvCxnSpPr>
        <p:spPr>
          <a:xfrm rot="10800000">
            <a:off x="320040" y="3733200"/>
            <a:ext cx="11160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529" idx="1"/>
            <a:endCxn id="632" idx="1"/>
          </p:cNvCxnSpPr>
          <p:nvPr/>
        </p:nvCxnSpPr>
        <p:spPr>
          <a:xfrm rot="10800000">
            <a:off x="320040" y="3733200"/>
            <a:ext cx="116640" cy="363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494" idx="1"/>
            <a:endCxn id="505" idx="0"/>
          </p:cNvCxnSpPr>
          <p:nvPr/>
        </p:nvCxnSpPr>
        <p:spPr>
          <a:xfrm flipV="1" rot="10800000">
            <a:off x="5777640" y="1048320"/>
            <a:ext cx="248400" cy="39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507" idx="1"/>
            <a:endCxn id="505" idx="0"/>
          </p:cNvCxnSpPr>
          <p:nvPr/>
        </p:nvCxnSpPr>
        <p:spPr>
          <a:xfrm flipV="1" rot="10800000">
            <a:off x="5777640" y="1218240"/>
            <a:ext cx="2484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4032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"/>
          <p:cNvCxnSpPr>
            <a:stCxn id="532" idx="2"/>
            <a:endCxn id="638" idx="0"/>
          </p:cNvCxnSpPr>
          <p:nvPr/>
        </p:nvCxnSpPr>
        <p:spPr>
          <a:xfrm flipV="1" rot="10800000">
            <a:off x="1402560" y="3390480"/>
            <a:ext cx="330840" cy="3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543" idx="0"/>
            <a:endCxn id="638" idx="1"/>
          </p:cNvCxnSpPr>
          <p:nvPr/>
        </p:nvCxnSpPr>
        <p:spPr>
          <a:xfrm flipH="1" flipV="1" rot="5400000">
            <a:off x="601200" y="3882600"/>
            <a:ext cx="342000" cy="1262880"/>
          </a:xfrm>
          <a:prstGeom prst="bentConnector3">
            <a:avLst>
              <a:gd name="adj1" fmla="val 715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511" idx="6"/>
            <a:endCxn id="509" idx="1"/>
          </p:cNvCxnSpPr>
          <p:nvPr/>
        </p:nvCxnSpPr>
        <p:spPr>
          <a:xfrm>
            <a:off x="3054240" y="2362320"/>
            <a:ext cx="28512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2" name=""/>
          <p:cNvCxnSpPr>
            <a:stCxn id="510" idx="6"/>
            <a:endCxn id="509" idx="2"/>
          </p:cNvCxnSpPr>
          <p:nvPr/>
        </p:nvCxnSpPr>
        <p:spPr>
          <a:xfrm>
            <a:off x="2971440" y="2895120"/>
            <a:ext cx="23580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3" name=""/>
          <p:cNvCxnSpPr>
            <a:stCxn id="531" idx="7"/>
            <a:endCxn id="509" idx="3"/>
          </p:cNvCxnSpPr>
          <p:nvPr/>
        </p:nvCxnSpPr>
        <p:spPr>
          <a:xfrm flipV="1">
            <a:off x="2744640" y="3306240"/>
            <a:ext cx="5947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4" name=""/>
          <p:cNvCxnSpPr>
            <a:stCxn id="532" idx="6"/>
            <a:endCxn id="509" idx="3"/>
          </p:cNvCxnSpPr>
          <p:nvPr/>
        </p:nvCxnSpPr>
        <p:spPr>
          <a:xfrm flipV="1">
            <a:off x="2971440" y="3306240"/>
            <a:ext cx="367560" cy="8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5" name=""/>
          <p:cNvCxnSpPr>
            <a:stCxn id="534" idx="0"/>
            <a:endCxn id="509" idx="4"/>
          </p:cNvCxnSpPr>
          <p:nvPr/>
        </p:nvCxnSpPr>
        <p:spPr>
          <a:xfrm flipV="1">
            <a:off x="3301920" y="3416040"/>
            <a:ext cx="32472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6" name=""/>
          <p:cNvCxnSpPr>
            <a:stCxn id="533" idx="0"/>
            <a:endCxn id="509" idx="5"/>
          </p:cNvCxnSpPr>
          <p:nvPr/>
        </p:nvCxnSpPr>
        <p:spPr>
          <a:xfrm flipH="1" flipV="1">
            <a:off x="3911040" y="3306240"/>
            <a:ext cx="42300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47" name=""/>
          <p:cNvCxnSpPr>
            <a:stCxn id="531" idx="4"/>
            <a:endCxn id="539" idx="3"/>
          </p:cNvCxnSpPr>
          <p:nvPr/>
        </p:nvCxnSpPr>
        <p:spPr>
          <a:xfrm rot="5400000">
            <a:off x="1962360" y="4288320"/>
            <a:ext cx="757800" cy="10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531" idx="4"/>
            <a:endCxn id="540" idx="3"/>
          </p:cNvCxnSpPr>
          <p:nvPr/>
        </p:nvCxnSpPr>
        <p:spPr>
          <a:xfrm rot="5400000">
            <a:off x="1703520" y="4547160"/>
            <a:ext cx="1275480" cy="10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540" idx="2"/>
            <a:endCxn id="541" idx="1"/>
          </p:cNvCxnSpPr>
          <p:nvPr/>
        </p:nvCxnSpPr>
        <p:spPr>
          <a:xfrm flipH="1" rot="16200000">
            <a:off x="1904040" y="5401800"/>
            <a:ext cx="100440" cy="34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0" name=""/>
          <p:cNvCxnSpPr>
            <a:stCxn id="549" idx="0"/>
            <a:endCxn id="534" idx="4"/>
          </p:cNvCxnSpPr>
          <p:nvPr/>
        </p:nvCxnSpPr>
        <p:spPr>
          <a:xfrm flipV="1">
            <a:off x="3301560" y="4494960"/>
            <a:ext cx="10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1" name=""/>
          <p:cNvSpPr/>
          <p:nvPr/>
        </p:nvSpPr>
        <p:spPr>
          <a:xfrm>
            <a:off x="5448240" y="4172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588" idx="3"/>
            <a:endCxn id="651" idx="0"/>
          </p:cNvCxnSpPr>
          <p:nvPr/>
        </p:nvCxnSpPr>
        <p:spPr>
          <a:xfrm flipV="1">
            <a:off x="5283360" y="4324320"/>
            <a:ext cx="165600" cy="155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589" idx="3"/>
            <a:endCxn id="651" idx="1"/>
          </p:cNvCxnSpPr>
          <p:nvPr/>
        </p:nvCxnSpPr>
        <p:spPr>
          <a:xfrm flipV="1">
            <a:off x="5283360" y="4323600"/>
            <a:ext cx="16560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590" idx="3"/>
            <a:endCxn id="651" idx="1"/>
          </p:cNvCxnSpPr>
          <p:nvPr/>
        </p:nvCxnSpPr>
        <p:spPr>
          <a:xfrm flipV="1">
            <a:off x="5283360" y="4323960"/>
            <a:ext cx="165600" cy="535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591" idx="3"/>
            <a:endCxn id="651" idx="1"/>
          </p:cNvCxnSpPr>
          <p:nvPr/>
        </p:nvCxnSpPr>
        <p:spPr>
          <a:xfrm flipV="1">
            <a:off x="5283360" y="4323600"/>
            <a:ext cx="16560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568" idx="0"/>
            <a:endCxn id="554" idx="3"/>
          </p:cNvCxnSpPr>
          <p:nvPr/>
        </p:nvCxnSpPr>
        <p:spPr>
          <a:xfrm flipV="1">
            <a:off x="5613120" y="3277800"/>
            <a:ext cx="4402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57" name=""/>
          <p:cNvCxnSpPr>
            <a:stCxn id="569" idx="0"/>
            <a:endCxn id="554" idx="4"/>
          </p:cNvCxnSpPr>
          <p:nvPr/>
        </p:nvCxnSpPr>
        <p:spPr>
          <a:xfrm flipH="1" flipV="1">
            <a:off x="6314760" y="3377520"/>
            <a:ext cx="41760" cy="88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58" name=""/>
          <p:cNvCxnSpPr>
            <a:stCxn id="566" idx="1"/>
            <a:endCxn id="554" idx="5"/>
          </p:cNvCxnSpPr>
          <p:nvPr/>
        </p:nvCxnSpPr>
        <p:spPr>
          <a:xfrm flipH="1" flipV="1">
            <a:off x="6576120" y="3277440"/>
            <a:ext cx="69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59" name=""/>
          <p:cNvCxnSpPr>
            <a:stCxn id="565" idx="2"/>
            <a:endCxn id="554" idx="6"/>
          </p:cNvCxnSpPr>
          <p:nvPr/>
        </p:nvCxnSpPr>
        <p:spPr>
          <a:xfrm flipH="1" flipV="1">
            <a:off x="6698520" y="3022200"/>
            <a:ext cx="4863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60" name=""/>
          <p:cNvCxnSpPr>
            <a:stCxn id="564" idx="2"/>
            <a:endCxn id="554" idx="7"/>
          </p:cNvCxnSpPr>
          <p:nvPr/>
        </p:nvCxnSpPr>
        <p:spPr>
          <a:xfrm flipH="1">
            <a:off x="6576120" y="2628720"/>
            <a:ext cx="27540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642924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"/>
          <p:cNvCxnSpPr>
            <a:stCxn id="592" idx="3"/>
            <a:endCxn id="661" idx="0"/>
          </p:cNvCxnSpPr>
          <p:nvPr/>
        </p:nvCxnSpPr>
        <p:spPr>
          <a:xfrm flipV="1">
            <a:off x="6356520" y="5028480"/>
            <a:ext cx="73440" cy="2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593" idx="1"/>
            <a:endCxn id="661" idx="1"/>
          </p:cNvCxnSpPr>
          <p:nvPr/>
        </p:nvCxnSpPr>
        <p:spPr>
          <a:xfrm rot="10800000">
            <a:off x="6428520" y="5028480"/>
            <a:ext cx="92880" cy="2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4" name=""/>
          <p:cNvCxnSpPr>
            <a:stCxn id="594" idx="1"/>
            <a:endCxn id="661" idx="1"/>
          </p:cNvCxnSpPr>
          <p:nvPr/>
        </p:nvCxnSpPr>
        <p:spPr>
          <a:xfrm rot="10800000">
            <a:off x="6428520" y="5028480"/>
            <a:ext cx="12456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567" idx="0"/>
            <a:endCxn id="554" idx="5"/>
          </p:cNvCxnSpPr>
          <p:nvPr/>
        </p:nvCxnSpPr>
        <p:spPr>
          <a:xfrm flipH="1" flipV="1">
            <a:off x="6576480" y="3277440"/>
            <a:ext cx="1431360" cy="281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8502480" y="501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582" idx="1"/>
            <a:endCxn id="666" idx="0"/>
          </p:cNvCxnSpPr>
          <p:nvPr/>
        </p:nvCxnSpPr>
        <p:spPr>
          <a:xfrm rot="10800000">
            <a:off x="8501760" y="5163480"/>
            <a:ext cx="115200" cy="5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583" idx="1"/>
            <a:endCxn id="666" idx="1"/>
          </p:cNvCxnSpPr>
          <p:nvPr/>
        </p:nvCxnSpPr>
        <p:spPr>
          <a:xfrm rot="10800000">
            <a:off x="8501760" y="5163480"/>
            <a:ext cx="83520" cy="189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584" idx="1"/>
            <a:endCxn id="666" idx="1"/>
          </p:cNvCxnSpPr>
          <p:nvPr/>
        </p:nvCxnSpPr>
        <p:spPr>
          <a:xfrm rot="10800000">
            <a:off x="8501760" y="5163480"/>
            <a:ext cx="10404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585" idx="1"/>
            <a:endCxn id="666" idx="1"/>
          </p:cNvCxnSpPr>
          <p:nvPr/>
        </p:nvCxnSpPr>
        <p:spPr>
          <a:xfrm rot="10800000">
            <a:off x="8501760" y="5163480"/>
            <a:ext cx="115200" cy="488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586" idx="1"/>
            <a:endCxn id="666" idx="1"/>
          </p:cNvCxnSpPr>
          <p:nvPr/>
        </p:nvCxnSpPr>
        <p:spPr>
          <a:xfrm rot="10800000">
            <a:off x="8501760" y="5163480"/>
            <a:ext cx="12456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587" idx="1"/>
            <a:endCxn id="666" idx="1"/>
          </p:cNvCxnSpPr>
          <p:nvPr/>
        </p:nvCxnSpPr>
        <p:spPr>
          <a:xfrm rot="10800000">
            <a:off x="8501760" y="5163480"/>
            <a:ext cx="9468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74" idx="0"/>
            <a:endCxn id="579" idx="1"/>
          </p:cNvCxnSpPr>
          <p:nvPr/>
        </p:nvCxnSpPr>
        <p:spPr>
          <a:xfrm flipH="1" flipV="1" rot="5400000">
            <a:off x="8651520" y="3911040"/>
            <a:ext cx="67320" cy="121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4" idx="1"/>
            <a:endCxn id="580" idx="1"/>
          </p:cNvCxnSpPr>
          <p:nvPr/>
        </p:nvCxnSpPr>
        <p:spPr>
          <a:xfrm flipH="1" rot="16200000">
            <a:off x="8601480" y="4242960"/>
            <a:ext cx="18180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stCxn id="565" idx="6"/>
            <a:endCxn id="578" idx="1"/>
          </p:cNvCxnSpPr>
          <p:nvPr/>
        </p:nvCxnSpPr>
        <p:spPr>
          <a:xfrm flipV="1">
            <a:off x="8423280" y="3431880"/>
            <a:ext cx="210240" cy="100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565" idx="6"/>
            <a:endCxn id="577" idx="1"/>
          </p:cNvCxnSpPr>
          <p:nvPr/>
        </p:nvCxnSpPr>
        <p:spPr>
          <a:xfrm>
            <a:off x="8422920" y="3441240"/>
            <a:ext cx="213480" cy="1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8" name=""/>
          <p:cNvCxnSpPr>
            <a:stCxn id="508" idx="1"/>
            <a:endCxn id="679" idx="0"/>
          </p:cNvCxnSpPr>
          <p:nvPr/>
        </p:nvCxnSpPr>
        <p:spPr>
          <a:xfrm flipV="1" rot="10800000">
            <a:off x="7976520" y="895680"/>
            <a:ext cx="84960" cy="156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570" idx="3"/>
            <a:endCxn id="681" idx="0"/>
          </p:cNvCxnSpPr>
          <p:nvPr/>
        </p:nvCxnSpPr>
        <p:spPr>
          <a:xfrm>
            <a:off x="8344080" y="2193480"/>
            <a:ext cx="135360" cy="44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574" idx="1"/>
            <a:endCxn id="683" idx="0"/>
          </p:cNvCxnSpPr>
          <p:nvPr/>
        </p:nvCxnSpPr>
        <p:spPr>
          <a:xfrm rot="10800000">
            <a:off x="8478000" y="2204280"/>
            <a:ext cx="756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1" idx="1"/>
            <a:endCxn id="576" idx="1"/>
          </p:cNvCxnSpPr>
          <p:nvPr/>
        </p:nvCxnSpPr>
        <p:spPr>
          <a:xfrm flipH="1" rot="16200000">
            <a:off x="8369280" y="2890440"/>
            <a:ext cx="294480" cy="7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571" idx="1"/>
            <a:endCxn id="683" idx="0"/>
          </p:cNvCxnSpPr>
          <p:nvPr/>
        </p:nvCxnSpPr>
        <p:spPr>
          <a:xfrm flipV="1" rot="10800000">
            <a:off x="8478000" y="1914120"/>
            <a:ext cx="75600" cy="146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572" idx="1"/>
            <a:endCxn id="683" idx="1"/>
          </p:cNvCxnSpPr>
          <p:nvPr/>
        </p:nvCxnSpPr>
        <p:spPr>
          <a:xfrm rot="10800000">
            <a:off x="8478000" y="2205000"/>
            <a:ext cx="75600" cy="7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581" idx="0"/>
            <a:endCxn id="674" idx="1"/>
          </p:cNvCxnSpPr>
          <p:nvPr/>
        </p:nvCxnSpPr>
        <p:spPr>
          <a:xfrm flipH="1" flipV="1" rot="5400000">
            <a:off x="8316720" y="4527000"/>
            <a:ext cx="615240" cy="216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847872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"/>
          <p:cNvCxnSpPr>
            <a:endCxn id="573" idx="3"/>
          </p:cNvCxnSpPr>
          <p:nvPr/>
        </p:nvCxnSpPr>
        <p:spPr>
          <a:xfrm rot="5400000">
            <a:off x="8263800" y="2801520"/>
            <a:ext cx="238680" cy="197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8" idx="1"/>
            <a:endCxn id="575" idx="1"/>
          </p:cNvCxnSpPr>
          <p:nvPr/>
        </p:nvCxnSpPr>
        <p:spPr>
          <a:xfrm flipH="1" rot="16200000">
            <a:off x="8298720" y="2384640"/>
            <a:ext cx="435600" cy="7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86248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566" idx="6"/>
            <a:endCxn id="581" idx="0"/>
          </p:cNvCxnSpPr>
          <p:nvPr/>
        </p:nvCxnSpPr>
        <p:spPr>
          <a:xfrm>
            <a:off x="8254800" y="4152960"/>
            <a:ext cx="36900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847872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"/>
          <p:cNvCxnSpPr>
            <a:stCxn id="564" idx="6"/>
            <a:endCxn id="693" idx="0"/>
          </p:cNvCxnSpPr>
          <p:nvPr/>
        </p:nvCxnSpPr>
        <p:spPr>
          <a:xfrm>
            <a:off x="7842240" y="2629080"/>
            <a:ext cx="637200" cy="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 flipV="1">
            <a:off x="7977240" y="1052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"/>
          <p:cNvCxnSpPr>
            <a:stCxn id="495" idx="1"/>
            <a:endCxn id="695" idx="1"/>
          </p:cNvCxnSpPr>
          <p:nvPr/>
        </p:nvCxnSpPr>
        <p:spPr>
          <a:xfrm flipV="1" rot="10800000">
            <a:off x="7976520" y="433080"/>
            <a:ext cx="84960" cy="61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499" idx="6"/>
            <a:endCxn id="695" idx="0"/>
          </p:cNvCxnSpPr>
          <p:nvPr/>
        </p:nvCxnSpPr>
        <p:spPr>
          <a:xfrm flipV="1">
            <a:off x="7507080" y="1267560"/>
            <a:ext cx="470520" cy="40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819324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"/>
          <p:cNvCxnSpPr>
            <a:stCxn id="496" idx="1"/>
            <a:endCxn id="698" idx="0"/>
          </p:cNvCxnSpPr>
          <p:nvPr/>
        </p:nvCxnSpPr>
        <p:spPr>
          <a:xfrm rot="10800000">
            <a:off x="8192520" y="1124640"/>
            <a:ext cx="126000" cy="18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0" name=""/>
          <p:cNvCxnSpPr>
            <a:stCxn id="503" idx="3"/>
            <a:endCxn id="497" idx="0"/>
          </p:cNvCxnSpPr>
          <p:nvPr/>
        </p:nvCxnSpPr>
        <p:spPr>
          <a:xfrm>
            <a:off x="4060800" y="1033560"/>
            <a:ext cx="100800" cy="235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1" name=""/>
          <p:cNvSpPr/>
          <p:nvPr/>
        </p:nvSpPr>
        <p:spPr>
          <a:xfrm>
            <a:off x="9321120" y="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๒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9000" y="2201760"/>
            <a:ext cx="8578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-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ยิก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เจตสิ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3" name=""/>
          <p:cNvCxnSpPr>
            <a:stCxn id="503" idx="2"/>
            <a:endCxn id="491" idx="3"/>
          </p:cNvCxnSpPr>
          <p:nvPr/>
        </p:nvCxnSpPr>
        <p:spPr>
          <a:xfrm rot="5400000">
            <a:off x="2902320" y="1533960"/>
            <a:ext cx="711720" cy="37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956800" y="1890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-6480" y="-14040"/>
            <a:ext cx="99061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ctr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CordiaUPC"/>
              </a:rPr>
              <a:t>ผังมโนทัศน์สาระการเรียนรู้พระพุทธ  ชั้นมัธยมศึกษาปีที่ 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8880" y="2837160"/>
            <a:ext cx="1908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ภาพแวดล้อมที่กว้างขว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และครอบคลุมสังคม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09680" y="2593440"/>
            <a:ext cx="15606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สถาบันหลักสังคม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55200" y="2349000"/>
            <a:ext cx="123732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ศาสนาประจำ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389000" y="1328760"/>
            <a:ext cx="9432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ติตติรชาด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40760" y="4509360"/>
            <a:ext cx="2936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ระเบียบพิธี  พิธีเวียนเทีย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ปฏิบัติตน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ในวันมาฆ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วิสาขบูชา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Cord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ัฏฐมีบูชา  วันอาสาฬหบูช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37840" y="5529960"/>
            <a:ext cx="188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ความ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ของวันธรรมสวนะ วันเข้าพรรษ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ออกพรรษา วันเทโวโรหณ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05280" y="14209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ประวัติแล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ขอ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32000" y="32846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75440" y="328608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35640" y="2347920"/>
            <a:ext cx="1439640" cy="1440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CordiaUPC"/>
              </a:rPr>
              <a:t>พระพุท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783080" y="981000"/>
            <a:ext cx="107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สังคาย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1240" y="1845720"/>
            <a:ext cx="250380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ความสำคัญของพระพุทธศาส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ต่อสังคมไทยในฐานะเป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25560" y="1376280"/>
            <a:ext cx="2090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การเผยแผ่พระพุทธศาสน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เข้าสู่ประเทศไท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8120" y="1341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CordiaUPC"/>
              </a:rPr>
              <a:t>ชาด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00680" y="3850560"/>
            <a:ext cx="1078920" cy="37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สรุป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CordiaUPC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เคราะห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พุทธประว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16000" y="1643040"/>
            <a:ext cx="836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CordiaUPC"/>
              </a:rPr>
              <a:t>อัมพชาด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15280" y="5230080"/>
            <a:ext cx="22204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400" spc="-1" strike="noStrike">
                <a:solidFill>
                  <a:srgbClr val="000000"/>
                </a:solidFill>
                <a:latin typeface="Angsana New"/>
                <a:cs typeface="CordiaUPC"/>
              </a:rPr>
              <a:t>วันธรรมสวนะและเทศกาลสำคั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"/>
          <p:cNvCxnSpPr>
            <a:stCxn id="716" idx="5"/>
            <a:endCxn id="715" idx="2"/>
          </p:cNvCxnSpPr>
          <p:nvPr/>
        </p:nvCxnSpPr>
        <p:spPr>
          <a:xfrm>
            <a:off x="5764320" y="3588840"/>
            <a:ext cx="41184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"/>
          <p:cNvCxnSpPr>
            <a:stCxn id="708" idx="3"/>
            <a:endCxn id="718" idx="2"/>
          </p:cNvCxnSpPr>
          <p:nvPr/>
        </p:nvCxnSpPr>
        <p:spPr>
          <a:xfrm flipV="1">
            <a:off x="1738080" y="2218680"/>
            <a:ext cx="75240" cy="453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6" name=""/>
          <p:cNvCxnSpPr>
            <a:stCxn id="709" idx="3"/>
            <a:endCxn id="718" idx="2"/>
          </p:cNvCxnSpPr>
          <p:nvPr/>
        </p:nvCxnSpPr>
        <p:spPr>
          <a:xfrm flipV="1">
            <a:off x="1736640" y="2218680"/>
            <a:ext cx="76680" cy="20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07" idx="3"/>
            <a:endCxn id="718" idx="2"/>
          </p:cNvCxnSpPr>
          <p:nvPr/>
        </p:nvCxnSpPr>
        <p:spPr>
          <a:xfrm flipV="1">
            <a:off x="1749600" y="2218680"/>
            <a:ext cx="64080" cy="7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13" idx="2"/>
            <a:endCxn id="718" idx="3"/>
          </p:cNvCxnSpPr>
          <p:nvPr/>
        </p:nvCxnSpPr>
        <p:spPr>
          <a:xfrm flipV="1" rot="10800000">
            <a:off x="2705040" y="1995840"/>
            <a:ext cx="300600" cy="3564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9" name=""/>
          <p:cNvSpPr/>
          <p:nvPr/>
        </p:nvSpPr>
        <p:spPr>
          <a:xfrm>
            <a:off x="1821240" y="4376880"/>
            <a:ext cx="550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ประสู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06480" y="4626000"/>
            <a:ext cx="7131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ทวทูต 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92160" y="4875120"/>
            <a:ext cx="11271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บำเพ็ญทุกรกิริย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74000" y="5122800"/>
            <a:ext cx="1488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การแสวงหา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11" idx="1"/>
            <a:endCxn id="715" idx="4"/>
          </p:cNvCxnSpPr>
          <p:nvPr/>
        </p:nvCxnSpPr>
        <p:spPr>
          <a:xfrm rot="10800000">
            <a:off x="6751080" y="4436280"/>
            <a:ext cx="9576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19" idx="3"/>
            <a:endCxn id="713" idx="2"/>
          </p:cNvCxnSpPr>
          <p:nvPr/>
        </p:nvCxnSpPr>
        <p:spPr>
          <a:xfrm>
            <a:off x="2705040" y="1538280"/>
            <a:ext cx="300600" cy="45936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17" idx="3"/>
            <a:endCxn id="713" idx="2"/>
          </p:cNvCxnSpPr>
          <p:nvPr/>
        </p:nvCxnSpPr>
        <p:spPr>
          <a:xfrm>
            <a:off x="2705040" y="1106280"/>
            <a:ext cx="300600" cy="89100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14" idx="2"/>
            <a:endCxn id="721" idx="3"/>
          </p:cNvCxnSpPr>
          <p:nvPr/>
        </p:nvCxnSpPr>
        <p:spPr>
          <a:xfrm flipV="1" rot="10800000">
            <a:off x="2231280" y="3860280"/>
            <a:ext cx="900720" cy="177120"/>
          </a:xfrm>
          <a:prstGeom prst="bentConnector3">
            <a:avLst>
              <a:gd name="adj1" fmla="val 499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7" name=""/>
          <p:cNvCxnSpPr>
            <a:stCxn id="721" idx="2"/>
            <a:endCxn id="732" idx="1"/>
          </p:cNvCxnSpPr>
          <p:nvPr/>
        </p:nvCxnSpPr>
        <p:spPr>
          <a:xfrm flipH="1" rot="16200000">
            <a:off x="1355400" y="4712400"/>
            <a:ext cx="1019880" cy="5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8" name=""/>
          <p:cNvCxnSpPr>
            <a:stCxn id="721" idx="2"/>
            <a:endCxn id="729" idx="1"/>
          </p:cNvCxnSpPr>
          <p:nvPr/>
        </p:nvCxnSpPr>
        <p:spPr>
          <a:xfrm flipH="1" rot="16200000">
            <a:off x="1728720" y="4339440"/>
            <a:ext cx="273240" cy="5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21" idx="2"/>
            <a:endCxn id="731" idx="1"/>
          </p:cNvCxnSpPr>
          <p:nvPr/>
        </p:nvCxnSpPr>
        <p:spPr>
          <a:xfrm flipH="1" rot="16200000">
            <a:off x="1479240" y="4588560"/>
            <a:ext cx="772200" cy="5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0" name=""/>
          <p:cNvCxnSpPr>
            <a:stCxn id="721" idx="2"/>
            <a:endCxn id="730" idx="1"/>
          </p:cNvCxnSpPr>
          <p:nvPr/>
        </p:nvCxnSpPr>
        <p:spPr>
          <a:xfrm flipH="1" rot="16200000">
            <a:off x="1604160" y="4464000"/>
            <a:ext cx="522720" cy="52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3" idx="1"/>
            <a:endCxn id="715" idx="4"/>
          </p:cNvCxnSpPr>
          <p:nvPr/>
        </p:nvCxnSpPr>
        <p:spPr>
          <a:xfrm rot="10800000">
            <a:off x="6751080" y="4436280"/>
            <a:ext cx="81360" cy="903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12" idx="1"/>
            <a:endCxn id="723" idx="2"/>
          </p:cNvCxnSpPr>
          <p:nvPr/>
        </p:nvCxnSpPr>
        <p:spPr>
          <a:xfrm rot="10800000">
            <a:off x="7625520" y="5449320"/>
            <a:ext cx="3960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20" idx="3"/>
            <a:endCxn id="716" idx="7"/>
          </p:cNvCxnSpPr>
          <p:nvPr/>
        </p:nvCxnSpPr>
        <p:spPr>
          <a:xfrm flipH="1">
            <a:off x="5763600" y="2323800"/>
            <a:ext cx="423000" cy="22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713" idx="5"/>
            <a:endCxn id="716" idx="1"/>
          </p:cNvCxnSpPr>
          <p:nvPr/>
        </p:nvCxnSpPr>
        <p:spPr>
          <a:xfrm>
            <a:off x="3987720" y="2403000"/>
            <a:ext cx="759600" cy="1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714" idx="6"/>
            <a:endCxn id="716" idx="3"/>
          </p:cNvCxnSpPr>
          <p:nvPr/>
        </p:nvCxnSpPr>
        <p:spPr>
          <a:xfrm flipV="1">
            <a:off x="4282920" y="3588840"/>
            <a:ext cx="46440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715" idx="2"/>
            <a:endCxn id="716" idx="5"/>
          </p:cNvCxnSpPr>
          <p:nvPr/>
        </p:nvCxnSpPr>
        <p:spPr>
          <a:xfrm flipH="1" flipV="1">
            <a:off x="5763960" y="3588480"/>
            <a:ext cx="411840" cy="27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720" idx="6"/>
            <a:endCxn id="710" idx="1"/>
          </p:cNvCxnSpPr>
          <p:nvPr/>
        </p:nvCxnSpPr>
        <p:spPr>
          <a:xfrm flipV="1">
            <a:off x="7169040" y="1429920"/>
            <a:ext cx="370800" cy="488160"/>
          </a:xfrm>
          <a:prstGeom prst="bentConnector3">
            <a:avLst>
              <a:gd name="adj1" fmla="val 497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0" idx="6"/>
            <a:endCxn id="722" idx="1"/>
          </p:cNvCxnSpPr>
          <p:nvPr/>
        </p:nvCxnSpPr>
        <p:spPr>
          <a:xfrm flipV="1">
            <a:off x="7169040" y="1743840"/>
            <a:ext cx="370800" cy="173880"/>
          </a:xfrm>
          <a:prstGeom prst="bentConnector3">
            <a:avLst>
              <a:gd name="adj1" fmla="val 497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953560" y="1890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-360" y="2851920"/>
            <a:ext cx="99061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(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หลังว่าง</a:t>
            </a:r>
            <a:r>
              <a:rPr b="0" lang="th-TH" sz="6000" spc="-1" strike="noStrike">
                <a:solidFill>
                  <a:srgbClr val="000000"/>
                </a:solidFill>
                <a:latin typeface="Arial"/>
                <a:ea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954640" y="18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๑๓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0" y="55080"/>
            <a:ext cx="9906120" cy="6523920"/>
            <a:chOff x="0" y="55080"/>
            <a:chExt cx="9906120" cy="6523920"/>
          </a:xfrm>
        </p:grpSpPr>
        <p:sp>
          <p:nvSpPr>
            <p:cNvPr id="753" name=""/>
            <p:cNvSpPr/>
            <p:nvPr/>
          </p:nvSpPr>
          <p:spPr>
            <a:xfrm>
              <a:off x="0" y="55080"/>
              <a:ext cx="9906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ผังมโนทัศน์สาระการเรียนรู้พระธรรม  ชั้นมัธยมศึกษาปีที่ 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05240" y="285264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ธรร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13240" y="1916280"/>
              <a:ext cx="792000" cy="80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คุณ 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22760" y="1663560"/>
              <a:ext cx="792360" cy="80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ริยสัจ 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57480" y="1293120"/>
              <a:ext cx="1601640" cy="220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ุกข์ </a:t>
              </a:r>
              <a:r>
                <a:rPr b="1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 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รู้</a:t>
              </a:r>
              <a:r>
                <a:rPr b="1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5400" y="1293120"/>
              <a:ext cx="1613880" cy="220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มุทัย 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ละ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23080" y="1293120"/>
              <a:ext cx="1770840" cy="220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ิโรธ 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บรรลุ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0280" y="1293120"/>
              <a:ext cx="1787400" cy="2206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รรค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(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รรมที่ควรเจริญ</a:t>
              </a:r>
              <a:r>
                <a:rPr b="1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5120" y="754920"/>
              <a:ext cx="461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ันธ์ 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9760" y="941040"/>
              <a:ext cx="37944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ธาตุ 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25680" y="810720"/>
              <a:ext cx="12862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วามหมายและคุณค่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41200" y="653760"/>
              <a:ext cx="370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ข 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11320" y="1011960"/>
              <a:ext cx="429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ิหิสุ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69720" y="997920"/>
              <a:ext cx="67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มงคล ๓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69640" y="653760"/>
              <a:ext cx="71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หลักกรร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68520" y="4437000"/>
              <a:ext cx="792360" cy="80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65600" y="3213000"/>
              <a:ext cx="792000" cy="80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ุทธศาสน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ุภาษิ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6880" y="2565360"/>
              <a:ext cx="1015920" cy="938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รบริหารจิ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ละ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68880" y="4797360"/>
              <a:ext cx="792360" cy="80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ัพท์ท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ระพุทธ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ศาสน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920" y="1807560"/>
              <a:ext cx="19368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 anchorCtr="1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ยํ  เว  เสวติ  ตาทิโส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บคนเช่นใด  เป็นคนเช่นนั้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6840" y="2382480"/>
              <a:ext cx="14796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 anchorCtr="1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ตฺตนา  โจทยตฺตานํ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จงเตือนตนด้วยต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8320" y="2958480"/>
              <a:ext cx="173736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 anchorCtr="1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ิสมฺม กรณํ เสยฺโ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ใคร่ครวญก่อน แล้วจึงท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2680" y="3534840"/>
              <a:ext cx="2071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 anchorCtr="1">
              <a:spAutoFit/>
            </a:bodyPr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ทุราวาสา ฆรา ทุกฺข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ือนที่ครองไม่ดี  นำทุกข์มาให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96400" y="5363280"/>
              <a:ext cx="133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โครงสร้างชื่อคัมภีร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30280" y="5971680"/>
              <a:ext cx="174636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รื่องน่ารู้จากพระไตรปิฎ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76200" y="6237360"/>
              <a:ext cx="127224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ภิณหปัจจเวกขณ์ ๕</a:t>
              </a:r>
              <a:r>
                <a:rPr b="1" lang="th-TH" sz="12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18240" y="4678200"/>
              <a:ext cx="2473200" cy="390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ฝึก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ตามหลักสติปัฏฐานเน้นอานาปานสต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11600" y="5837040"/>
              <a:ext cx="14371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ริยัติ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ฏิบัติ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ฏิเว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99520" y="4133880"/>
              <a:ext cx="2409480" cy="390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รู้และเข้าใจวิธีปฏิบัติและประโยชน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ของ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7760" y="5613480"/>
              <a:ext cx="1900440" cy="390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พัฒนาการเรียนรู้ด้วยวิธีคิ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โยนิโสมนกา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62520" y="3749400"/>
              <a:ext cx="1900440" cy="1990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วดมนต์แปลและแผ่เมตต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02040" y="5145120"/>
              <a:ext cx="2482560" cy="390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นำวิธีการบริหารจิตและเจริญปัญญ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ปใช้ในชีวิตประจำวั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20400" y="5666760"/>
              <a:ext cx="19886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สาระสังเขปของพระวินัยปิฏ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04840" y="6379920"/>
              <a:ext cx="1927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คุณ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โทษ และทางออ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92240" y="6092640"/>
              <a:ext cx="1974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แบบคุณค่าแท้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-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ุณค่าเทีย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8" name=""/>
            <p:cNvCxnSpPr>
              <a:stCxn id="783" idx="1"/>
              <a:endCxn id="770" idx="4"/>
            </p:cNvCxnSpPr>
            <p:nvPr/>
          </p:nvCxnSpPr>
          <p:spPr>
            <a:xfrm rot="10800000">
              <a:off x="6684840" y="3502800"/>
              <a:ext cx="255960" cy="34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1" idx="1"/>
              <a:endCxn id="770" idx="4"/>
            </p:cNvCxnSpPr>
            <p:nvPr/>
          </p:nvCxnSpPr>
          <p:spPr>
            <a:xfrm rot="10800000">
              <a:off x="6684120" y="3502800"/>
              <a:ext cx="270720" cy="82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0" name=""/>
            <p:cNvCxnSpPr>
              <a:stCxn id="779" idx="1"/>
              <a:endCxn id="770" idx="4"/>
            </p:cNvCxnSpPr>
            <p:nvPr/>
          </p:nvCxnSpPr>
          <p:spPr>
            <a:xfrm rot="10800000">
              <a:off x="6684120" y="3502800"/>
              <a:ext cx="275400" cy="137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1" name=""/>
            <p:cNvCxnSpPr>
              <a:stCxn id="784" idx="1"/>
              <a:endCxn id="770" idx="4"/>
            </p:cNvCxnSpPr>
            <p:nvPr/>
          </p:nvCxnSpPr>
          <p:spPr>
            <a:xfrm rot="10800000">
              <a:off x="6684120" y="3502800"/>
              <a:ext cx="273960" cy="1837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2" name=""/>
            <p:cNvCxnSpPr>
              <a:stCxn id="782" idx="1"/>
              <a:endCxn id="770" idx="4"/>
            </p:cNvCxnSpPr>
            <p:nvPr/>
          </p:nvCxnSpPr>
          <p:spPr>
            <a:xfrm rot="10800000">
              <a:off x="6684120" y="3502800"/>
              <a:ext cx="254880" cy="2305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0" idx="0"/>
              <a:endCxn id="771" idx="4"/>
            </p:cNvCxnSpPr>
            <p:nvPr/>
          </p:nvCxnSpPr>
          <p:spPr>
            <a:xfrm flipH="1" flipV="1" rot="5400000">
              <a:off x="5332680" y="5604480"/>
              <a:ext cx="231120" cy="235440"/>
            </a:xfrm>
            <a:prstGeom prst="bentConnector3">
              <a:avLst>
                <a:gd name="adj1" fmla="val 4960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86" idx="1"/>
              <a:endCxn id="782" idx="2"/>
            </p:cNvCxnSpPr>
            <p:nvPr/>
          </p:nvCxnSpPr>
          <p:spPr>
            <a:xfrm rot="10800000">
              <a:off x="7597080" y="6008040"/>
              <a:ext cx="92880" cy="47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2987640" y="564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0"/>
              <a:endCxn id="776" idx="3"/>
            </p:cNvCxnSpPr>
            <p:nvPr/>
          </p:nvCxnSpPr>
          <p:spPr>
            <a:xfrm flipV="1" rot="16200000">
              <a:off x="2854080" y="5515920"/>
              <a:ext cx="197640" cy="7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7" name=""/>
            <p:cNvCxnSpPr>
              <a:stCxn id="795" idx="1"/>
              <a:endCxn id="785" idx="3"/>
            </p:cNvCxnSpPr>
            <p:nvPr/>
          </p:nvCxnSpPr>
          <p:spPr>
            <a:xfrm rot="5400000">
              <a:off x="2935800" y="5704560"/>
              <a:ext cx="34200" cy="7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1"/>
              <a:endCxn id="777" idx="3"/>
            </p:cNvCxnSpPr>
            <p:nvPr/>
          </p:nvCxnSpPr>
          <p:spPr>
            <a:xfrm rot="5400000">
              <a:off x="2788920" y="5851440"/>
              <a:ext cx="327600" cy="7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78" idx="1"/>
              <a:endCxn id="777" idx="2"/>
            </p:cNvCxnSpPr>
            <p:nvPr/>
          </p:nvCxnSpPr>
          <p:spPr>
            <a:xfrm rot="10800000">
              <a:off x="2302920" y="6127200"/>
              <a:ext cx="57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0" name=""/>
            <p:cNvSpPr/>
            <p:nvPr/>
          </p:nvSpPr>
          <p:spPr>
            <a:xfrm>
              <a:off x="2988360" y="1011960"/>
              <a:ext cx="749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อบายมุข 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69160" y="639000"/>
              <a:ext cx="6490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ตรสิกข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06440" y="818280"/>
              <a:ext cx="8409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รรมฐาน 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88440" y="823320"/>
              <a:ext cx="5349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โกศล 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45480" y="997920"/>
              <a:ext cx="5454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ปธาน 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86640" y="702720"/>
              <a:ext cx="780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ไม่คบคนพา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"/>
            <p:cNvCxnSpPr>
              <a:stCxn id="759" idx="2"/>
              <a:endCxn id="756" idx="0"/>
            </p:cNvCxnSpPr>
            <p:nvPr/>
          </p:nvCxnSpPr>
          <p:spPr>
            <a:xfrm>
              <a:off x="5008320" y="1517400"/>
              <a:ext cx="11880" cy="14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7" name=""/>
            <p:cNvSpPr/>
            <p:nvPr/>
          </p:nvSpPr>
          <p:spPr>
            <a:xfrm>
              <a:off x="4948560" y="797040"/>
              <a:ext cx="8488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กายิก</a:t>
              </a: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ea typeface="CordiaUPC"/>
                </a:rPr>
                <a:t>/</a:t>
              </a: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เจตสิ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19760" y="847440"/>
              <a:ext cx="62316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คบบัณฑิต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73320" y="991800"/>
              <a:ext cx="83196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3600" bIns="36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ngsana New"/>
                  <a:cs typeface="CordiaUPC"/>
                </a:rPr>
                <a:t>บูชาผู้ควรบูช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0" name=""/>
            <p:cNvCxnSpPr>
              <a:stCxn id="761" idx="1"/>
              <a:endCxn id="811" idx="0"/>
            </p:cNvCxnSpPr>
            <p:nvPr/>
          </p:nvCxnSpPr>
          <p:spPr>
            <a:xfrm flipV="1" rot="10800000">
              <a:off x="1501200" y="864720"/>
              <a:ext cx="105480" cy="21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2" name=""/>
            <p:cNvSpPr/>
            <p:nvPr/>
          </p:nvSpPr>
          <p:spPr>
            <a:xfrm flipV="1">
              <a:off x="1501920" y="1079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3" name=""/>
            <p:cNvCxnSpPr>
              <a:stCxn id="761" idx="2"/>
              <a:endCxn id="762" idx="1"/>
            </p:cNvCxnSpPr>
            <p:nvPr/>
          </p:nvCxnSpPr>
          <p:spPr>
            <a:xfrm flipH="1" rot="16200000">
              <a:off x="1810440" y="940320"/>
              <a:ext cx="62640" cy="131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4" name=""/>
            <p:cNvSpPr/>
            <p:nvPr/>
          </p:nvSpPr>
          <p:spPr>
            <a:xfrm flipV="1">
              <a:off x="2948040" y="1137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5" name=""/>
            <p:cNvCxnSpPr>
              <a:stCxn id="767" idx="1"/>
              <a:endCxn id="814" idx="0"/>
            </p:cNvCxnSpPr>
            <p:nvPr/>
          </p:nvCxnSpPr>
          <p:spPr>
            <a:xfrm flipV="1" rot="10800000">
              <a:off x="2947320" y="759960"/>
              <a:ext cx="135720" cy="380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6" name=""/>
            <p:cNvCxnSpPr>
              <a:stCxn id="800" idx="1"/>
              <a:endCxn id="814" idx="1"/>
            </p:cNvCxnSpPr>
            <p:nvPr/>
          </p:nvCxnSpPr>
          <p:spPr>
            <a:xfrm flipV="1" rot="10800000">
              <a:off x="2947320" y="1122120"/>
              <a:ext cx="138960" cy="1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7" name=""/>
            <p:cNvCxnSpPr>
              <a:stCxn id="767" idx="2"/>
              <a:endCxn id="763" idx="1"/>
            </p:cNvCxnSpPr>
            <p:nvPr/>
          </p:nvCxnSpPr>
          <p:spPr>
            <a:xfrm flipH="1" rot="16200000">
              <a:off x="3394080" y="801360"/>
              <a:ext cx="40320" cy="17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8" name=""/>
            <p:cNvSpPr/>
            <p:nvPr/>
          </p:nvSpPr>
          <p:spPr>
            <a:xfrm flipV="1">
              <a:off x="4622760" y="11444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" name=""/>
            <p:cNvCxnSpPr>
              <a:stCxn id="764" idx="1"/>
              <a:endCxn id="818" idx="0"/>
            </p:cNvCxnSpPr>
            <p:nvPr/>
          </p:nvCxnSpPr>
          <p:spPr>
            <a:xfrm flipV="1" rot="10800000">
              <a:off x="4622040" y="753120"/>
              <a:ext cx="169200" cy="39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764" idx="2"/>
              <a:endCxn id="807" idx="1"/>
            </p:cNvCxnSpPr>
            <p:nvPr/>
          </p:nvCxnSpPr>
          <p:spPr>
            <a:xfrm flipH="1" rot="16200000">
              <a:off x="4989240" y="788040"/>
              <a:ext cx="30600" cy="15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765" idx="1"/>
              <a:endCxn id="818" idx="1"/>
            </p:cNvCxnSpPr>
            <p:nvPr/>
          </p:nvCxnSpPr>
          <p:spPr>
            <a:xfrm flipV="1" rot="10800000">
              <a:off x="4622040" y="1122120"/>
              <a:ext cx="151560" cy="2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760" idx="0"/>
              <a:endCxn id="801" idx="3"/>
            </p:cNvCxnSpPr>
            <p:nvPr/>
          </p:nvCxnSpPr>
          <p:spPr>
            <a:xfrm flipV="1" rot="16200000">
              <a:off x="6313680" y="959040"/>
              <a:ext cx="540720" cy="119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760" idx="0"/>
              <a:endCxn id="803" idx="1"/>
            </p:cNvCxnSpPr>
            <p:nvPr/>
          </p:nvCxnSpPr>
          <p:spPr>
            <a:xfrm flipH="1" flipV="1" rot="5400000">
              <a:off x="6523560" y="1053000"/>
              <a:ext cx="356400" cy="11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760" idx="0"/>
              <a:endCxn id="802" idx="3"/>
            </p:cNvCxnSpPr>
            <p:nvPr/>
          </p:nvCxnSpPr>
          <p:spPr>
            <a:xfrm flipV="1" rot="16200000">
              <a:off x="6403320" y="1048680"/>
              <a:ext cx="361080" cy="119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760" idx="0"/>
              <a:endCxn id="804" idx="3"/>
            </p:cNvCxnSpPr>
            <p:nvPr/>
          </p:nvCxnSpPr>
          <p:spPr>
            <a:xfrm flipV="1" rot="16200000">
              <a:off x="6492960" y="1138320"/>
              <a:ext cx="181800" cy="119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6" name=""/>
            <p:cNvCxnSpPr>
              <a:stCxn id="760" idx="0"/>
              <a:endCxn id="766" idx="1"/>
            </p:cNvCxnSpPr>
            <p:nvPr/>
          </p:nvCxnSpPr>
          <p:spPr>
            <a:xfrm flipH="1" flipV="1" rot="5400000">
              <a:off x="6611040" y="1140120"/>
              <a:ext cx="181800" cy="11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7" name=""/>
            <p:cNvCxnSpPr>
              <a:stCxn id="766" idx="3"/>
              <a:endCxn id="828" idx="0"/>
            </p:cNvCxnSpPr>
            <p:nvPr/>
          </p:nvCxnSpPr>
          <p:spPr>
            <a:xfrm flipV="1">
              <a:off x="7257600" y="924840"/>
              <a:ext cx="374040" cy="183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9" name=""/>
            <p:cNvSpPr/>
            <p:nvPr/>
          </p:nvSpPr>
          <p:spPr>
            <a:xfrm>
              <a:off x="7631280" y="8539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05" idx="1"/>
              <a:endCxn id="829" idx="0"/>
            </p:cNvCxnSpPr>
            <p:nvPr/>
          </p:nvCxnSpPr>
          <p:spPr>
            <a:xfrm flipV="1" rot="10800000">
              <a:off x="7630560" y="798120"/>
              <a:ext cx="62640" cy="56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9" idx="1"/>
              <a:endCxn id="808" idx="1"/>
            </p:cNvCxnSpPr>
            <p:nvPr/>
          </p:nvCxnSpPr>
          <p:spPr>
            <a:xfrm flipH="1" rot="16200000">
              <a:off x="7659720" y="896040"/>
              <a:ext cx="1800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9" idx="1"/>
              <a:endCxn id="809" idx="1"/>
            </p:cNvCxnSpPr>
            <p:nvPr/>
          </p:nvCxnSpPr>
          <p:spPr>
            <a:xfrm flipH="1" rot="16200000">
              <a:off x="7578720" y="977040"/>
              <a:ext cx="162720" cy="5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3" name=""/>
            <p:cNvSpPr/>
            <p:nvPr/>
          </p:nvSpPr>
          <p:spPr>
            <a:xfrm>
              <a:off x="2282760" y="22384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4" name=""/>
            <p:cNvCxnSpPr>
              <a:stCxn id="769" idx="2"/>
              <a:endCxn id="833" idx="0"/>
            </p:cNvCxnSpPr>
            <p:nvPr/>
          </p:nvCxnSpPr>
          <p:spPr>
            <a:xfrm rot="10800000">
              <a:off x="2282040" y="2453400"/>
              <a:ext cx="583560" cy="1164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5" name=""/>
            <p:cNvCxnSpPr>
              <a:stCxn id="772" idx="3"/>
              <a:endCxn id="833" idx="0"/>
            </p:cNvCxnSpPr>
            <p:nvPr/>
          </p:nvCxnSpPr>
          <p:spPr>
            <a:xfrm>
              <a:off x="2060280" y="2013120"/>
              <a:ext cx="222840" cy="22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6" name=""/>
            <p:cNvCxnSpPr>
              <a:stCxn id="773" idx="3"/>
              <a:endCxn id="833" idx="1"/>
            </p:cNvCxnSpPr>
            <p:nvPr/>
          </p:nvCxnSpPr>
          <p:spPr>
            <a:xfrm flipV="1">
              <a:off x="2073240" y="2453400"/>
              <a:ext cx="210240" cy="13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7" name=""/>
            <p:cNvCxnSpPr>
              <a:stCxn id="774" idx="3"/>
              <a:endCxn id="833" idx="1"/>
            </p:cNvCxnSpPr>
            <p:nvPr/>
          </p:nvCxnSpPr>
          <p:spPr>
            <a:xfrm flipV="1">
              <a:off x="2066760" y="2454120"/>
              <a:ext cx="216720" cy="710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8" name=""/>
            <p:cNvCxnSpPr>
              <a:stCxn id="833" idx="1"/>
              <a:endCxn id="775" idx="3"/>
            </p:cNvCxnSpPr>
            <p:nvPr/>
          </p:nvCxnSpPr>
          <p:spPr>
            <a:xfrm rot="5400000">
              <a:off x="1525680" y="2983680"/>
              <a:ext cx="1286640" cy="22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795" idx="0"/>
              <a:endCxn id="768" idx="2"/>
            </p:cNvCxnSpPr>
            <p:nvPr/>
          </p:nvCxnSpPr>
          <p:spPr>
            <a:xfrm flipH="1" flipV="1" rot="5400000">
              <a:off x="2773800" y="5055120"/>
              <a:ext cx="808560" cy="381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787" idx="1"/>
              <a:endCxn id="782" idx="2"/>
            </p:cNvCxnSpPr>
            <p:nvPr/>
          </p:nvCxnSpPr>
          <p:spPr>
            <a:xfrm rot="10800000">
              <a:off x="7597080" y="6008040"/>
              <a:ext cx="92880" cy="18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769" idx="6"/>
              <a:endCxn id="754" idx="2"/>
            </p:cNvCxnSpPr>
            <p:nvPr/>
          </p:nvCxnSpPr>
          <p:spPr>
            <a:xfrm flipV="1">
              <a:off x="3657600" y="3573000"/>
              <a:ext cx="635760" cy="45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768" idx="7"/>
              <a:endCxn id="754" idx="3"/>
            </p:cNvCxnSpPr>
            <p:nvPr/>
          </p:nvCxnSpPr>
          <p:spPr>
            <a:xfrm flipV="1">
              <a:off x="4044960" y="4093560"/>
              <a:ext cx="472320" cy="46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755" idx="5"/>
              <a:endCxn id="754" idx="1"/>
            </p:cNvCxnSpPr>
            <p:nvPr/>
          </p:nvCxnSpPr>
          <p:spPr>
            <a:xfrm>
              <a:off x="4188960" y="2606760"/>
              <a:ext cx="327960" cy="44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756" idx="4"/>
              <a:endCxn id="754" idx="0"/>
            </p:cNvCxnSpPr>
            <p:nvPr/>
          </p:nvCxnSpPr>
          <p:spPr>
            <a:xfrm>
              <a:off x="5019480" y="2472840"/>
              <a:ext cx="684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771" idx="0"/>
              <a:endCxn id="754" idx="5"/>
            </p:cNvCxnSpPr>
            <p:nvPr/>
          </p:nvCxnSpPr>
          <p:spPr>
            <a:xfrm flipH="1" flipV="1">
              <a:off x="5533560" y="4093560"/>
              <a:ext cx="32400" cy="703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6" name=""/>
            <p:cNvCxnSpPr>
              <a:stCxn id="770" idx="2"/>
              <a:endCxn id="754" idx="6"/>
            </p:cNvCxnSpPr>
            <p:nvPr/>
          </p:nvCxnSpPr>
          <p:spPr>
            <a:xfrm flipH="1">
              <a:off x="5757480" y="3034800"/>
              <a:ext cx="419760" cy="53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7" name=""/>
            <p:cNvSpPr/>
            <p:nvPr/>
          </p:nvSpPr>
          <p:spPr>
            <a:xfrm>
              <a:off x="8960760" y="189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๑๓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8" name=""/>
            <p:cNvCxnSpPr>
              <a:stCxn id="757" idx="2"/>
              <a:endCxn id="756" idx="0"/>
            </p:cNvCxnSpPr>
            <p:nvPr/>
          </p:nvCxnSpPr>
          <p:spPr>
            <a:xfrm flipH="1" rot="16200000">
              <a:off x="3465360" y="109800"/>
              <a:ext cx="146520" cy="29617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49" name=""/>
            <p:cNvCxnSpPr>
              <a:stCxn id="758" idx="2"/>
              <a:endCxn id="756" idx="0"/>
            </p:cNvCxnSpPr>
            <p:nvPr/>
          </p:nvCxnSpPr>
          <p:spPr>
            <a:xfrm flipH="1" rot="16200000">
              <a:off x="4192560" y="837000"/>
              <a:ext cx="146520" cy="1507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50" name=""/>
            <p:cNvCxnSpPr>
              <a:stCxn id="760" idx="2"/>
              <a:endCxn id="756" idx="0"/>
            </p:cNvCxnSpPr>
            <p:nvPr/>
          </p:nvCxnSpPr>
          <p:spPr>
            <a:xfrm rot="5400000">
              <a:off x="5758200" y="778320"/>
              <a:ext cx="146520" cy="162468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06:37:57Z</dcterms:created>
  <dc:creator>Planning</dc:creator>
  <dc:description/>
  <dc:language>en-US</dc:language>
  <cp:lastModifiedBy>Planning</cp:lastModifiedBy>
  <dcterms:modified xsi:type="dcterms:W3CDTF">2002-08-29T02:16:12Z</dcterms:modified>
  <cp:revision>342</cp:revision>
  <dc:subject/>
  <dc:title>ภาพนิ่ง 1</dc:title>
</cp:coreProperties>
</file>